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5.wmf" ContentType="image/x-wmf"/>
  <Override PartName="/ppt/media/image25.png" ContentType="image/png"/>
  <Override PartName="/ppt/media/image2.png" ContentType="image/png"/>
  <Override PartName="/ppt/media/image37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15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9.wmf" ContentType="image/x-wmf"/>
  <Override PartName="/ppt/media/image9.wmf" ContentType="image/x-wmf"/>
  <Override PartName="/ppt/media/image28.png" ContentType="image/png"/>
  <Override PartName="/ppt/media/image31.wmf" ContentType="image/x-wmf"/>
  <Override PartName="/ppt/media/image51.wmf" ContentType="image/x-wmf"/>
  <Override PartName="/ppt/media/image11.png" ContentType="image/png"/>
  <Override PartName="/ppt/media/image7.png" ContentType="image/png"/>
  <Override PartName="/ppt/media/image40.wmf" ContentType="image/x-wmf"/>
  <Override PartName="/ppt/media/image38.wmf" ContentType="image/x-wmf"/>
  <Override PartName="/ppt/media/image8.wmf" ContentType="image/x-wmf"/>
  <Override PartName="/ppt/media/image6.wmf" ContentType="image/x-wmf"/>
  <Override PartName="/ppt/media/image36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328-55B3-434A-BED5-F5EF38F8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BE7-9A70-4DC0-8E88-0EE4F4C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049D-D3AC-47A6-928B-471565E0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CB8-3A16-4B68-A668-2FD94682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50E7-6B77-4B88-B79F-0352578F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A7F-E1A6-4366-B4B6-58BEEF23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ADB8-685D-446E-92BB-C5486FF2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D19-771C-4E56-A19D-0071862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588-1B6E-449B-8638-89FF9BD5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016-965C-4029-A659-DA6EE91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F6C-6D82-43A3-BD7C-D9B7720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D8C-1036-430E-9345-6366A019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1D7A-F70B-41E7-8FE8-8171E0031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http://www.terrandina.cl/espanol/portada_alto.htm" TargetMode="External"/><Relationship Id="rId2" Type="http://schemas.openxmlformats.org/officeDocument/2006/relationships/hyperlink" Target="http://www.terrandina.cl/espanol/portada_alto.htm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ONES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GUSTAVO ROJAS LE-B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ROFESOR FAC. AGRONOMÍA 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482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7650000" y="260280"/>
            <a:ext cx="1191600" cy="1616400"/>
            <a:chOff x="7650000" y="260280"/>
            <a:chExt cx="1191600" cy="161640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650000" y="260280"/>
              <a:ext cx="1191600" cy="161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ARANCEL ADUANERO CHIL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62120" y="1655640"/>
          <a:ext cx="7848360" cy="447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55640"/>
                    <a:ext cx="7848360" cy="44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9080" y="493704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Times New Roman"/>
              </a:rPr>
              <a:t>6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8172360" y="0"/>
            <a:ext cx="930240" cy="1379520"/>
            <a:chOff x="8172360" y="0"/>
            <a:chExt cx="930240" cy="137952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3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4" name=""/>
          <p:cNvGraphicFramePr/>
          <p:nvPr/>
        </p:nvGraphicFramePr>
        <p:xfrm>
          <a:off x="685800" y="2666880"/>
          <a:ext cx="7620120" cy="27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620120" cy="27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1" name=""/>
          <p:cNvGraphicFramePr/>
          <p:nvPr/>
        </p:nvGraphicFramePr>
        <p:xfrm>
          <a:off x="685800" y="2666880"/>
          <a:ext cx="7467480" cy="27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66880"/>
                    <a:ext cx="7467480" cy="27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3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7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7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8" name=""/>
          <p:cNvGraphicFramePr/>
          <p:nvPr/>
        </p:nvGraphicFramePr>
        <p:xfrm>
          <a:off x="1066680" y="2286000"/>
          <a:ext cx="655344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655344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0" name=""/>
          <p:cNvSpPr/>
          <p:nvPr/>
        </p:nvSpPr>
        <p:spPr>
          <a:xfrm>
            <a:off x="1065240" y="63244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5" name=""/>
          <p:cNvGraphicFramePr/>
          <p:nvPr/>
        </p:nvGraphicFramePr>
        <p:xfrm>
          <a:off x="762120" y="2857680"/>
          <a:ext cx="7543800" cy="23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57680"/>
                    <a:ext cx="754380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7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90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4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95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7" name=""/>
          <p:cNvGraphicFramePr/>
          <p:nvPr/>
        </p:nvGraphicFramePr>
        <p:xfrm>
          <a:off x="685800" y="2776680"/>
          <a:ext cx="754380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76680"/>
                    <a:ext cx="7543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9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838080" y="2695680"/>
          <a:ext cx="7239240" cy="29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95680"/>
                    <a:ext cx="723924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09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1" name=""/>
          <p:cNvGraphicFramePr/>
          <p:nvPr/>
        </p:nvGraphicFramePr>
        <p:xfrm>
          <a:off x="533520" y="2406600"/>
          <a:ext cx="739116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06600"/>
                    <a:ext cx="739116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3" name=""/>
          <p:cNvSpPr/>
          <p:nvPr/>
        </p:nvSpPr>
        <p:spPr>
          <a:xfrm>
            <a:off x="531720" y="52578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4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15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16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 8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2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2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762120" y="2614680"/>
          <a:ext cx="6781680" cy="306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14680"/>
                    <a:ext cx="67816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2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CHILE PARTICIPA EN FOROS MULT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USCRIPCIÓN DE ACUERDOS BILATE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REDUCCIÓN GRADUAL DE ARANCELES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A 10-12 AÑ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632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633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5" name=""/>
          <p:cNvGraphicFramePr/>
          <p:nvPr/>
        </p:nvGraphicFramePr>
        <p:xfrm>
          <a:off x="685800" y="2452680"/>
          <a:ext cx="6553080" cy="35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52680"/>
                    <a:ext cx="6553080" cy="35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7" name=""/>
          <p:cNvSpPr/>
          <p:nvPr/>
        </p:nvSpPr>
        <p:spPr>
          <a:xfrm>
            <a:off x="836640" y="60958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3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64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1143000" y="2286000"/>
          <a:ext cx="678168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78168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4" name=""/>
          <p:cNvSpPr/>
          <p:nvPr/>
        </p:nvSpPr>
        <p:spPr>
          <a:xfrm>
            <a:off x="12175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16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OTAS OTORGADAS POR 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914400" y="1730520"/>
          <a:ext cx="7315200" cy="38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30520"/>
                    <a:ext cx="7315200" cy="38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1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54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XPORTACIONES SE EXPANDEN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05,4</a:t>
            </a: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MILLONES AL AÑO (15,9% SOBRE EL ACTUAL) Y CON 20 MIL EMPLEOS M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ÍO COMERCIO: US$ 246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UEVO COMERCIO:  US$ 259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838080" y="4114800"/>
            <a:ext cx="73152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5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ACION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428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ILVOAGROPECUARIAS Y PESCA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94,3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O-INDUSTRIAL: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US$ 334,0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6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IMPACTO DE UN TLC </a:t>
            </a:r>
            <a:br>
              <a:rPr sz="4400"/>
            </a:b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 ENTRE CHILE-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EXPORTACIONES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505,4 MI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63,5 MILL SILVOAGROPEC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US$ 241,9 MILL  MINERO-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04560" y="2514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PEQUEÑOS Y MEDIANOS PRODUCT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VERSIONES PARA ACCEDER A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CRECIMIENTO DEL COMERCIO POR SOBRE EL 10% ANUAL DESPUÉS DEL AÑO 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XIGENCIAS LABORALES, MEDIOAMBIENTALES, INOCUIDAD, SEGUR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7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AFÍOS Y PROYECCIONE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LC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BUSO” SISTEMA ANTIDUMP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AÑO A LA PRODUCCIÓN DE TRIGO Y REMOLACH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NUEVOS TLC FIRMADOS POR LOS EEU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RNIZACIÓN DEL ESTADO Y EMPRESARIOS AGRÍCOL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8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APROXIMACI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Ó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N PO</a:t>
            </a: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s-ES" sz="4400" spc="-1" strike="noStrike">
                <a:solidFill>
                  <a:srgbClr val="ff0000"/>
                </a:solidFill>
                <a:latin typeface="Times New Roman"/>
              </a:rPr>
              <a:t>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FELICIDAD: te ví de cerca pero no pude hablar conti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no busca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¿será mejor el ser altivo en la desgr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y no sentirse juguete vil de tus caprichos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99"/>
                </a:solidFill>
                <a:latin typeface="Times New Roman"/>
              </a:rPr>
              <a:t>José Santos Chocano (1875-193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85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ONSOLIDACIÓN DE ARANCELES AD-VALOREM DECRECIENTES ANTE OM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RIGO, ACEITES Y LECHE EN 31,5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ZÚCAR EN 98% (200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RESTO SE DEJÓ EN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244000" y="0"/>
            <a:ext cx="866520" cy="1587600"/>
            <a:chOff x="8244000" y="0"/>
            <a:chExt cx="866520" cy="1587600"/>
          </a:xfrm>
        </p:grpSpPr>
        <p:pic>
          <p:nvPicPr>
            <p:cNvPr id="10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L TLC CHILE-EEUU ES UN ACUERDO FAVORABLE PARA LA AGRICULTURA CHILENA, PERO PRESENTA GRANDES DESAFÍOS E INCERTIDUMBRE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LC CHILE-EEUU: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EGOCIACIÓN PARA EL SECTOR AGRÍC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GUSTAVO ROJAS LE-B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ROFESOR FAC. AGRONOMÍA-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usrojas@puc.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3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69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695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 SE ALINEA CON GRUPO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AIRNS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:                             REDUCCIÓN DE SUBSIDIOS A AGRICULTURA Y MAYOR LIBERALIZACIÓN DEL COMER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ARECEN LOS ACE O ACUERDOS DE COMPLEMENTACIÓN ECONÓM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83: AL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2: MÉXICO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VENEZUEL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3: BOLIV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COLOMBIA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8244000" y="0"/>
            <a:ext cx="866520" cy="1658880"/>
            <a:chOff x="8244000" y="0"/>
            <a:chExt cx="866520" cy="16588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8244000" y="0"/>
              <a:ext cx="86652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4: ECUADOR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6: MERCO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7: CANADÁ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98: PERÚ (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2: CENTROAMERICA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U.E.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COREA DEL SUR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90 A LA FEC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EUU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2003: EFTA  (TL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OTROS ACE O TLC EN ESTUD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L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NA, JAPÓN, IND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NUEVA ZELANDA Y SINGAP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8172360" y="0"/>
            <a:ext cx="930240" cy="1658880"/>
            <a:chOff x="8172360" y="0"/>
            <a:chExt cx="930240" cy="1658880"/>
          </a:xfrm>
        </p:grpSpPr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8172360" y="0"/>
              <a:ext cx="930240" cy="165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CHILEN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422360"/>
          <a:ext cx="7924680" cy="467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22360"/>
                    <a:ext cx="79246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8172360" y="0"/>
            <a:ext cx="930240" cy="1446120"/>
            <a:chOff x="8172360" y="0"/>
            <a:chExt cx="930240" cy="1446120"/>
          </a:xfrm>
        </p:grpSpPr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8172360" y="0"/>
              <a:ext cx="930240" cy="14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57200" y="571680"/>
            <a:ext cx="8381880" cy="58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SITUACIÓN 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8317080" y="0"/>
            <a:ext cx="793440" cy="1166760"/>
            <a:chOff x="8317080" y="0"/>
            <a:chExt cx="793440" cy="116676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8317080" y="0"/>
              <a:ext cx="7934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SECTORIAL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EL PIB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N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5720" cy="10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-758880" y="1419120"/>
          <a:ext cx="917892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58880" y="1419120"/>
                    <a:ext cx="917892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678240" y="609300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1948: CHILE SUSCRIBE EL G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(ACUERDO GENERAL DE ARANCELES ADUANER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CREA LA OMC (1995) Y SE REALIZAN 8 RONDAS DE NEGOCIACIONES COMERCIALES MULTILATER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CHILE:</a:t>
            </a:r>
            <a:br>
              <a:rPr sz="3600"/>
            </a:b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PIB DE LA AGRICUL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1600200"/>
          <a:ext cx="72392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2392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93880" y="6165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RTICIPACIÓN DEL PIB SILVOAGROPECUARIO POR SECTOR PRODUCTIVO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857160" cy="105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250920" y="2133720"/>
          <a:ext cx="8435880" cy="3840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35880" cy="3840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908280" y="62485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85800" y="1579680"/>
          <a:ext cx="8001000" cy="459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79680"/>
                    <a:ext cx="800100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EX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5160" y="1851120"/>
          <a:ext cx="7851960" cy="42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851120"/>
                    <a:ext cx="78519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7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180" name="" descr=""/>
            <p:cNvPicPr/>
            <p:nvPr/>
          </p:nvPicPr>
          <p:blipFill>
            <a:blip r:embed="rId4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PRINCIPALES PRODUCTOS IMPORTADOS (MM 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03440" y="1709640"/>
          <a:ext cx="7657920" cy="44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709640"/>
                    <a:ext cx="765792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BN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1031760" cy="1268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560" y="60958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75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M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413000"/>
          <a:ext cx="7658280" cy="488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13000"/>
                    <a:ext cx="7658280" cy="48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752760" y="630864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ILE-VENEZU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914400" y="1557360"/>
          <a:ext cx="7543800" cy="484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557360"/>
                    <a:ext cx="7543800" cy="48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52760" y="63817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PER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14400" y="1562040"/>
          <a:ext cx="7391520" cy="48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2040"/>
                    <a:ext cx="739152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OLOM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84360" y="1465200"/>
          <a:ext cx="8135640" cy="498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65200"/>
                    <a:ext cx="8135640" cy="49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2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18600" y="0"/>
            <a:ext cx="698040" cy="1166760"/>
            <a:chOff x="8418600" y="0"/>
            <a:chExt cx="698040" cy="1166760"/>
          </a:xfrm>
        </p:grpSpPr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8418600" y="0"/>
              <a:ext cx="69804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60: TRATADO DE MONTEVIDEO: SE CREÓ LA ALALC.     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(ASOCIACIÓN LATINOAMERICANA DE LIBRE COMERCIO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     FRACAS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PAÍSES LATINOAMERICANOS CREARON  ALADI.         (</a:t>
            </a:r>
            <a:r>
              <a:rPr b="1" i="1" lang="es-ES_tradnl" sz="2400" spc="-1" strike="noStrike">
                <a:solidFill>
                  <a:srgbClr val="333399"/>
                </a:solidFill>
                <a:latin typeface="Times New Roman"/>
              </a:rPr>
              <a:t>ASOCIACIÓN LATINOAMERICANA DE INTEGRACIÓN</a:t>
            </a: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26920" y="1557360"/>
          <a:ext cx="7921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921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826920" y="1557360"/>
          <a:ext cx="7777440" cy="49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77744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6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5276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CANAD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900000" y="1557360"/>
          <a:ext cx="7417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417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824400" y="655308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2400"/>
            </a:br>
            <a:r>
              <a:rPr b="1" lang="es-CL" sz="2400" spc="-1" strike="noStrike">
                <a:solidFill>
                  <a:srgbClr val="ff0000"/>
                </a:solidFill>
                <a:latin typeface="Times New Roman"/>
              </a:rPr>
              <a:t>CHILE-MERCO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1668600"/>
          <a:ext cx="809604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68600"/>
                    <a:ext cx="809604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0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684360" cy="83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752760" y="623736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8332920" y="0"/>
            <a:ext cx="780120" cy="1307160"/>
            <a:chOff x="8332920" y="0"/>
            <a:chExt cx="780120" cy="1307160"/>
          </a:xfrm>
        </p:grpSpPr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8332920" y="0"/>
              <a:ext cx="7801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71640" y="4568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ONCLUSIÓN ACUER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5120" y="2208240"/>
          <a:ext cx="8178840" cy="31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208240"/>
                    <a:ext cx="8178840" cy="31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BN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48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43000" y="201600"/>
            <a:ext cx="7010280" cy="6297480"/>
          </a:xfrm>
          <a:prstGeom prst="rect">
            <a:avLst/>
          </a:prstGeom>
          <a:ln w="0">
            <a:noFill/>
          </a:ln>
        </p:spPr>
      </p:pic>
      <p:pic>
        <p:nvPicPr>
          <p:cNvPr id="25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53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TIPO DE CAMBI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MOCIÓN DE EXPOR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PERTURA CUENTA DE CAPI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DE DOBLE TRIBU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TAR FLUJO 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CUERDOS COMERCIALES Y RESPETO A OM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MEJORAR INFRAESTRUCTUR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57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58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TECCIÓN DE DERECHOS LEGALES DE EXPORTA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INNOVACIONES TECNOLÓG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STÍMULO PARA INCORPORAR PYMES A PROCESO EXPORTA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8375760" y="0"/>
            <a:ext cx="739080" cy="1235880"/>
            <a:chOff x="8375760" y="0"/>
            <a:chExt cx="739080" cy="123588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8375760" y="0"/>
              <a:ext cx="739080" cy="123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ESTRATEGIA EXPORTA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OMOCIÓN DE EXPORTACIONES CON MAYOR VALOR AGREG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REDUCIR BARRERAS Y OBSTÁCULOS AL COMERCIO EN EL PAÍS Y EN EL EX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MEJOR COORDINACIÓN DE LA POLÍTICA COMER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772400" cy="6246720"/>
          </a:xfrm>
          <a:prstGeom prst="rect">
            <a:avLst/>
          </a:prstGeom>
          <a:ln w="0">
            <a:noFill/>
          </a:ln>
        </p:spPr>
      </p:pic>
      <p:pic>
        <p:nvPicPr>
          <p:cNvPr id="270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8420040" y="0"/>
            <a:ext cx="696600" cy="1166760"/>
            <a:chOff x="8420040" y="0"/>
            <a:chExt cx="696600" cy="1166760"/>
          </a:xfrm>
        </p:grpSpPr>
        <p:pic>
          <p:nvPicPr>
            <p:cNvPr id="272" name="" descr=""/>
            <p:cNvPicPr/>
            <p:nvPr/>
          </p:nvPicPr>
          <p:blipFill>
            <a:blip r:embed="rId3"/>
            <a:stretch/>
          </p:blipFill>
          <p:spPr>
            <a:xfrm>
              <a:off x="8420040" y="0"/>
              <a:ext cx="696600" cy="11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1980: CON ALADI SE RENEGOCIÓ EL “PATRIMONIO HISTÓRICO” O VENTAJAS RECÍPROCAS YA NEGOCIADAS PARCIALMENTE EN AL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DESARROLLO HACIA ADENTRO CON PREDOMINIO INDUSTRIAL POR SOBRE BIENES PRIM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TLC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CHILE - EE.UU.</a:t>
            </a:r>
            <a:br>
              <a:rPr sz="4400"/>
            </a:br>
            <a:r>
              <a:rPr b="1" lang="es-CL" sz="4400" spc="-1" strike="noStrike">
                <a:solidFill>
                  <a:srgbClr val="ff0000"/>
                </a:solidFill>
                <a:latin typeface="Times New Roman"/>
              </a:rPr>
              <a:t>Y LA AGRICULTUR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VOLUCIÓN COMERCIO SILVOAGROPECUARI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762120" y="1703520"/>
          <a:ext cx="792468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03520"/>
                    <a:ext cx="792468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911520" y="60199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Odep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2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51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S SON COMPLEMENTARIAS Y NO COMPETI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AGRICULTURA DE EE.UU. ES MUY SUBSIDI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8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198108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NTRIBUCIÓN AL PIB (%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HILE:     4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EUU:       0.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EL PIB AGRÍCOLA DE ESTADOS UNIDOS ES 29,5 VECES MAYOR QUE EL PIB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9560" y="6095880"/>
            <a:ext cx="36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Banco Central de Chile y USDA, 2004</a:t>
            </a:r>
            <a:r>
              <a:rPr b="0" lang="es-CL" sz="24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2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1981080"/>
            <a:ext cx="8153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NÚMERO DE PREDI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32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2.2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2240" y="583416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INE y USDA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EX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 miles MMUS$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5.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56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72360" y="568008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6212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333399"/>
                </a:solidFill>
                <a:uFillTx/>
                <a:latin typeface="Times New Roman"/>
              </a:rPr>
              <a:t>IMPORTACIONES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(miles MMUS$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      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    45.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72000" y="598176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2514600"/>
            <a:ext cx="83818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  EXPORTÓ A EE.UU EL 200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1.857 Mill==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6,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.UU. EXPORTÓ A CHILE EL 2003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35 Mill== </a:t>
            </a: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US$ 15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9720" y="58323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, 2004</a:t>
            </a:r>
            <a:r>
              <a:rPr b="0" lang="es-CL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18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1981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PRESUPUESTO FISCAL (2003) PARA EL SECTOR AGRICULTU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HILE: Mill. US$ 3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2,6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EUU:   Mill. US$ 75.8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US$  265 PER CÁP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1880" y="621504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ente: Odepa y USDA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4360" y="62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CHILE-EEUU </a:t>
            </a:r>
            <a:br>
              <a:rPr sz="4000"/>
            </a:br>
            <a:r>
              <a:rPr b="1" lang="es-ES_tradnl" sz="4000" spc="-1" strike="noStrike">
                <a:solidFill>
                  <a:srgbClr val="ff0000"/>
                </a:solidFill>
                <a:latin typeface="Times New Roman"/>
              </a:rPr>
              <a:t>SECTOR AGRÍC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2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br>
              <a:rPr sz="3600"/>
            </a:b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(www.direcon.cl; www.sofofa.cl; www.manualtlc.cl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DISPOSICIONES Y DEFINICIONE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CCESO A MER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REGLAS DE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ADMINISTRACIÓN ADUAN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ALVAGUARDIAS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: GLOBALES; BILATERALES; ESPECIALES: TEXTILES Y AGRÍCO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2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2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A PARTIR DE 1975 EN ADELANTE, CHILE ADOPTA POLÍTICA DE APERTURA: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“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DUCCIÓN DE BIENES CON VENTAJAS COMPARATIVAS O ADQUISICIÓN DE BIENES BARATOS EN EL EXTERIO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NTIDUM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7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BARRERAS TÉCNICAS AL COMER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8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SANITARIOS Y FITOSANI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MOVIMIENTO DE CAPITAL Y BALANZA DE P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 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1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SERVICIOS Y COMERCIO                                               TRANSFRONTERI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2.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ENTRADA TEMPORAL DE PERSONAS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3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4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SERVICI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COMERCIO ELECTRÓ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ONTENIDOS DE UN TLC</a:t>
            </a:r>
            <a:br>
              <a:rPr sz="3600"/>
            </a:b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6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COMPRAS PÚBL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7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PROPIEDAD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8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19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ASUNTOS LABO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0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SOLUCIÓN DE CONTROVER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1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MONOPOLIOS Y EMPRESAS DEL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es-MX" sz="2800" spc="-1" strike="noStrike" u="sng">
                <a:solidFill>
                  <a:srgbClr val="333399"/>
                </a:solidFill>
                <a:uFillTx/>
                <a:latin typeface="Times New Roman"/>
              </a:rPr>
              <a:t>ES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4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CONTENIDOS DE UN TLC CHILE-EEU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2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3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DMINISTRACIÓN DEL T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4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XCEP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5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ISPOSICIONE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imes New Roman"/>
              </a:rPr>
              <a:t>26. </a:t>
            </a: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NEX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BN" descr=""/>
          <p:cNvPicPr/>
          <p:nvPr/>
        </p:nvPicPr>
        <p:blipFill>
          <a:blip r:embed="rId1"/>
          <a:stretch/>
        </p:blipFill>
        <p:spPr>
          <a:xfrm>
            <a:off x="0" y="0"/>
            <a:ext cx="1168560" cy="143676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2532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STRATEGIA NEGOCIADORA PARA SECTOR PRIV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STUDIO DE IMPACTO POR SECTOR PRODU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FIJAR PRIORIDADES CLARAS Y CON ANTICIP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CORPORAR PRIORIDADES EN EL EQUIPO NEGOCIADOR, EVITANDO CONFRONTACIÓN ENTRE SECTORES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FRECUENTES REUNIONES CON EQUIPO NEGOCIAD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OMPAÑAR AL EQUIPO NEGOCIADOR EN “CUARTO DEL LADO”  EN TODAS LAS RONDAS DE NEGOCI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OMAR CONTACTO INFORMAL CON EQUIPO NEGOCIADOR DEL OTRO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5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ALIZAR NUMEROSAS REUNIONES CON REPRESENTANTES DE RUBROS ORGANIZADOS PARA SOLICITAR OPINIÓN Y RESPALDO FRENTE A FLEXIBILIZAR  POSI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ACTIVAMENTE EN REUNIONES A TODO NIVEL PARA AFIANZAR POSICIONES “DURA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OCER RESULTADOS DE SECTORES PRIVADOS DE OTROS PAÍSES QUE YA TUVIERON LA EXPERIENCIA NEGOCIAD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TRABAJAR MUY INTENSAMENTE CON LA PRENSA NACIONAL PARA AFIANZAR POSICIONES ANTE LA OPINIÓN PÚBL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6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6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VISITAR A GREMIOS EN LOS EE.UU. P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)-VENDER LA IDEA DE “SOCIEDAD”  EN RUBROS ATR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)-SOLICITAR INVERSIONES PARA AGRANDAR LOS NEGOC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II)-REDUCIRLES EL MIEDO A NEGOCI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TRATAR “LOBISTAS” EN LOS EE.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CELERAR RITMO DE NEGOCIACIONES PARA TRATAR TEMAS CONFLICTIVOS EN LAS PRIMERAS REUN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7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BREVE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SE PROFUNDIZA CONCEPTO DE MERCADO COMO BASE DE ASIGNACIÓN DE RECURS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SULTADOS MUY POSITIVOS PERO CON ALGUNOS SECTORES DAÑ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ESTRATEG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ARTICIPAR EN TODAS LAS REUNIONES EN LOS EE.UU. CON LOS STAFFERS, CONGRESISTAS, GOBERNADORES,  LOBISTAS,  GREMIOS, BANCOS  Y EMPRESAS INFLUYENTES PARA SOLICITAR APOYO A PLANTEAMIENTOS DE INTERÉ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POYARSE MUCHO EN AMCH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8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8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ER BANDAS DE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BRIR MERCADO PARA LÁCTEOS, CARNES ROJAS, AGROINDUST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CONSOLIDAR EL “SGP” PARA LA FRUTA FRESCA Y FORES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38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AGRÍCO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ARANCELES PARA VI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NO NEGOCIAR COMERCIO DE PRODUCTOS SUBSIDI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ROTEGER CARNES NEGRAS DE 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MINERÍ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XTILE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 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ICIOS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IBERTAD PARA ACCEDER A MER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BANCA: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DE INGRESO A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MANTENCIÓN DEL “ENCAJ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PRIORIDADES POR SECTOR</a:t>
            </a:r>
            <a:br>
              <a:rPr sz="4000"/>
            </a:b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O RUB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DUSTRIA AUTOMOTRÍZ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POSTERGAR ACCESO;  MANTENER “IMPUESTO AL LUJ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PESC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ARANCEL CERO INMEDIATO Y MANTENER LAS 200 MIL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EL ACUER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SOLUCIÓN DE CONTROVERS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DERECHOS DE PROPIEDAD INTELECTUAL Y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LEY ANTIDUMPING EN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1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PRIOR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0000"/>
                </a:solidFill>
                <a:uFillTx/>
                <a:latin typeface="Times New Roman"/>
              </a:rPr>
              <a:t>OTROS TEMAS DE INTERÉS PARA CH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RESTRICCIONES LABORALES Y AMBI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ELIMINACIÓN DE BARRERAS PARA-ARANCEL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imes New Roman"/>
              </a:rPr>
              <a:t>INVERSIONES: INCENTIVAR.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8115480" y="0"/>
            <a:ext cx="989280" cy="1657080"/>
            <a:chOff x="8115480" y="0"/>
            <a:chExt cx="989280" cy="165708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8115480" y="0"/>
              <a:ext cx="989280" cy="165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ESULTADOS PARA EL SECTOR SILVOAGROPECUARIO</a:t>
            </a: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TL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CHILE-EEU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8331120" y="0"/>
            <a:ext cx="781920" cy="1307160"/>
            <a:chOff x="8331120" y="0"/>
            <a:chExt cx="781920" cy="1307160"/>
          </a:xfrm>
        </p:grpSpPr>
        <p:pic>
          <p:nvPicPr>
            <p:cNvPr id="424" name="" descr=""/>
            <p:cNvPicPr/>
            <p:nvPr/>
          </p:nvPicPr>
          <p:blipFill>
            <a:blip r:embed="rId2"/>
            <a:stretch/>
          </p:blipFill>
          <p:spPr>
            <a:xfrm>
              <a:off x="8331120" y="0"/>
              <a:ext cx="781920" cy="130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345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L CABO SE 12 AÑOS, SE ELIMINAN TODOS LOS ARANCELES    AD-VALOREM  Y ESPECÍFICOS PARA TODOS LOS PRODUCTOS  SILVOAGROPECUARIOS,  SIN EXCEP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ESTABLECIÓ QUE NO HABRÁ COMERCIO ENTRE CHILE Y EEUU DE PRODUCTOS QUE RECIBEN SUBSIDIOS A LA EXPOR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2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DÉCADA DE LOS ´85 A´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CAMBIO LIB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REBAJA ARANCELARIA UNI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FACILIDAD OPERACIONAL EN COMERCIO EXTERI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PROGRAMA DE PROMOCIÓN DE EXPOR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imes New Roman"/>
              </a:rPr>
              <a:t>GRAN INVERSIÓN EX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CONSOLIDÓ EL SISTEMA GENERAL DE PREFERENCIAS (SGP) PARA LA GRAN MAYORÍA DE LOS PRODUC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E ESTABLECIÓ UNA SALVAGUARDIA AGRÍCOLA BILATERAL, CON 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28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PRODUCTOS POR PARTE DE EE.UU. Y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12 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POR PARTE DE CH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SE NEGOCIÓ UNA DESGRAVACIÓN LINEAL ANUAL PARA TODOS LOS PRODUCTOS QUE NO ESTÁN AFECTOS  A 12 AÑOS DE DESGRAV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OS PRODUCTOS AFECTOS A CUOTAS, TIENEN UNA TASA DE CRECIMIENTO ANUAL COMPUESTA Y VARIABLE PARA CADA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3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SI EN ALGÚN PRODUCTO QUE NO ESTÁ EN DESGRAVACIÓN INMEDIATA O AFECTO AL SGP, CHILE O LOS EEUU SOBREPASAN EL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50%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 DE LAS IMPORTACIONES O ENVÍA MAS DE US$ </a:t>
            </a:r>
            <a:r>
              <a:rPr b="1" lang="es-CL" sz="3200" spc="-1" strike="noStrike">
                <a:solidFill>
                  <a:srgbClr val="333399"/>
                </a:solidFill>
                <a:latin typeface="Times New Roman"/>
              </a:rPr>
              <a:t>110 MILL</a:t>
            </a:r>
            <a:r>
              <a:rPr b="1" lang="es-CL" sz="2800" spc="-1" strike="noStrike">
                <a:solidFill>
                  <a:srgbClr val="333399"/>
                </a:solidFill>
                <a:latin typeface="Times New Roman"/>
              </a:rPr>
              <a:t>, SE PODRÍA APLICAR UN ALZA ARANCELARIA QUE PODRÍA DEJAR EL ARANCEL A NIVEL FUERA DEL SG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4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L TOTAL DE PRODUCTOS IMPORTADOS POR CHILE DESDE LOS EEUU, EL 88,5% QUEDÓ EN DESGRAVACIÓN INMEDIATA.               POR EL CONTRARIO, EL 87% DE LOS PRODUCTOS EXPORTADOS POR CHILE A EEUU QUEDÓ CON DESGRAVACIÓN INMEDI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EN CUANTO A PRODUCTOS AGROPECUARIOS, EL 55% DE LAS IMPORTACIONES DESDE EEUU ESTÁN AFECTAS A DESGRAVACIÓN INMEDIATA Y EL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4%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DE LOS PRODUCTOS CHILENOS INGRESARÁN A EEUU CON CERO ARANCEL INMEDIATO, UNA VEZ QUE SE INICIE EL ACUER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8158320" y="0"/>
            <a:ext cx="948240" cy="1587240"/>
            <a:chOff x="8158320" y="0"/>
            <a:chExt cx="948240" cy="1587240"/>
          </a:xfrm>
        </p:grpSpPr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8158320" y="0"/>
              <a:ext cx="948240" cy="158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391520" cy="609624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ookman Old Style"/>
              </a:rPr>
              <a:t>COMERCIO EXTER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0000"/>
                </a:solidFill>
                <a:uFillTx/>
                <a:latin typeface="Times New Roman"/>
              </a:rPr>
              <a:t>FRUTAS Y HORTALIZAS FRES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ONSOLIDACIÓN DEL SGP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asegura la continuidad de arancel cero para la gran mayoría de los productos. Entre las excepciones se encuentran las clementinas, naranjas, almendras e higos con desgravación a 4 años, limones y alcachofas con 8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Times New Roman"/>
              </a:rPr>
              <a:t>CUOTA PALTAS:</a:t>
            </a:r>
            <a:r>
              <a:rPr b="0" lang="es-CL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49.000 TON.                            34.000 oct-dic y 15.000 resto del año                       (65% del volúmen exportado a EEUU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6877080" y="4846680"/>
            <a:ext cx="1962000" cy="1763640"/>
          </a:xfrm>
          <a:prstGeom prst="rect">
            <a:avLst/>
          </a:prstGeom>
          <a:ln w="0">
            <a:noFill/>
          </a:ln>
        </p:spPr>
      </p:pic>
      <p:pic>
        <p:nvPicPr>
          <p:cNvPr id="463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6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ORES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CONSOLIDACIÓN DEL SGP: ARANCEL CERO, INMEDIATO Y PERMANENTE.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TODOS LOS PRODUCTO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121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V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DESGRAVACIÓN EN 12 AÑOS QUE PARTE DESDE EL 5% DE ARANCEL VIGENTE PARA VINO A GRA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CONCEDERÁN A CHILE, TODOS LOS BENEFICIOS QUE SE OTORGUEN A TERCEROS PAÍSES EN CUANTO A CONDICIONES DE MERCADO EN LOS EEU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“CONSOLIDÓ” EL TEMA MARC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71360" y="2017800"/>
            <a:ext cx="8801280" cy="2759040"/>
            <a:chOff x="171360" y="2017800"/>
            <a:chExt cx="8801280" cy="2759040"/>
          </a:xfrm>
        </p:grpSpPr>
        <p:sp>
          <p:nvSpPr>
            <p:cNvPr id="474" name=""/>
            <p:cNvSpPr/>
            <p:nvPr/>
          </p:nvSpPr>
          <p:spPr>
            <a:xfrm>
              <a:off x="171360" y="2017800"/>
              <a:ext cx="8801280" cy="8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360" y="2017800"/>
              <a:ext cx="8801280" cy="27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17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6" name="" descr="Alto de Terra Andina">
            <a:hlinkClick r:id="rId2"/>
          </p:cNvPr>
          <p:cNvPicPr/>
          <p:nvPr/>
        </p:nvPicPr>
        <p:blipFill>
          <a:blip r:embed="rId3"/>
          <a:srcRect l="14669" t="0" r="31999" b="19199"/>
          <a:stretch/>
        </p:blipFill>
        <p:spPr>
          <a:xfrm>
            <a:off x="7543800" y="4613400"/>
            <a:ext cx="1523880" cy="2244600"/>
          </a:xfrm>
          <a:prstGeom prst="rect">
            <a:avLst/>
          </a:prstGeom>
          <a:ln w="0">
            <a:noFill/>
          </a:ln>
        </p:spPr>
      </p:pic>
      <p:pic>
        <p:nvPicPr>
          <p:cNvPr id="477" name="BN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79" name="" descr=""/>
            <p:cNvPicPr/>
            <p:nvPr/>
          </p:nvPicPr>
          <p:blipFill>
            <a:blip r:embed="rId5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95280" y="457200"/>
            <a:ext cx="6553440" cy="6172200"/>
          </a:xfrm>
          <a:prstGeom prst="rect">
            <a:avLst/>
          </a:prstGeom>
          <a:ln w="0">
            <a:noFill/>
          </a:ln>
        </p:spPr>
      </p:pic>
      <p:pic>
        <p:nvPicPr>
          <p:cNvPr id="481" name="BN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77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3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9120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0000"/>
                </a:solidFill>
                <a:latin typeface="Times New Roman"/>
              </a:rPr>
              <a:t>EVOLUCIÓN DEL 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71640" y="1003320"/>
          <a:ext cx="7200720" cy="55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03320"/>
                    <a:ext cx="720072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973080" cy="1197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49520" y="655308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ERDOS Y OVINOS: DESGRAVACIÓN INMEDI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BOVINOS: SE OBTUVO UNA CUOTA D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000 TON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Y DESGRAVACIÓN A    4 AÑOS PARA ENVÍOS FUERA DE LA CUO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553080" y="5232240"/>
            <a:ext cx="2210040" cy="1473480"/>
          </a:xfrm>
          <a:prstGeom prst="rect">
            <a:avLst/>
          </a:prstGeom>
          <a:ln w="0">
            <a:noFill/>
          </a:ln>
        </p:spPr>
      </p:pic>
      <p:pic>
        <p:nvPicPr>
          <p:cNvPr id="487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8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89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AR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E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VOS Y POLLOS ENTEROS, DESGRAVACIÓN INMEDIATA RECÍPRO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A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OZOS DE AVES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E NEGOCIÓ UNA CUOTA RECÍPROCA DE 8.000 TON/AÑO CON CRECIMIENTO DE 5% ANUAL Y DESGRAVACIÓN FUERA DE CUOTA EN 10 AÑOS, CON 2 AÑOS DE GRACIA Y 8 DE DESGRAVACIÓN LINEAL COMENZANDO CON UN ARANCEL DE 2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494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LÁCT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SE OBTUVO UNA CUOTA DE INGRESO LIBRE INMEDIATO DE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3.501 TON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Times New Roman"/>
              </a:rPr>
              <a:t>1.432 TON DE QUESOS Y 2.069 TON PARA MANTEQUILLA, LECHE EN POLVO, LECHE CONDENSADA, MANJAR Y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INCREMENTO DE LA CUOTA: 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7% AN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FUERA DE CUOTA LOS PRODUCTOS SE DESGRAVARÁN LINEALMENTE A PARTIR DEL AÑO </a:t>
            </a:r>
            <a:r>
              <a:rPr b="1" lang="es-CL" sz="2800" spc="-1" strike="noStrike">
                <a:solidFill>
                  <a:srgbClr val="ff0000"/>
                </a:solidFill>
                <a:latin typeface="Times New Roman"/>
              </a:rPr>
              <a:t>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Times New Roman"/>
              </a:rPr>
              <a:t>PARA IMPORTACIONES FUERA DE CUOTA DESDE EEUU SE OTORGÓ UNA DESGRAVACIÓN A CUATRO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9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49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AGRO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DESGRAVACIÓN ENTRE 8 Y 12 AÑOS PARA LA GRAN MAYORÍA DE LOS PRODUCTOS.                                                      (CONSERVAS, CONGELADOS PULPAS Y JUG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EXISTENCIA DE SALVAGUARDIAS PARA ALGUNOS CONGELADOS Y PULP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BN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03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04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468360" y="2133720"/>
          <a:ext cx="8261280" cy="42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26128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5384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LGUNOS PRODUCTOS AFECTOS A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ALVAGUARDIA (SGP CONDICIONADO)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R PARTE DE EEU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592200" y="1900080"/>
          <a:ext cx="8389800" cy="43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1900080"/>
                    <a:ext cx="8389800" cy="43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8256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9040" y="2062080"/>
          <a:ext cx="810396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062080"/>
                    <a:ext cx="81039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825480" y="62373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525" name="" descr=""/>
            <p:cNvPicPr/>
            <p:nvPr/>
          </p:nvPicPr>
          <p:blipFill>
            <a:blip r:embed="rId4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LVAGUARDIAS INTERPUESTAS POR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695160" y="2062080"/>
          <a:ext cx="7840800" cy="40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2062080"/>
                    <a:ext cx="78408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82548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532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00"/>
                </a:solidFill>
                <a:latin typeface="Times New Roman"/>
              </a:rPr>
              <a:t>ANÁLISIS SEC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Times New Roman"/>
              </a:rPr>
              <a:t>TRI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</a:t>
            </a:r>
            <a:r>
              <a:rPr b="1" lang="es-CL" sz="3200" spc="-1" strike="noStrike">
                <a:solidFill>
                  <a:srgbClr val="ff0000"/>
                </a:solidFill>
                <a:latin typeface="Times New Roman"/>
              </a:rPr>
              <a:t>12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318440" y="4267080"/>
            <a:ext cx="1563480" cy="2295720"/>
          </a:xfrm>
          <a:prstGeom prst="rect">
            <a:avLst/>
          </a:prstGeom>
          <a:ln w="0">
            <a:noFill/>
          </a:ln>
        </p:spPr>
      </p:pic>
      <p:pic>
        <p:nvPicPr>
          <p:cNvPr id="536" name="BN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847800" cy="10382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538" name="" descr=""/>
            <p:cNvPicPr/>
            <p:nvPr/>
          </p:nvPicPr>
          <p:blipFill>
            <a:blip r:embed="rId3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TRIGO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699400" y="2008080"/>
            <a:ext cx="47880" cy="4200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41520" y="6162840"/>
            <a:ext cx="8105760" cy="4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536840" y="2301840"/>
            <a:ext cx="7024680" cy="30891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706400" y="2611440"/>
            <a:ext cx="247680" cy="2779560"/>
            <a:chOff x="1706400" y="2611440"/>
            <a:chExt cx="247680" cy="2779560"/>
          </a:xfrm>
        </p:grpSpPr>
        <p:sp>
          <p:nvSpPr>
            <p:cNvPr id="546" name=""/>
            <p:cNvSpPr/>
            <p:nvPr/>
          </p:nvSpPr>
          <p:spPr>
            <a:xfrm>
              <a:off x="170640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70640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70640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70640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0640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0640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0640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0640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0640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70640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70640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0640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0640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640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70640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0640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70640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0640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0640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0640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640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0640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0640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0640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0640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0640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0640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0640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640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640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0640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70640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70640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70640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640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0640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70640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0640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0640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0640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640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70640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0640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0640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0640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0640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0640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70640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640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640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640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640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0640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0640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0640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0640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0640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0640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0640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0640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0640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0640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0640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0640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40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0640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0640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0640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0640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0640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640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0640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0640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0640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0640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0640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0640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0640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0640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0640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0640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0640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0640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0640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0640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0640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0640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0640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0640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0640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0640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0640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0640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0640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0640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0640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170640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2293920" y="2611440"/>
            <a:ext cx="246240" cy="2779560"/>
            <a:chOff x="2293920" y="2611440"/>
            <a:chExt cx="246240" cy="2779560"/>
          </a:xfrm>
        </p:grpSpPr>
        <p:sp>
          <p:nvSpPr>
            <p:cNvPr id="644" name=""/>
            <p:cNvSpPr/>
            <p:nvPr/>
          </p:nvSpPr>
          <p:spPr>
            <a:xfrm>
              <a:off x="2293920" y="261144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93920" y="2641680"/>
              <a:ext cx="2462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293920" y="2671920"/>
              <a:ext cx="24624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93920" y="2703600"/>
              <a:ext cx="24624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3920" y="2719440"/>
              <a:ext cx="24624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293920" y="2749680"/>
              <a:ext cx="24624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93920" y="2781360"/>
              <a:ext cx="24624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93920" y="2811600"/>
              <a:ext cx="24624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93920" y="2841480"/>
              <a:ext cx="24624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3920" y="2873520"/>
              <a:ext cx="24624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93920" y="2903400"/>
              <a:ext cx="24624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293920" y="2935440"/>
              <a:ext cx="24624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93920" y="2951280"/>
              <a:ext cx="24624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93920" y="2981160"/>
              <a:ext cx="24624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93920" y="3011400"/>
              <a:ext cx="24624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93920" y="3043080"/>
              <a:ext cx="24624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93920" y="3073320"/>
              <a:ext cx="24624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93920" y="3105000"/>
              <a:ext cx="24624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93920" y="3135240"/>
              <a:ext cx="24624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93920" y="3166920"/>
              <a:ext cx="24624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93920" y="3181320"/>
              <a:ext cx="24624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93920" y="3213000"/>
              <a:ext cx="24624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293920" y="3243240"/>
              <a:ext cx="2462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93920" y="3274920"/>
              <a:ext cx="24624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93920" y="3305160"/>
              <a:ext cx="24624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93920" y="3336840"/>
              <a:ext cx="24624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93920" y="3367080"/>
              <a:ext cx="24624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293920" y="3398760"/>
              <a:ext cx="24624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293920" y="3413160"/>
              <a:ext cx="24624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293920" y="3444840"/>
              <a:ext cx="2462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93920" y="3475080"/>
              <a:ext cx="24624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293920" y="3506760"/>
              <a:ext cx="24624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93920" y="3537000"/>
              <a:ext cx="24624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93920" y="3568680"/>
              <a:ext cx="24624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93920" y="3598920"/>
              <a:ext cx="24624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93920" y="3630600"/>
              <a:ext cx="24624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93920" y="3645000"/>
              <a:ext cx="24624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93920" y="3676680"/>
              <a:ext cx="24624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93920" y="3706920"/>
              <a:ext cx="24624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93920" y="3738600"/>
              <a:ext cx="24624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93920" y="3768840"/>
              <a:ext cx="2462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293920" y="3800520"/>
              <a:ext cx="24624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93920" y="3830760"/>
              <a:ext cx="24624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93920" y="3862440"/>
              <a:ext cx="24624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93920" y="3876840"/>
              <a:ext cx="24624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93920" y="3908520"/>
              <a:ext cx="24624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93920" y="3938760"/>
              <a:ext cx="24624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3970440"/>
              <a:ext cx="24624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93920" y="4000680"/>
              <a:ext cx="24624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93920" y="4032360"/>
              <a:ext cx="24624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93920" y="4062240"/>
              <a:ext cx="24624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93920" y="4094280"/>
              <a:ext cx="24624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93920" y="4108320"/>
              <a:ext cx="24624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93920" y="4140360"/>
              <a:ext cx="24624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93920" y="4170240"/>
              <a:ext cx="24624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93920" y="4202280"/>
              <a:ext cx="24624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93920" y="4232160"/>
              <a:ext cx="24624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93920" y="4264200"/>
              <a:ext cx="24624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93920" y="4294080"/>
              <a:ext cx="24624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93920" y="4324320"/>
              <a:ext cx="24624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93920" y="4340160"/>
              <a:ext cx="24624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93920" y="4371840"/>
              <a:ext cx="24624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93920" y="4402080"/>
              <a:ext cx="24624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93920" y="4433760"/>
              <a:ext cx="24624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4464000"/>
              <a:ext cx="24624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93920" y="4494240"/>
              <a:ext cx="24624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93920" y="4525920"/>
              <a:ext cx="24624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93920" y="4556160"/>
              <a:ext cx="24624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93920" y="4572000"/>
              <a:ext cx="24624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93920" y="4603680"/>
              <a:ext cx="24624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93920" y="4633920"/>
              <a:ext cx="24624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93920" y="4664160"/>
              <a:ext cx="2462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93920" y="4695840"/>
              <a:ext cx="24624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93920" y="4726080"/>
              <a:ext cx="24624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93920" y="4757760"/>
              <a:ext cx="24624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93920" y="4788000"/>
              <a:ext cx="24624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93920" y="4803840"/>
              <a:ext cx="2462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93920" y="4834080"/>
              <a:ext cx="24624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93920" y="4865760"/>
              <a:ext cx="2462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93920" y="4896000"/>
              <a:ext cx="24624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93920" y="4927680"/>
              <a:ext cx="24624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93920" y="4957920"/>
              <a:ext cx="24624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93920" y="4989600"/>
              <a:ext cx="24624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93920" y="5019840"/>
              <a:ext cx="24624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93920" y="5035680"/>
              <a:ext cx="2462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93920" y="5065560"/>
              <a:ext cx="24624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93920" y="5097600"/>
              <a:ext cx="24624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93920" y="5127480"/>
              <a:ext cx="2462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93920" y="5159520"/>
              <a:ext cx="24624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93920" y="5189400"/>
              <a:ext cx="24624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93920" y="5221440"/>
              <a:ext cx="24624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93920" y="5251320"/>
              <a:ext cx="24624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93920" y="526716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93920" y="529740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93920" y="5329080"/>
              <a:ext cx="24624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93920" y="5359320"/>
              <a:ext cx="2462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293920" y="2611440"/>
            <a:ext cx="24624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2879640" y="2611440"/>
            <a:ext cx="247680" cy="2779560"/>
            <a:chOff x="2879640" y="2611440"/>
            <a:chExt cx="247680" cy="2779560"/>
          </a:xfrm>
        </p:grpSpPr>
        <p:sp>
          <p:nvSpPr>
            <p:cNvPr id="742" name=""/>
            <p:cNvSpPr/>
            <p:nvPr/>
          </p:nvSpPr>
          <p:spPr>
            <a:xfrm>
              <a:off x="2879640" y="261144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79640" y="2641680"/>
              <a:ext cx="2476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879640" y="2671920"/>
              <a:ext cx="2476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879640" y="270360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79640" y="2719440"/>
              <a:ext cx="2476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79640" y="2749680"/>
              <a:ext cx="2476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79640" y="2781360"/>
              <a:ext cx="2476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79640" y="2811600"/>
              <a:ext cx="2476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79640" y="2841480"/>
              <a:ext cx="2476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879640" y="2873520"/>
              <a:ext cx="2476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879640" y="2903400"/>
              <a:ext cx="2476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79640" y="293544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79640" y="2951280"/>
              <a:ext cx="2476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879640" y="298116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879640" y="3011400"/>
              <a:ext cx="2476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879640" y="3043080"/>
              <a:ext cx="2476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879640" y="3073320"/>
              <a:ext cx="2476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879640" y="310500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879640" y="31352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79640" y="3166920"/>
              <a:ext cx="2476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79640" y="318132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79640" y="3213000"/>
              <a:ext cx="2476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879640" y="3243240"/>
              <a:ext cx="2476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879640" y="327492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879640" y="330516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879640" y="3336840"/>
              <a:ext cx="2476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879640" y="3367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879640" y="3398760"/>
              <a:ext cx="2476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879640" y="3413160"/>
              <a:ext cx="2476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79640" y="3444840"/>
              <a:ext cx="2476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9640" y="3475080"/>
              <a:ext cx="2476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879640" y="3506760"/>
              <a:ext cx="2476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879640" y="3537000"/>
              <a:ext cx="2476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79640" y="3568680"/>
              <a:ext cx="2476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879640" y="3598920"/>
              <a:ext cx="2476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79640" y="3630600"/>
              <a:ext cx="2476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79640" y="3645000"/>
              <a:ext cx="2476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879640" y="3676680"/>
              <a:ext cx="2476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879640" y="3706920"/>
              <a:ext cx="2476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879640" y="3738600"/>
              <a:ext cx="2476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879640" y="3768840"/>
              <a:ext cx="2476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879640" y="380052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79640" y="38307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79640" y="3862440"/>
              <a:ext cx="2476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79640" y="3876840"/>
              <a:ext cx="2476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79640" y="3908520"/>
              <a:ext cx="2476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879640" y="3938760"/>
              <a:ext cx="2476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879640" y="397044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79640" y="400068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879640" y="4032360"/>
              <a:ext cx="2476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879640" y="4062240"/>
              <a:ext cx="2476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879640" y="4094280"/>
              <a:ext cx="2476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79640" y="4108320"/>
              <a:ext cx="2476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79640" y="4140360"/>
              <a:ext cx="2476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79640" y="4170240"/>
              <a:ext cx="2476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879640" y="4202280"/>
              <a:ext cx="2476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79640" y="4232160"/>
              <a:ext cx="2476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879640" y="4264200"/>
              <a:ext cx="2476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879640" y="429408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79640" y="432432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79640" y="4340160"/>
              <a:ext cx="2476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9640" y="4371840"/>
              <a:ext cx="2476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79640" y="4402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79640" y="4433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79640" y="4464000"/>
              <a:ext cx="2476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79640" y="4494240"/>
              <a:ext cx="2476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79640" y="452592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879640" y="4556160"/>
              <a:ext cx="2476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879640" y="457200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879640" y="460368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879640" y="463392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879640" y="466416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9640" y="469584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879640" y="472608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79640" y="4757760"/>
              <a:ext cx="2476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79640" y="47880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79640" y="48038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79640" y="483408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79640" y="486576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79640" y="489600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79640" y="4927680"/>
              <a:ext cx="2476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879640" y="4957920"/>
              <a:ext cx="2476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79640" y="498960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79640" y="501984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879640" y="5035680"/>
              <a:ext cx="2476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879640" y="5065560"/>
              <a:ext cx="2476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879640" y="5097600"/>
              <a:ext cx="2476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79640" y="512748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87964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79640" y="5189400"/>
              <a:ext cx="2476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79640" y="5221440"/>
              <a:ext cx="2476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79640" y="525132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79640" y="526716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9640" y="529740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879640" y="5329080"/>
              <a:ext cx="2476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7964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2879640" y="2611440"/>
            <a:ext cx="2476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467160" y="2611440"/>
            <a:ext cx="245880" cy="2779560"/>
            <a:chOff x="3467160" y="2611440"/>
            <a:chExt cx="245880" cy="2779560"/>
          </a:xfrm>
        </p:grpSpPr>
        <p:sp>
          <p:nvSpPr>
            <p:cNvPr id="840" name=""/>
            <p:cNvSpPr/>
            <p:nvPr/>
          </p:nvSpPr>
          <p:spPr>
            <a:xfrm>
              <a:off x="3467160" y="261144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67160" y="2641680"/>
              <a:ext cx="24588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467160" y="267192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67160" y="2703600"/>
              <a:ext cx="2458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467160" y="2719440"/>
              <a:ext cx="245880" cy="302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67160" y="2749680"/>
              <a:ext cx="245880" cy="3168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67160" y="278136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467160" y="2811600"/>
              <a:ext cx="245880" cy="298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467160" y="2841480"/>
              <a:ext cx="245880" cy="320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67160" y="2873520"/>
              <a:ext cx="245880" cy="298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67160" y="2903400"/>
              <a:ext cx="245880" cy="320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467160" y="2935440"/>
              <a:ext cx="2458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67160" y="2951280"/>
              <a:ext cx="245880" cy="29880"/>
            </a:xfrm>
            <a:prstGeom prst="rect">
              <a:avLst/>
            </a:prstGeom>
            <a:solidFill>
              <a:srgbClr val="4c4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467160" y="2981160"/>
              <a:ext cx="2458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67160" y="3011400"/>
              <a:ext cx="245880" cy="3168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67160" y="304308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67160" y="3073320"/>
              <a:ext cx="245880" cy="3168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467160" y="3105000"/>
              <a:ext cx="2458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467160" y="3135240"/>
              <a:ext cx="2458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67160" y="3166920"/>
              <a:ext cx="245880" cy="1440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67160" y="3181320"/>
              <a:ext cx="2458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467160" y="3213000"/>
              <a:ext cx="245880" cy="302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467160" y="3243240"/>
              <a:ext cx="24588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67160" y="3274920"/>
              <a:ext cx="2458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67160" y="330516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467160" y="3336840"/>
              <a:ext cx="245880" cy="302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67160" y="336708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467160" y="339876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467160" y="341316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67160" y="3444840"/>
              <a:ext cx="24588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67160" y="3475080"/>
              <a:ext cx="245880" cy="3168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67160" y="3506760"/>
              <a:ext cx="245880" cy="302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67160" y="3537000"/>
              <a:ext cx="245880" cy="3168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67160" y="3568680"/>
              <a:ext cx="245880" cy="3024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467160" y="3598920"/>
              <a:ext cx="245880" cy="3168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7160" y="3630600"/>
              <a:ext cx="245880" cy="1440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67160" y="3645000"/>
              <a:ext cx="245880" cy="31680"/>
            </a:xfrm>
            <a:prstGeom prst="rect">
              <a:avLst/>
            </a:prstGeom>
            <a:solidFill>
              <a:srgbClr val="66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67160" y="367668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67160" y="3706920"/>
              <a:ext cx="245880" cy="316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67160" y="3738600"/>
              <a:ext cx="245880" cy="302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67160" y="3768840"/>
              <a:ext cx="24588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67160" y="3800520"/>
              <a:ext cx="2458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67160" y="3830760"/>
              <a:ext cx="2458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67160" y="386244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67160" y="3876840"/>
              <a:ext cx="245880" cy="316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67160" y="3908520"/>
              <a:ext cx="245880" cy="302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67160" y="3938760"/>
              <a:ext cx="245880" cy="3168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467160" y="3970440"/>
              <a:ext cx="2458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67160" y="4000680"/>
              <a:ext cx="2458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67160" y="403236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67160" y="4062240"/>
              <a:ext cx="245880" cy="320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467160" y="4094280"/>
              <a:ext cx="245880" cy="14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67160" y="4108320"/>
              <a:ext cx="245880" cy="32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467160" y="4140360"/>
              <a:ext cx="245880" cy="298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467160" y="4170240"/>
              <a:ext cx="245880" cy="320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467160" y="4202280"/>
              <a:ext cx="245880" cy="298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467160" y="4232160"/>
              <a:ext cx="245880" cy="320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467160" y="426420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67160" y="429408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67160" y="432432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67160" y="4340160"/>
              <a:ext cx="245880" cy="31680"/>
            </a:xfrm>
            <a:prstGeom prst="rect">
              <a:avLst/>
            </a:prstGeom>
            <a:solidFill>
              <a:srgbClr val="868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7160" y="4371840"/>
              <a:ext cx="245880" cy="302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67160" y="440208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67160" y="4433760"/>
              <a:ext cx="2458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67160" y="4464000"/>
              <a:ext cx="245880" cy="302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67160" y="4494240"/>
              <a:ext cx="245880" cy="3168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4525920"/>
              <a:ext cx="2458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67160" y="4556160"/>
              <a:ext cx="245880" cy="158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67160" y="4572000"/>
              <a:ext cx="2458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67160" y="4603680"/>
              <a:ext cx="2458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67160" y="4633920"/>
              <a:ext cx="2458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67160" y="466416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67160" y="4695840"/>
              <a:ext cx="2458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467160" y="4726080"/>
              <a:ext cx="2458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67160" y="475776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67160" y="4788000"/>
              <a:ext cx="2458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67160" y="480384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67160" y="483408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67160" y="4865760"/>
              <a:ext cx="2458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467160" y="4896000"/>
              <a:ext cx="2458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467160" y="492768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67160" y="4957920"/>
              <a:ext cx="245880" cy="3168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467160" y="498960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67160" y="501984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467160" y="503568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67160" y="5065560"/>
              <a:ext cx="245880" cy="32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67160" y="5097600"/>
              <a:ext cx="245880" cy="298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67160" y="5127480"/>
              <a:ext cx="2458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467160" y="515952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67160" y="5189400"/>
              <a:ext cx="245880" cy="320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67160" y="522144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46716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67160" y="526716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467160" y="529740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7160" y="5329080"/>
              <a:ext cx="245880" cy="302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4671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3467160" y="2611440"/>
            <a:ext cx="245880" cy="2779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052880" y="2919240"/>
            <a:ext cx="247680" cy="2471760"/>
            <a:chOff x="4052880" y="2919240"/>
            <a:chExt cx="247680" cy="2471760"/>
          </a:xfrm>
        </p:grpSpPr>
        <p:sp>
          <p:nvSpPr>
            <p:cNvPr id="938" name=""/>
            <p:cNvSpPr/>
            <p:nvPr/>
          </p:nvSpPr>
          <p:spPr>
            <a:xfrm>
              <a:off x="4052880" y="2919240"/>
              <a:ext cx="2476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52880" y="2951280"/>
              <a:ext cx="2476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052880" y="2965320"/>
              <a:ext cx="247680" cy="320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52880" y="2997360"/>
              <a:ext cx="247680" cy="2988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2880" y="302724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2880" y="3043080"/>
              <a:ext cx="2476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52880" y="307332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52880" y="3105000"/>
              <a:ext cx="247680" cy="1620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52880" y="3121200"/>
              <a:ext cx="247680" cy="2988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052880" y="3151080"/>
              <a:ext cx="247680" cy="302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052880" y="3181320"/>
              <a:ext cx="247680" cy="158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52880" y="3197160"/>
              <a:ext cx="247680" cy="3168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52880" y="3228840"/>
              <a:ext cx="247680" cy="302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052880" y="32590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052880" y="32749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052880" y="3305160"/>
              <a:ext cx="24768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052880" y="333684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052880" y="3352680"/>
              <a:ext cx="247680" cy="3024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052880" y="3382920"/>
              <a:ext cx="247680" cy="302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052880" y="3413160"/>
              <a:ext cx="247680" cy="158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052880" y="3429000"/>
              <a:ext cx="247680" cy="3168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052880" y="3460680"/>
              <a:ext cx="247680" cy="302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052880" y="3490920"/>
              <a:ext cx="247680" cy="1584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52880" y="3506760"/>
              <a:ext cx="247680" cy="302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52880" y="3537000"/>
              <a:ext cx="2476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52880" y="3568680"/>
              <a:ext cx="2476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2880" y="3583080"/>
              <a:ext cx="2476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52880" y="3614760"/>
              <a:ext cx="247680" cy="302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52880" y="364500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52880" y="3660840"/>
              <a:ext cx="247680" cy="3168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52880" y="3692520"/>
              <a:ext cx="247680" cy="302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052880" y="3722760"/>
              <a:ext cx="247680" cy="15840"/>
            </a:xfrm>
            <a:prstGeom prst="rect">
              <a:avLst/>
            </a:prstGeom>
            <a:solidFill>
              <a:srgbClr val="606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52880" y="3738600"/>
              <a:ext cx="247680" cy="302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052880" y="3768840"/>
              <a:ext cx="2476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52880" y="3800520"/>
              <a:ext cx="247680" cy="1440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52880" y="3814920"/>
              <a:ext cx="247680" cy="3168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52880" y="3846600"/>
              <a:ext cx="247680" cy="302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2880" y="3876840"/>
              <a:ext cx="247680" cy="158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52880" y="389268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52880" y="3922560"/>
              <a:ext cx="247680" cy="32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052880" y="3954600"/>
              <a:ext cx="247680" cy="1584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52880" y="3970440"/>
              <a:ext cx="247680" cy="302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052880" y="400068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052880" y="4032360"/>
              <a:ext cx="247680" cy="140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052880" y="4046400"/>
              <a:ext cx="247680" cy="320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052880" y="4078440"/>
              <a:ext cx="24768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52880" y="41083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52880" y="4124160"/>
              <a:ext cx="247680" cy="302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2880" y="4154400"/>
              <a:ext cx="247680" cy="3168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2880" y="4186080"/>
              <a:ext cx="247680" cy="162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052880" y="4202280"/>
              <a:ext cx="247680" cy="298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052880" y="4232160"/>
              <a:ext cx="247680" cy="320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52880" y="4264200"/>
              <a:ext cx="247680" cy="1404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52880" y="4278240"/>
              <a:ext cx="247680" cy="3168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052880" y="4309920"/>
              <a:ext cx="247680" cy="302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52880" y="434016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52880" y="4356000"/>
              <a:ext cx="247680" cy="302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2880" y="4386240"/>
              <a:ext cx="247680" cy="316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52880" y="4417920"/>
              <a:ext cx="24768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052880" y="4433760"/>
              <a:ext cx="247680" cy="302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052880" y="4464000"/>
              <a:ext cx="2476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2880" y="4494240"/>
              <a:ext cx="2476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052880" y="4510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2880" y="4541760"/>
              <a:ext cx="247680" cy="302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52880" y="4572000"/>
              <a:ext cx="247680" cy="158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052880" y="4587840"/>
              <a:ext cx="247680" cy="3024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52880" y="4618080"/>
              <a:ext cx="24768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52880" y="4649760"/>
              <a:ext cx="247680" cy="1440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52880" y="4664160"/>
              <a:ext cx="247680" cy="3168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052880" y="4695840"/>
              <a:ext cx="247680" cy="302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052880" y="4726080"/>
              <a:ext cx="247680" cy="158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052880" y="4741920"/>
              <a:ext cx="2476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52880" y="4773600"/>
              <a:ext cx="247680" cy="302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52880" y="480384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52880" y="4819680"/>
              <a:ext cx="24768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052880" y="4849920"/>
              <a:ext cx="247680" cy="3168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52880" y="488160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52880" y="4896000"/>
              <a:ext cx="2476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052880" y="4927680"/>
              <a:ext cx="24768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52880" y="4957920"/>
              <a:ext cx="2476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52880" y="4973760"/>
              <a:ext cx="247680" cy="316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52880" y="5005440"/>
              <a:ext cx="247680" cy="302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52880" y="5035680"/>
              <a:ext cx="24768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52880" y="5051520"/>
              <a:ext cx="247680" cy="302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52880" y="5081760"/>
              <a:ext cx="2476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052880" y="511344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052880" y="512748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052880" y="5159520"/>
              <a:ext cx="2476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52880" y="518940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52880" y="5205240"/>
              <a:ext cx="247680" cy="302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52880" y="5235480"/>
              <a:ext cx="247680" cy="316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2880" y="5267160"/>
              <a:ext cx="247680" cy="1620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52880" y="528336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52880" y="5313240"/>
              <a:ext cx="2476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52880" y="5345280"/>
              <a:ext cx="2476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528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4052880" y="2919240"/>
            <a:ext cx="247680" cy="2471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4640400" y="3089160"/>
            <a:ext cx="245880" cy="2301840"/>
            <a:chOff x="4640400" y="3089160"/>
            <a:chExt cx="245880" cy="2301840"/>
          </a:xfrm>
        </p:grpSpPr>
        <p:sp>
          <p:nvSpPr>
            <p:cNvPr id="1036" name=""/>
            <p:cNvSpPr/>
            <p:nvPr/>
          </p:nvSpPr>
          <p:spPr>
            <a:xfrm>
              <a:off x="4640400" y="308916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40400" y="3121200"/>
              <a:ext cx="245880" cy="14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40400" y="3135240"/>
              <a:ext cx="245880" cy="3168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40400" y="3166920"/>
              <a:ext cx="245880" cy="1440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640400" y="3181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640400" y="3213000"/>
              <a:ext cx="245880" cy="158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40400" y="322884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640400" y="3259080"/>
              <a:ext cx="24588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40400" y="3274920"/>
              <a:ext cx="24588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640400" y="3305160"/>
              <a:ext cx="245880" cy="3168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640400" y="3336840"/>
              <a:ext cx="245880" cy="158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640400" y="33526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640400" y="3382920"/>
              <a:ext cx="2458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640400" y="3398760"/>
              <a:ext cx="245880" cy="302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640400" y="3429000"/>
              <a:ext cx="24588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640400" y="3444840"/>
              <a:ext cx="245880" cy="302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640400" y="3475080"/>
              <a:ext cx="2458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640400" y="3490920"/>
              <a:ext cx="24588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640400" y="352260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4640400" y="3537000"/>
              <a:ext cx="245880" cy="3168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640400" y="3568680"/>
              <a:ext cx="245880" cy="3024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40400" y="3598920"/>
              <a:ext cx="245880" cy="15840"/>
            </a:xfrm>
            <a:prstGeom prst="rect">
              <a:avLst/>
            </a:prstGeom>
            <a:solidFill>
              <a:srgbClr val="5454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640400" y="3614760"/>
              <a:ext cx="245880" cy="302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640400" y="3645000"/>
              <a:ext cx="24588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640400" y="3660840"/>
              <a:ext cx="245880" cy="3168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640400" y="369252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40400" y="370692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640400" y="3738600"/>
              <a:ext cx="245880" cy="144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0400" y="3753000"/>
              <a:ext cx="245880" cy="3168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640400" y="378468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640400" y="3814920"/>
              <a:ext cx="24588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640400" y="3830760"/>
              <a:ext cx="245880" cy="316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640400" y="3862440"/>
              <a:ext cx="245880" cy="144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640400" y="3876840"/>
              <a:ext cx="24588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640400" y="3908520"/>
              <a:ext cx="245880" cy="140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640400" y="3922560"/>
              <a:ext cx="245880" cy="320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640400" y="3954600"/>
              <a:ext cx="2458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640400" y="3970440"/>
              <a:ext cx="245880" cy="302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640400" y="4000680"/>
              <a:ext cx="245880" cy="3168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640400" y="4032360"/>
              <a:ext cx="24588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640400" y="4046400"/>
              <a:ext cx="245880" cy="320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40400" y="4078440"/>
              <a:ext cx="245880" cy="1584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0400" y="4094280"/>
              <a:ext cx="245880" cy="298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40400" y="4124160"/>
              <a:ext cx="245880" cy="162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640400" y="4140360"/>
              <a:ext cx="245880" cy="2988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40400" y="4170240"/>
              <a:ext cx="245880" cy="1584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40400" y="4186080"/>
              <a:ext cx="2458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40400" y="4216320"/>
              <a:ext cx="2458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40400" y="4232160"/>
              <a:ext cx="245880" cy="3204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40400" y="4264200"/>
              <a:ext cx="245880" cy="29880"/>
            </a:xfrm>
            <a:prstGeom prst="rect">
              <a:avLst/>
            </a:prstGeom>
            <a:solidFill>
              <a:srgbClr val="7979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640400" y="4294080"/>
              <a:ext cx="245880" cy="158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40400" y="4309920"/>
              <a:ext cx="245880" cy="302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640400" y="434016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640400" y="4356000"/>
              <a:ext cx="245880" cy="302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640400" y="4386240"/>
              <a:ext cx="245880" cy="1584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640400" y="4402080"/>
              <a:ext cx="245880" cy="3168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640400" y="4433760"/>
              <a:ext cx="245880" cy="1440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640400" y="4448160"/>
              <a:ext cx="245880" cy="3168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40400" y="4479840"/>
              <a:ext cx="2458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40400" y="4510080"/>
              <a:ext cx="2458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40400" y="452592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40400" y="455616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40400" y="4572000"/>
              <a:ext cx="2458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640400" y="4603680"/>
              <a:ext cx="245880" cy="1440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40400" y="4618080"/>
              <a:ext cx="24588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640400" y="4649760"/>
              <a:ext cx="24588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640400" y="4664160"/>
              <a:ext cx="245880" cy="3168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640400" y="4695840"/>
              <a:ext cx="245880" cy="302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640400" y="4726080"/>
              <a:ext cx="2458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640400" y="4741920"/>
              <a:ext cx="24588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40400" y="4773600"/>
              <a:ext cx="24588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640400" y="4788000"/>
              <a:ext cx="24588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0400" y="4819680"/>
              <a:ext cx="245880" cy="1440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640400" y="4834080"/>
              <a:ext cx="245880" cy="3168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640400" y="4865760"/>
              <a:ext cx="245880" cy="158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640400" y="4881600"/>
              <a:ext cx="2458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40400" y="4911840"/>
              <a:ext cx="245880" cy="3168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640400" y="4943520"/>
              <a:ext cx="245880" cy="1440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640400" y="4957920"/>
              <a:ext cx="245880" cy="316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40400" y="4989600"/>
              <a:ext cx="24588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640400" y="5005440"/>
              <a:ext cx="245880" cy="302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640400" y="503568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640400" y="505152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640400" y="5081760"/>
              <a:ext cx="2458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0400" y="5097600"/>
              <a:ext cx="24588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0400" y="5127480"/>
              <a:ext cx="245880" cy="1620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40400" y="5143680"/>
              <a:ext cx="245880" cy="3168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40400" y="5175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640400" y="5205240"/>
              <a:ext cx="245880" cy="1620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640400" y="5221440"/>
              <a:ext cx="245880" cy="2988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40400" y="5251320"/>
              <a:ext cx="2458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640400" y="5267160"/>
              <a:ext cx="2458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640400" y="529740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640400" y="5313240"/>
              <a:ext cx="245880" cy="32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4040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040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4640400" y="3089160"/>
            <a:ext cx="245880" cy="2301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5226120" y="3274920"/>
            <a:ext cx="231840" cy="2116080"/>
            <a:chOff x="5226120" y="3274920"/>
            <a:chExt cx="231840" cy="2116080"/>
          </a:xfrm>
        </p:grpSpPr>
        <p:sp>
          <p:nvSpPr>
            <p:cNvPr id="1134" name=""/>
            <p:cNvSpPr/>
            <p:nvPr/>
          </p:nvSpPr>
          <p:spPr>
            <a:xfrm>
              <a:off x="5226120" y="3274920"/>
              <a:ext cx="23184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226120" y="3290760"/>
              <a:ext cx="231840" cy="302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226120" y="3321000"/>
              <a:ext cx="231840" cy="158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226120" y="3336840"/>
              <a:ext cx="231840" cy="302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226120" y="3367080"/>
              <a:ext cx="23184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6120" y="3382920"/>
              <a:ext cx="23184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26120" y="341316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26120" y="3429000"/>
              <a:ext cx="231840" cy="158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26120" y="3444840"/>
              <a:ext cx="231840" cy="302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26120" y="3475080"/>
              <a:ext cx="23184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26120" y="3490920"/>
              <a:ext cx="231840" cy="3168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26120" y="3522600"/>
              <a:ext cx="231840" cy="1440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6120" y="3537000"/>
              <a:ext cx="23184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226120" y="3568680"/>
              <a:ext cx="231840" cy="1440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226120" y="3583080"/>
              <a:ext cx="231840" cy="158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226120" y="3598920"/>
              <a:ext cx="231840" cy="3168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226120" y="3630600"/>
              <a:ext cx="231840" cy="1440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226120" y="3645000"/>
              <a:ext cx="231840" cy="31680"/>
            </a:xfrm>
            <a:prstGeom prst="rect">
              <a:avLst/>
            </a:prstGeom>
            <a:solidFill>
              <a:srgbClr val="505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226120" y="3676680"/>
              <a:ext cx="231840" cy="1584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226120" y="3692520"/>
              <a:ext cx="231840" cy="302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226120" y="3722760"/>
              <a:ext cx="231840" cy="158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226120" y="3738600"/>
              <a:ext cx="231840" cy="1440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226120" y="3753000"/>
              <a:ext cx="231840" cy="316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226120" y="3784680"/>
              <a:ext cx="231840" cy="1584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226120" y="3800520"/>
              <a:ext cx="231840" cy="302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226120" y="3830760"/>
              <a:ext cx="231840" cy="15840"/>
            </a:xfrm>
            <a:prstGeom prst="rect">
              <a:avLst/>
            </a:prstGeom>
            <a:solidFill>
              <a:srgbClr val="5959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6120" y="3846600"/>
              <a:ext cx="231840" cy="3024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26120" y="3876840"/>
              <a:ext cx="231840" cy="1584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26120" y="3892680"/>
              <a:ext cx="23184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226120" y="3908520"/>
              <a:ext cx="231840" cy="30240"/>
            </a:xfrm>
            <a:prstGeom prst="rect">
              <a:avLst/>
            </a:prstGeom>
            <a:solidFill>
              <a:srgbClr val="5d5d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226120" y="3938760"/>
              <a:ext cx="231840" cy="158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226120" y="3954600"/>
              <a:ext cx="231840" cy="2988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226120" y="3984480"/>
              <a:ext cx="231840" cy="1620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26120" y="4000680"/>
              <a:ext cx="231840" cy="31680"/>
            </a:xfrm>
            <a:prstGeom prst="rect">
              <a:avLst/>
            </a:prstGeom>
            <a:solidFill>
              <a:srgbClr val="6363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26120" y="4032360"/>
              <a:ext cx="231840" cy="14040"/>
            </a:xfrm>
            <a:prstGeom prst="rect">
              <a:avLst/>
            </a:prstGeom>
            <a:solidFill>
              <a:srgbClr val="646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26120" y="4046400"/>
              <a:ext cx="23184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226120" y="4062240"/>
              <a:ext cx="231840" cy="320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26120" y="4094280"/>
              <a:ext cx="231840" cy="1404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226120" y="4108320"/>
              <a:ext cx="231840" cy="320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226120" y="4140360"/>
              <a:ext cx="231840" cy="140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26120" y="4154400"/>
              <a:ext cx="231840" cy="3168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226120" y="4186080"/>
              <a:ext cx="231840" cy="16200"/>
            </a:xfrm>
            <a:prstGeom prst="rect">
              <a:avLst/>
            </a:prstGeom>
            <a:solidFill>
              <a:srgbClr val="6e6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226120" y="4202280"/>
              <a:ext cx="231840" cy="140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26120" y="4216320"/>
              <a:ext cx="231840" cy="3168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226120" y="4248000"/>
              <a:ext cx="231840" cy="1620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226120" y="4264200"/>
              <a:ext cx="231840" cy="29880"/>
            </a:xfrm>
            <a:prstGeom prst="rect">
              <a:avLst/>
            </a:prstGeom>
            <a:solidFill>
              <a:srgbClr val="737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226120" y="4294080"/>
              <a:ext cx="23184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226120" y="4309920"/>
              <a:ext cx="231840" cy="1440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226120" y="4324320"/>
              <a:ext cx="231840" cy="31680"/>
            </a:xfrm>
            <a:prstGeom prst="rect">
              <a:avLst/>
            </a:prstGeom>
            <a:solidFill>
              <a:srgbClr val="777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226120" y="4356000"/>
              <a:ext cx="231840" cy="158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226120" y="4371840"/>
              <a:ext cx="231840" cy="3024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26120" y="4402080"/>
              <a:ext cx="23184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26120" y="4417920"/>
              <a:ext cx="23184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226120" y="4448160"/>
              <a:ext cx="23184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226120" y="4464000"/>
              <a:ext cx="231840" cy="15840"/>
            </a:xfrm>
            <a:prstGeom prst="rect">
              <a:avLst/>
            </a:prstGeom>
            <a:solidFill>
              <a:srgbClr val="7f7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226120" y="4479840"/>
              <a:ext cx="231840" cy="302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226120" y="4510080"/>
              <a:ext cx="23184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226120" y="4525920"/>
              <a:ext cx="231840" cy="3024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226120" y="4556160"/>
              <a:ext cx="231840" cy="158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226120" y="4572000"/>
              <a:ext cx="231840" cy="3168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26120" y="4603680"/>
              <a:ext cx="231840" cy="1440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26120" y="4618080"/>
              <a:ext cx="23184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226120" y="4633920"/>
              <a:ext cx="231840" cy="3024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226120" y="4664160"/>
              <a:ext cx="23184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226120" y="4680000"/>
              <a:ext cx="231840" cy="3168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226120" y="4711680"/>
              <a:ext cx="231840" cy="14400"/>
            </a:xfrm>
            <a:prstGeom prst="rect">
              <a:avLst/>
            </a:prstGeom>
            <a:solidFill>
              <a:srgbClr val="8b8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26120" y="4726080"/>
              <a:ext cx="231840" cy="3168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26120" y="4757760"/>
              <a:ext cx="23184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226120" y="4773600"/>
              <a:ext cx="231840" cy="1440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226120" y="4788000"/>
              <a:ext cx="231840" cy="316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26120" y="4819680"/>
              <a:ext cx="231840" cy="1440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26120" y="4834080"/>
              <a:ext cx="231840" cy="3168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226120" y="4865760"/>
              <a:ext cx="23184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26120" y="4881600"/>
              <a:ext cx="231840" cy="302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6120" y="491184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26120" y="4927680"/>
              <a:ext cx="231840" cy="158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26120" y="4943520"/>
              <a:ext cx="23184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226120" y="4973760"/>
              <a:ext cx="23184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226120" y="4989600"/>
              <a:ext cx="231840" cy="3024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26120" y="5019840"/>
              <a:ext cx="231840" cy="1584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6120" y="5035680"/>
              <a:ext cx="231840" cy="2988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226120" y="5065560"/>
              <a:ext cx="231840" cy="1620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26120" y="5081760"/>
              <a:ext cx="231840" cy="158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26120" y="5097600"/>
              <a:ext cx="231840" cy="298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226120" y="5127480"/>
              <a:ext cx="231840" cy="1620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226120" y="5143680"/>
              <a:ext cx="231840" cy="316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226120" y="5175360"/>
              <a:ext cx="231840" cy="14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226120" y="5189400"/>
              <a:ext cx="23184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6120" y="5221440"/>
              <a:ext cx="23184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226120" y="5235480"/>
              <a:ext cx="231840" cy="15840"/>
            </a:xfrm>
            <a:prstGeom prst="rect">
              <a:avLst/>
            </a:prstGeom>
            <a:solidFill>
              <a:srgbClr val="9797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226120" y="5251320"/>
              <a:ext cx="23184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226120" y="5283360"/>
              <a:ext cx="23184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226120" y="5297400"/>
              <a:ext cx="23184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226120" y="5329080"/>
              <a:ext cx="23184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226120" y="5345280"/>
              <a:ext cx="23184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226120" y="5375160"/>
              <a:ext cx="231840" cy="158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5226120" y="3274920"/>
            <a:ext cx="231840" cy="2116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5797440" y="3537000"/>
            <a:ext cx="247680" cy="1854000"/>
            <a:chOff x="5797440" y="3537000"/>
            <a:chExt cx="247680" cy="1854000"/>
          </a:xfrm>
        </p:grpSpPr>
        <p:sp>
          <p:nvSpPr>
            <p:cNvPr id="1232" name=""/>
            <p:cNvSpPr/>
            <p:nvPr/>
          </p:nvSpPr>
          <p:spPr>
            <a:xfrm>
              <a:off x="5797440" y="353700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97440" y="3552840"/>
              <a:ext cx="2476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7440" y="3568680"/>
              <a:ext cx="247680" cy="30240"/>
            </a:xfrm>
            <a:prstGeom prst="rect">
              <a:avLst/>
            </a:prstGeom>
            <a:solidFill>
              <a:srgbClr val="474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97440" y="3598920"/>
              <a:ext cx="247680" cy="158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797440" y="3614760"/>
              <a:ext cx="247680" cy="1584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97440" y="3630600"/>
              <a:ext cx="247680" cy="1440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97440" y="364500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97440" y="3676680"/>
              <a:ext cx="247680" cy="1584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97440" y="3692520"/>
              <a:ext cx="247680" cy="14400"/>
            </a:xfrm>
            <a:prstGeom prst="rect">
              <a:avLst/>
            </a:prstGeom>
            <a:solidFill>
              <a:srgbClr val="4a4a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97440" y="3706920"/>
              <a:ext cx="2476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7440" y="3722760"/>
              <a:ext cx="247680" cy="30240"/>
            </a:xfrm>
            <a:prstGeom prst="rect">
              <a:avLst/>
            </a:prstGeom>
            <a:solidFill>
              <a:srgbClr val="4b4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97440" y="3753000"/>
              <a:ext cx="247680" cy="158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97440" y="376884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7440" y="3784680"/>
              <a:ext cx="247680" cy="1584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97440" y="3800520"/>
              <a:ext cx="247680" cy="30240"/>
            </a:xfrm>
            <a:prstGeom prst="rect">
              <a:avLst/>
            </a:prstGeom>
            <a:solidFill>
              <a:srgbClr val="4e4e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797440" y="3830760"/>
              <a:ext cx="247680" cy="15840"/>
            </a:xfrm>
            <a:prstGeom prst="rect">
              <a:avLst/>
            </a:prstGeom>
            <a:solidFill>
              <a:srgbClr val="4f4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797440" y="3846600"/>
              <a:ext cx="247680" cy="158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797440" y="3862440"/>
              <a:ext cx="247680" cy="1440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97440" y="3876840"/>
              <a:ext cx="247680" cy="31680"/>
            </a:xfrm>
            <a:prstGeom prst="rect">
              <a:avLst/>
            </a:prstGeom>
            <a:solidFill>
              <a:srgbClr val="515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797440" y="3908520"/>
              <a:ext cx="247680" cy="14040"/>
            </a:xfrm>
            <a:prstGeom prst="rect">
              <a:avLst/>
            </a:prstGeom>
            <a:solidFill>
              <a:srgbClr val="525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97440" y="3922560"/>
              <a:ext cx="247680" cy="16200"/>
            </a:xfrm>
            <a:prstGeom prst="rect">
              <a:avLst/>
            </a:prstGeom>
            <a:solidFill>
              <a:srgbClr val="535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97440" y="3938760"/>
              <a:ext cx="247680" cy="15840"/>
            </a:xfrm>
            <a:prstGeom prst="rect">
              <a:avLst/>
            </a:prstGeom>
            <a:solidFill>
              <a:srgbClr val="545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97440" y="3954600"/>
              <a:ext cx="247680" cy="29880"/>
            </a:xfrm>
            <a:prstGeom prst="rect">
              <a:avLst/>
            </a:prstGeom>
            <a:solidFill>
              <a:srgbClr val="5555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797440" y="3984480"/>
              <a:ext cx="247680" cy="16200"/>
            </a:xfrm>
            <a:prstGeom prst="rect">
              <a:avLst/>
            </a:prstGeom>
            <a:solidFill>
              <a:srgbClr val="5656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97440" y="4000680"/>
              <a:ext cx="247680" cy="15840"/>
            </a:xfrm>
            <a:prstGeom prst="rect">
              <a:avLst/>
            </a:prstGeom>
            <a:solidFill>
              <a:srgbClr val="5858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797440" y="4016520"/>
              <a:ext cx="247680" cy="158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797440" y="4032360"/>
              <a:ext cx="247680" cy="298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797440" y="4062240"/>
              <a:ext cx="247680" cy="16200"/>
            </a:xfrm>
            <a:prstGeom prst="rect">
              <a:avLst/>
            </a:prstGeom>
            <a:solidFill>
              <a:srgbClr val="5b5b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797440" y="4078440"/>
              <a:ext cx="247680" cy="15840"/>
            </a:xfrm>
            <a:prstGeom prst="rect">
              <a:avLst/>
            </a:prstGeom>
            <a:solidFill>
              <a:srgbClr val="5c5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797440" y="4094280"/>
              <a:ext cx="247680" cy="140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97440" y="4108320"/>
              <a:ext cx="247680" cy="32040"/>
            </a:xfrm>
            <a:prstGeom prst="rect">
              <a:avLst/>
            </a:prstGeom>
            <a:solidFill>
              <a:srgbClr val="5f5f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797440" y="4140360"/>
              <a:ext cx="247680" cy="140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797440" y="4154400"/>
              <a:ext cx="247680" cy="15840"/>
            </a:xfrm>
            <a:prstGeom prst="rect">
              <a:avLst/>
            </a:prstGeom>
            <a:solidFill>
              <a:srgbClr val="616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797440" y="4170240"/>
              <a:ext cx="247680" cy="15840"/>
            </a:xfrm>
            <a:prstGeom prst="rect">
              <a:avLst/>
            </a:prstGeom>
            <a:solidFill>
              <a:srgbClr val="626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97440" y="4186080"/>
              <a:ext cx="247680" cy="302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797440" y="4216320"/>
              <a:ext cx="247680" cy="15840"/>
            </a:xfrm>
            <a:prstGeom prst="rect">
              <a:avLst/>
            </a:prstGeom>
            <a:solidFill>
              <a:srgbClr val="656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7440" y="4232160"/>
              <a:ext cx="247680" cy="15840"/>
            </a:xfrm>
            <a:prstGeom prst="rect">
              <a:avLst/>
            </a:prstGeom>
            <a:solidFill>
              <a:srgbClr val="676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797440" y="4248000"/>
              <a:ext cx="247680" cy="16200"/>
            </a:xfrm>
            <a:prstGeom prst="rect">
              <a:avLst/>
            </a:prstGeom>
            <a:solidFill>
              <a:srgbClr val="6868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797440" y="4264200"/>
              <a:ext cx="247680" cy="2988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97440" y="4294080"/>
              <a:ext cx="247680" cy="15840"/>
            </a:xfrm>
            <a:prstGeom prst="rect">
              <a:avLst/>
            </a:prstGeom>
            <a:solidFill>
              <a:srgbClr val="6b6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97440" y="4309920"/>
              <a:ext cx="247680" cy="14400"/>
            </a:xfrm>
            <a:prstGeom prst="rect">
              <a:avLst/>
            </a:prstGeom>
            <a:solidFill>
              <a:srgbClr val="6c6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797440" y="4324320"/>
              <a:ext cx="247680" cy="15840"/>
            </a:xfrm>
            <a:prstGeom prst="rect">
              <a:avLst/>
            </a:prstGeom>
            <a:solidFill>
              <a:srgbClr val="6d6d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97440" y="4340160"/>
              <a:ext cx="247680" cy="3168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7440" y="4371840"/>
              <a:ext cx="247680" cy="14400"/>
            </a:xfrm>
            <a:prstGeom prst="rect">
              <a:avLst/>
            </a:prstGeom>
            <a:solidFill>
              <a:srgbClr val="7171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797440" y="4386240"/>
              <a:ext cx="247680" cy="15840"/>
            </a:xfrm>
            <a:prstGeom prst="rect">
              <a:avLst/>
            </a:prstGeom>
            <a:solidFill>
              <a:srgbClr val="7272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797440" y="4402080"/>
              <a:ext cx="2476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797440" y="4417920"/>
              <a:ext cx="247680" cy="302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440" y="4448160"/>
              <a:ext cx="247680" cy="15840"/>
            </a:xfrm>
            <a:prstGeom prst="rect">
              <a:avLst/>
            </a:prstGeom>
            <a:solidFill>
              <a:srgbClr val="7676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97440" y="4464000"/>
              <a:ext cx="247680" cy="158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97440" y="4479840"/>
              <a:ext cx="247680" cy="1440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97440" y="4494240"/>
              <a:ext cx="247680" cy="31680"/>
            </a:xfrm>
            <a:prstGeom prst="rect">
              <a:avLst/>
            </a:prstGeom>
            <a:solidFill>
              <a:srgbClr val="7a7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7440" y="4525920"/>
              <a:ext cx="247680" cy="15840"/>
            </a:xfrm>
            <a:prstGeom prst="rect">
              <a:avLst/>
            </a:prstGeom>
            <a:solidFill>
              <a:srgbClr val="7b7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797440" y="4541760"/>
              <a:ext cx="247680" cy="14400"/>
            </a:xfrm>
            <a:prstGeom prst="rect">
              <a:avLst/>
            </a:prstGeom>
            <a:solidFill>
              <a:srgbClr val="7c7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5797440" y="4556160"/>
              <a:ext cx="247680" cy="15840"/>
            </a:xfrm>
            <a:prstGeom prst="rect">
              <a:avLst/>
            </a:prstGeom>
            <a:solidFill>
              <a:srgbClr val="7d7d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797440" y="4572000"/>
              <a:ext cx="2476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797440" y="4603680"/>
              <a:ext cx="247680" cy="14400"/>
            </a:xfrm>
            <a:prstGeom prst="rect">
              <a:avLst/>
            </a:prstGeom>
            <a:solidFill>
              <a:srgbClr val="818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797440" y="4618080"/>
              <a:ext cx="247680" cy="15840"/>
            </a:xfrm>
            <a:prstGeom prst="rect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97440" y="4633920"/>
              <a:ext cx="247680" cy="158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797440" y="4649760"/>
              <a:ext cx="247680" cy="30240"/>
            </a:xfrm>
            <a:prstGeom prst="rect">
              <a:avLst/>
            </a:prstGeom>
            <a:solidFill>
              <a:srgbClr val="848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97440" y="4680000"/>
              <a:ext cx="247680" cy="15840"/>
            </a:xfrm>
            <a:prstGeom prst="rect">
              <a:avLst/>
            </a:prstGeom>
            <a:solidFill>
              <a:srgbClr val="8585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797440" y="4695840"/>
              <a:ext cx="247680" cy="158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797440" y="4711680"/>
              <a:ext cx="247680" cy="1440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97440" y="4726080"/>
              <a:ext cx="247680" cy="31680"/>
            </a:xfrm>
            <a:prstGeom prst="rect">
              <a:avLst/>
            </a:prstGeom>
            <a:solidFill>
              <a:srgbClr val="888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97440" y="4757760"/>
              <a:ext cx="247680" cy="15840"/>
            </a:xfrm>
            <a:prstGeom prst="rect">
              <a:avLst/>
            </a:prstGeom>
            <a:solidFill>
              <a:srgbClr val="898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797440" y="4773600"/>
              <a:ext cx="247680" cy="1440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97440" y="4788000"/>
              <a:ext cx="2476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97440" y="4803840"/>
              <a:ext cx="247680" cy="30240"/>
            </a:xfrm>
            <a:prstGeom prst="rect">
              <a:avLst/>
            </a:prstGeom>
            <a:solidFill>
              <a:srgbClr val="8c8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97440" y="4834080"/>
              <a:ext cx="247680" cy="15840"/>
            </a:xfrm>
            <a:prstGeom prst="rect">
              <a:avLst/>
            </a:prstGeom>
            <a:solidFill>
              <a:srgbClr val="8d8d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797440" y="4849920"/>
              <a:ext cx="247680" cy="15840"/>
            </a:xfrm>
            <a:prstGeom prst="rect">
              <a:avLst/>
            </a:prstGeom>
            <a:solidFill>
              <a:srgbClr val="8d8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97440" y="4865760"/>
              <a:ext cx="2476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797440" y="4881600"/>
              <a:ext cx="247680" cy="3024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97440" y="4911840"/>
              <a:ext cx="247680" cy="1584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797440" y="4927680"/>
              <a:ext cx="247680" cy="1584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97440" y="4943520"/>
              <a:ext cx="247680" cy="1440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797440" y="4957920"/>
              <a:ext cx="247680" cy="3168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797440" y="4989600"/>
              <a:ext cx="247680" cy="158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005440"/>
              <a:ext cx="247680" cy="1440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797440" y="5019840"/>
              <a:ext cx="2476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97440" y="5035680"/>
              <a:ext cx="2476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97440" y="5065560"/>
              <a:ext cx="247680" cy="1620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797440" y="5081760"/>
              <a:ext cx="247680" cy="15840"/>
            </a:xfrm>
            <a:prstGeom prst="rect">
              <a:avLst/>
            </a:prstGeom>
            <a:solidFill>
              <a:srgbClr val="9494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797440" y="5097600"/>
              <a:ext cx="2476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797440" y="5113440"/>
              <a:ext cx="2476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97440" y="514368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797440" y="5159520"/>
              <a:ext cx="247680" cy="1584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97440" y="5175360"/>
              <a:ext cx="247680" cy="1404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797440" y="5189400"/>
              <a:ext cx="247680" cy="3204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97440" y="5221440"/>
              <a:ext cx="247680" cy="14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797440" y="523548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797440" y="5251320"/>
              <a:ext cx="247680" cy="158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97440" y="5267160"/>
              <a:ext cx="247680" cy="302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797440" y="5297400"/>
              <a:ext cx="247680" cy="158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797440" y="531324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797440" y="5329080"/>
              <a:ext cx="247680" cy="1620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797440" y="5345280"/>
              <a:ext cx="247680" cy="298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797440" y="5375160"/>
              <a:ext cx="2476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5797440" y="3537000"/>
            <a:ext cx="247680" cy="1854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6384960" y="4170240"/>
            <a:ext cx="245880" cy="1220760"/>
            <a:chOff x="6384960" y="4170240"/>
            <a:chExt cx="245880" cy="1220760"/>
          </a:xfrm>
        </p:grpSpPr>
        <p:sp>
          <p:nvSpPr>
            <p:cNvPr id="1330" name=""/>
            <p:cNvSpPr/>
            <p:nvPr/>
          </p:nvSpPr>
          <p:spPr>
            <a:xfrm>
              <a:off x="6384960" y="4170240"/>
              <a:ext cx="245880" cy="320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384960" y="4202280"/>
              <a:ext cx="245880" cy="14040"/>
            </a:xfrm>
            <a:prstGeom prst="rect">
              <a:avLst/>
            </a:prstGeom>
            <a:solidFill>
              <a:srgbClr val="4848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384960" y="4216320"/>
              <a:ext cx="245880" cy="3168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384960" y="4248000"/>
              <a:ext cx="245880" cy="3024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84960" y="4278240"/>
              <a:ext cx="245880" cy="15840"/>
            </a:xfrm>
            <a:prstGeom prst="rect">
              <a:avLst/>
            </a:prstGeom>
            <a:solidFill>
              <a:srgbClr val="4a4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384960" y="4294080"/>
              <a:ext cx="245880" cy="30240"/>
            </a:xfrm>
            <a:prstGeom prst="rect">
              <a:avLst/>
            </a:prstGeom>
            <a:solidFill>
              <a:srgbClr val="4c4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84960" y="4324320"/>
              <a:ext cx="245880" cy="31680"/>
            </a:xfrm>
            <a:prstGeom prst="rect">
              <a:avLst/>
            </a:prstGeom>
            <a:solidFill>
              <a:srgbClr val="4d4d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84960" y="4356000"/>
              <a:ext cx="245880" cy="15840"/>
            </a:xfrm>
            <a:prstGeom prst="rect">
              <a:avLst/>
            </a:prstGeom>
            <a:solidFill>
              <a:srgbClr val="4e4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84960" y="4371840"/>
              <a:ext cx="245880" cy="30240"/>
            </a:xfrm>
            <a:prstGeom prst="rect">
              <a:avLst/>
            </a:prstGeom>
            <a:solidFill>
              <a:srgbClr val="5050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84960" y="4402080"/>
              <a:ext cx="245880" cy="15840"/>
            </a:xfrm>
            <a:prstGeom prst="rect">
              <a:avLst/>
            </a:prstGeom>
            <a:solidFill>
              <a:srgbClr val="5252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384960" y="4417920"/>
              <a:ext cx="245880" cy="30240"/>
            </a:xfrm>
            <a:prstGeom prst="rect">
              <a:avLst/>
            </a:prstGeom>
            <a:solidFill>
              <a:srgbClr val="545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384960" y="4448160"/>
              <a:ext cx="245880" cy="31680"/>
            </a:xfrm>
            <a:prstGeom prst="rect">
              <a:avLst/>
            </a:prstGeom>
            <a:solidFill>
              <a:srgbClr val="5656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384960" y="4479840"/>
              <a:ext cx="245880" cy="1440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384960" y="4494240"/>
              <a:ext cx="245880" cy="31680"/>
            </a:xfrm>
            <a:prstGeom prst="rect">
              <a:avLst/>
            </a:prstGeom>
            <a:solidFill>
              <a:srgbClr val="5a5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384960" y="4525920"/>
              <a:ext cx="2458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384960" y="4556160"/>
              <a:ext cx="245880" cy="15840"/>
            </a:xfrm>
            <a:prstGeom prst="rect">
              <a:avLst/>
            </a:prstGeom>
            <a:solidFill>
              <a:srgbClr val="5f5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84960" y="4572000"/>
              <a:ext cx="245880" cy="31680"/>
            </a:xfrm>
            <a:prstGeom prst="rect">
              <a:avLst/>
            </a:prstGeom>
            <a:solidFill>
              <a:srgbClr val="626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384960" y="4603680"/>
              <a:ext cx="245880" cy="30240"/>
            </a:xfrm>
            <a:prstGeom prst="rect">
              <a:avLst/>
            </a:prstGeom>
            <a:solidFill>
              <a:srgbClr val="656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384960" y="4633920"/>
              <a:ext cx="245880" cy="15840"/>
            </a:xfrm>
            <a:prstGeom prst="rect">
              <a:avLst/>
            </a:prstGeom>
            <a:solidFill>
              <a:srgbClr val="676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384960" y="4649760"/>
              <a:ext cx="245880" cy="30240"/>
            </a:xfrm>
            <a:prstGeom prst="rect">
              <a:avLst/>
            </a:prstGeom>
            <a:solidFill>
              <a:srgbClr val="6a6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384960" y="4680000"/>
              <a:ext cx="245880" cy="31680"/>
            </a:xfrm>
            <a:prstGeom prst="rect">
              <a:avLst/>
            </a:prstGeom>
            <a:solidFill>
              <a:srgbClr val="6e6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384960" y="4711680"/>
              <a:ext cx="245880" cy="1440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384960" y="4726080"/>
              <a:ext cx="245880" cy="31680"/>
            </a:xfrm>
            <a:prstGeom prst="rect">
              <a:avLst/>
            </a:prstGeom>
            <a:solidFill>
              <a:srgbClr val="727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384960" y="4757760"/>
              <a:ext cx="245880" cy="15840"/>
            </a:xfrm>
            <a:prstGeom prst="rect">
              <a:avLst/>
            </a:prstGeom>
            <a:solidFill>
              <a:srgbClr val="757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384960" y="4773600"/>
              <a:ext cx="245880" cy="30240"/>
            </a:xfrm>
            <a:prstGeom prst="rect">
              <a:avLst/>
            </a:prstGeom>
            <a:solidFill>
              <a:srgbClr val="787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84960" y="4803840"/>
              <a:ext cx="245880" cy="30240"/>
            </a:xfrm>
            <a:prstGeom prst="rect">
              <a:avLst/>
            </a:prstGeom>
            <a:solidFill>
              <a:srgbClr val="7b7b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84960" y="4834080"/>
              <a:ext cx="245880" cy="158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84960" y="4849920"/>
              <a:ext cx="245880" cy="31680"/>
            </a:xfrm>
            <a:prstGeom prst="rect">
              <a:avLst/>
            </a:prstGeom>
            <a:solidFill>
              <a:srgbClr val="7f7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84960" y="4881600"/>
              <a:ext cx="245880" cy="30240"/>
            </a:xfrm>
            <a:prstGeom prst="rect">
              <a:avLst/>
            </a:prstGeom>
            <a:solidFill>
              <a:srgbClr val="8282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4960" y="4911840"/>
              <a:ext cx="245880" cy="15840"/>
            </a:xfrm>
            <a:prstGeom prst="rect">
              <a:avLst/>
            </a:prstGeom>
            <a:solidFill>
              <a:srgbClr val="848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84960" y="4927680"/>
              <a:ext cx="245880" cy="30240"/>
            </a:xfrm>
            <a:prstGeom prst="rect">
              <a:avLst/>
            </a:prstGeom>
            <a:solidFill>
              <a:srgbClr val="8686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84960" y="4957920"/>
              <a:ext cx="245880" cy="31680"/>
            </a:xfrm>
            <a:prstGeom prst="rect">
              <a:avLst/>
            </a:prstGeom>
            <a:solidFill>
              <a:srgbClr val="8989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4960" y="4989600"/>
              <a:ext cx="245880" cy="15840"/>
            </a:xfrm>
            <a:prstGeom prst="rect">
              <a:avLst/>
            </a:prstGeom>
            <a:solidFill>
              <a:srgbClr val="8a8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4960" y="5005440"/>
              <a:ext cx="245880" cy="302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84960" y="5035680"/>
              <a:ext cx="245880" cy="2988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84960" y="5065560"/>
              <a:ext cx="245880" cy="16200"/>
            </a:xfrm>
            <a:prstGeom prst="rect">
              <a:avLst/>
            </a:prstGeom>
            <a:solidFill>
              <a:srgbClr val="8f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84960" y="5081760"/>
              <a:ext cx="245880" cy="31680"/>
            </a:xfrm>
            <a:prstGeom prst="rect">
              <a:avLst/>
            </a:prstGeom>
            <a:solidFill>
              <a:srgbClr val="909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384960" y="5113440"/>
              <a:ext cx="245880" cy="30240"/>
            </a:xfrm>
            <a:prstGeom prst="rect">
              <a:avLst/>
            </a:prstGeom>
            <a:solidFill>
              <a:srgbClr val="9292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84960" y="5143680"/>
              <a:ext cx="245880" cy="15840"/>
            </a:xfrm>
            <a:prstGeom prst="rect">
              <a:avLst/>
            </a:prstGeom>
            <a:solidFill>
              <a:srgbClr val="939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384960" y="5159520"/>
              <a:ext cx="245880" cy="29880"/>
            </a:xfrm>
            <a:prstGeom prst="rect">
              <a:avLst/>
            </a:prstGeom>
            <a:solidFill>
              <a:srgbClr val="949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384960" y="5189400"/>
              <a:ext cx="245880" cy="15840"/>
            </a:xfrm>
            <a:prstGeom prst="rect">
              <a:avLst/>
            </a:prstGeom>
            <a:solidFill>
              <a:srgbClr val="959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384960" y="5205240"/>
              <a:ext cx="245880" cy="3024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384960" y="5235480"/>
              <a:ext cx="245880" cy="31680"/>
            </a:xfrm>
            <a:prstGeom prst="rect">
              <a:avLst/>
            </a:prstGeom>
            <a:solidFill>
              <a:srgbClr val="9696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84960" y="526716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384960" y="5283360"/>
              <a:ext cx="245880" cy="2988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384960" y="5313240"/>
              <a:ext cx="245880" cy="32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384960" y="5345280"/>
              <a:ext cx="245880" cy="140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84960" y="5359320"/>
              <a:ext cx="2458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6384960" y="4170240"/>
            <a:ext cx="245880" cy="1220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9" name=""/>
          <p:cNvGrpSpPr/>
          <p:nvPr/>
        </p:nvGrpSpPr>
        <p:grpSpPr>
          <a:xfrm>
            <a:off x="6970680" y="4572000"/>
            <a:ext cx="247680" cy="819000"/>
            <a:chOff x="6970680" y="4572000"/>
            <a:chExt cx="247680" cy="819000"/>
          </a:xfrm>
        </p:grpSpPr>
        <p:sp>
          <p:nvSpPr>
            <p:cNvPr id="1380" name=""/>
            <p:cNvSpPr/>
            <p:nvPr/>
          </p:nvSpPr>
          <p:spPr>
            <a:xfrm>
              <a:off x="6970680" y="4572000"/>
              <a:ext cx="247680" cy="3168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970680" y="4603680"/>
              <a:ext cx="247680" cy="14400"/>
            </a:xfrm>
            <a:prstGeom prst="rect">
              <a:avLst/>
            </a:prstGeom>
            <a:solidFill>
              <a:srgbClr val="484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70680" y="4618080"/>
              <a:ext cx="247680" cy="31680"/>
            </a:xfrm>
            <a:prstGeom prst="rect">
              <a:avLst/>
            </a:prstGeom>
            <a:solidFill>
              <a:srgbClr val="494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70680" y="4649760"/>
              <a:ext cx="247680" cy="30240"/>
            </a:xfrm>
            <a:prstGeom prst="rect">
              <a:avLst/>
            </a:prstGeom>
            <a:solidFill>
              <a:srgbClr val="4b4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70680" y="4680000"/>
              <a:ext cx="247680" cy="1584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70680" y="4695840"/>
              <a:ext cx="247680" cy="30240"/>
            </a:xfrm>
            <a:prstGeom prst="rect">
              <a:avLst/>
            </a:prstGeom>
            <a:solidFill>
              <a:srgbClr val="4f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970680" y="4726080"/>
              <a:ext cx="247680" cy="31680"/>
            </a:xfrm>
            <a:prstGeom prst="rect">
              <a:avLst/>
            </a:prstGeom>
            <a:solidFill>
              <a:srgbClr val="535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970680" y="4757760"/>
              <a:ext cx="247680" cy="15840"/>
            </a:xfrm>
            <a:prstGeom prst="rect">
              <a:avLst/>
            </a:prstGeom>
            <a:solidFill>
              <a:srgbClr val="5555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970680" y="4773600"/>
              <a:ext cx="247680" cy="30240"/>
            </a:xfrm>
            <a:prstGeom prst="rect">
              <a:avLst/>
            </a:prstGeom>
            <a:solidFill>
              <a:srgbClr val="5858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970680" y="4803840"/>
              <a:ext cx="247680" cy="30240"/>
            </a:xfrm>
            <a:prstGeom prst="rect">
              <a:avLst/>
            </a:prstGeom>
            <a:solidFill>
              <a:srgbClr val="5d5d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70680" y="4834080"/>
              <a:ext cx="247680" cy="15840"/>
            </a:xfrm>
            <a:prstGeom prst="rect">
              <a:avLst/>
            </a:prstGeom>
            <a:solidFill>
              <a:srgbClr val="606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970680" y="4849920"/>
              <a:ext cx="247680" cy="3168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970680" y="4881600"/>
              <a:ext cx="247680" cy="30240"/>
            </a:xfrm>
            <a:prstGeom prst="rect">
              <a:avLst/>
            </a:prstGeom>
            <a:solidFill>
              <a:srgbClr val="696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70680" y="4911840"/>
              <a:ext cx="247680" cy="15840"/>
            </a:xfrm>
            <a:prstGeom prst="rect">
              <a:avLst/>
            </a:prstGeom>
            <a:solidFill>
              <a:srgbClr val="6d6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70680" y="4927680"/>
              <a:ext cx="247680" cy="30240"/>
            </a:xfrm>
            <a:prstGeom prst="rect">
              <a:avLst/>
            </a:prstGeom>
            <a:solidFill>
              <a:srgbClr val="707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970680" y="4957920"/>
              <a:ext cx="247680" cy="15840"/>
            </a:xfrm>
            <a:prstGeom prst="rect">
              <a:avLst/>
            </a:prstGeom>
            <a:solidFill>
              <a:srgbClr val="7474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70680" y="4973760"/>
              <a:ext cx="247680" cy="31680"/>
            </a:xfrm>
            <a:prstGeom prst="rect">
              <a:avLst/>
            </a:prstGeom>
            <a:solidFill>
              <a:srgbClr val="787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970680" y="5005440"/>
              <a:ext cx="247680" cy="30240"/>
            </a:xfrm>
            <a:prstGeom prst="rect">
              <a:avLst/>
            </a:prstGeom>
            <a:solidFill>
              <a:srgbClr val="7d7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970680" y="5035680"/>
              <a:ext cx="247680" cy="15840"/>
            </a:xfrm>
            <a:prstGeom prst="rect">
              <a:avLst/>
            </a:prstGeom>
            <a:solidFill>
              <a:srgbClr val="8080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70680" y="5051520"/>
              <a:ext cx="247680" cy="30240"/>
            </a:xfrm>
            <a:prstGeom prst="rect">
              <a:avLst/>
            </a:prstGeom>
            <a:solidFill>
              <a:srgbClr val="8383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0680" y="5081760"/>
              <a:ext cx="247680" cy="3168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970680" y="5113440"/>
              <a:ext cx="247680" cy="14040"/>
            </a:xfrm>
            <a:prstGeom prst="rect">
              <a:avLst/>
            </a:prstGeom>
            <a:solidFill>
              <a:srgbClr val="8a8a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0680" y="5127480"/>
              <a:ext cx="247680" cy="32040"/>
            </a:xfrm>
            <a:prstGeom prst="rect">
              <a:avLst/>
            </a:prstGeom>
            <a:solidFill>
              <a:srgbClr val="8c8c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970680" y="5159520"/>
              <a:ext cx="247680" cy="29880"/>
            </a:xfrm>
            <a:prstGeom prst="rect">
              <a:avLst/>
            </a:prstGeom>
            <a:solidFill>
              <a:srgbClr val="8f8f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70680" y="5189400"/>
              <a:ext cx="247680" cy="15840"/>
            </a:xfrm>
            <a:prstGeom prst="rect">
              <a:avLst/>
            </a:prstGeom>
            <a:solidFill>
              <a:srgbClr val="919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970680" y="5205240"/>
              <a:ext cx="247680" cy="30240"/>
            </a:xfrm>
            <a:prstGeom prst="rect">
              <a:avLst/>
            </a:prstGeom>
            <a:solidFill>
              <a:srgbClr val="929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70680" y="5235480"/>
              <a:ext cx="247680" cy="31680"/>
            </a:xfrm>
            <a:prstGeom prst="rect">
              <a:avLst/>
            </a:prstGeom>
            <a:solidFill>
              <a:srgbClr val="94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0680" y="5267160"/>
              <a:ext cx="247680" cy="1620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70680" y="5283360"/>
              <a:ext cx="247680" cy="29880"/>
            </a:xfrm>
            <a:prstGeom prst="rect">
              <a:avLst/>
            </a:prstGeom>
            <a:solidFill>
              <a:srgbClr val="969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70680" y="5313240"/>
              <a:ext cx="247680" cy="32040"/>
            </a:xfrm>
            <a:prstGeom prst="rect">
              <a:avLst/>
            </a:prstGeom>
            <a:solidFill>
              <a:srgbClr val="979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970680" y="5345280"/>
              <a:ext cx="247680" cy="1404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970680" y="5359320"/>
              <a:ext cx="247680" cy="3168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6970680" y="4572000"/>
            <a:ext cx="247680" cy="8190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7558200" y="4849920"/>
            <a:ext cx="245880" cy="541080"/>
            <a:chOff x="7558200" y="4849920"/>
            <a:chExt cx="245880" cy="541080"/>
          </a:xfrm>
        </p:grpSpPr>
        <p:sp>
          <p:nvSpPr>
            <p:cNvPr id="1414" name=""/>
            <p:cNvSpPr/>
            <p:nvPr/>
          </p:nvSpPr>
          <p:spPr>
            <a:xfrm>
              <a:off x="7558200" y="4849920"/>
              <a:ext cx="245880" cy="15840"/>
            </a:xfrm>
            <a:prstGeom prst="rect">
              <a:avLst/>
            </a:prstGeom>
            <a:solidFill>
              <a:srgbClr val="474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558200" y="4865760"/>
              <a:ext cx="245880" cy="30240"/>
            </a:xfrm>
            <a:prstGeom prst="rect">
              <a:avLst/>
            </a:prstGeom>
            <a:solidFill>
              <a:srgbClr val="4848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58200" y="4896000"/>
              <a:ext cx="245880" cy="15840"/>
            </a:xfrm>
            <a:prstGeom prst="rect">
              <a:avLst/>
            </a:prstGeom>
            <a:solidFill>
              <a:srgbClr val="4b4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558200" y="4911840"/>
              <a:ext cx="245880" cy="31680"/>
            </a:xfrm>
            <a:prstGeom prst="rect">
              <a:avLst/>
            </a:prstGeom>
            <a:solidFill>
              <a:srgbClr val="4d4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558200" y="4943520"/>
              <a:ext cx="245880" cy="14400"/>
            </a:xfrm>
            <a:prstGeom prst="rect">
              <a:avLst/>
            </a:prstGeom>
            <a:solidFill>
              <a:srgbClr val="5151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558200" y="4957920"/>
              <a:ext cx="245880" cy="31680"/>
            </a:xfrm>
            <a:prstGeom prst="rect">
              <a:avLst/>
            </a:prstGeom>
            <a:solidFill>
              <a:srgbClr val="5555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558200" y="4989600"/>
              <a:ext cx="245880" cy="15840"/>
            </a:xfrm>
            <a:prstGeom prst="rect">
              <a:avLst/>
            </a:prstGeom>
            <a:solidFill>
              <a:srgbClr val="595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558200" y="5005440"/>
              <a:ext cx="245880" cy="30240"/>
            </a:xfrm>
            <a:prstGeom prst="rect">
              <a:avLst/>
            </a:prstGeom>
            <a:solidFill>
              <a:srgbClr val="5e5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558200" y="5035680"/>
              <a:ext cx="245880" cy="15840"/>
            </a:xfrm>
            <a:prstGeom prst="rect">
              <a:avLst/>
            </a:prstGeom>
            <a:solidFill>
              <a:srgbClr val="6464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558200" y="5051520"/>
              <a:ext cx="245880" cy="30240"/>
            </a:xfrm>
            <a:prstGeom prst="rect">
              <a:avLst/>
            </a:prstGeom>
            <a:solidFill>
              <a:srgbClr val="696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558200" y="5081760"/>
              <a:ext cx="245880" cy="15840"/>
            </a:xfrm>
            <a:prstGeom prst="rect">
              <a:avLst/>
            </a:prstGeom>
            <a:solidFill>
              <a:srgbClr val="6f6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558200" y="5097600"/>
              <a:ext cx="245880" cy="15840"/>
            </a:xfrm>
            <a:prstGeom prst="rect">
              <a:avLst/>
            </a:prstGeom>
            <a:solidFill>
              <a:srgbClr val="7373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7558200" y="5113440"/>
              <a:ext cx="245880" cy="30240"/>
            </a:xfrm>
            <a:prstGeom prst="rect">
              <a:avLst/>
            </a:prstGeom>
            <a:solidFill>
              <a:srgbClr val="797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7558200" y="5143680"/>
              <a:ext cx="245880" cy="15840"/>
            </a:xfrm>
            <a:prstGeom prst="rect">
              <a:avLst/>
            </a:prstGeom>
            <a:solidFill>
              <a:srgbClr val="7e7e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558200" y="5159520"/>
              <a:ext cx="245880" cy="29880"/>
            </a:xfrm>
            <a:prstGeom prst="rect">
              <a:avLst/>
            </a:prstGeom>
            <a:solidFill>
              <a:srgbClr val="8383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558200" y="5189400"/>
              <a:ext cx="245880" cy="15840"/>
            </a:xfrm>
            <a:prstGeom prst="rect">
              <a:avLst/>
            </a:prstGeom>
            <a:solidFill>
              <a:srgbClr val="8787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558200" y="5205240"/>
              <a:ext cx="245880" cy="30240"/>
            </a:xfrm>
            <a:prstGeom prst="rect">
              <a:avLst/>
            </a:prstGeom>
            <a:solidFill>
              <a:srgbClr val="8b8b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558200" y="5235480"/>
              <a:ext cx="245880" cy="15840"/>
            </a:xfrm>
            <a:prstGeom prst="rect">
              <a:avLst/>
            </a:prstGeom>
            <a:solidFill>
              <a:srgbClr val="8e8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558200" y="5251320"/>
              <a:ext cx="245880" cy="32040"/>
            </a:xfrm>
            <a:prstGeom prst="rect">
              <a:avLst/>
            </a:prstGeom>
            <a:solidFill>
              <a:srgbClr val="9191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558200" y="5283360"/>
              <a:ext cx="245880" cy="14040"/>
            </a:xfrm>
            <a:prstGeom prst="rect">
              <a:avLst/>
            </a:prstGeom>
            <a:solidFill>
              <a:srgbClr val="939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558200" y="5297400"/>
              <a:ext cx="245880" cy="31680"/>
            </a:xfrm>
            <a:prstGeom prst="rect">
              <a:avLst/>
            </a:prstGeom>
            <a:solidFill>
              <a:srgbClr val="959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58200" y="5329080"/>
              <a:ext cx="245880" cy="16200"/>
            </a:xfrm>
            <a:prstGeom prst="rect">
              <a:avLst/>
            </a:prstGeom>
            <a:solidFill>
              <a:srgbClr val="9797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558200" y="5345280"/>
              <a:ext cx="245880" cy="29880"/>
            </a:xfrm>
            <a:prstGeom prst="rect">
              <a:avLst/>
            </a:prstGeom>
            <a:solidFill>
              <a:srgbClr val="9898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558200" y="5375160"/>
              <a:ext cx="245880" cy="15840"/>
            </a:xfrm>
            <a:prstGeom prst="rect">
              <a:avLst/>
            </a:prstGeom>
            <a:solidFill>
              <a:srgbClr val="989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7558200" y="4849920"/>
            <a:ext cx="245880" cy="5410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536840" y="2301840"/>
            <a:ext cx="1440" cy="3089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474920" y="53910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474920" y="49435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74920" y="45100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74920" y="40622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74920" y="36306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74920" y="31813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474920" y="274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474920" y="230184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536840" y="5391000"/>
            <a:ext cx="7024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15368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12400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27097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2972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8829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V="1">
            <a:off x="44704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V="1">
            <a:off x="50562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V="1">
            <a:off x="562752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621504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V="1">
            <a:off x="6800760" y="53910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38828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797400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8561520" y="53910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74060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32668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91384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499560" y="2332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31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338880" y="3892680"/>
            <a:ext cx="37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5,7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970680" y="4294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0,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558200" y="45720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5,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02240" y="5113440"/>
            <a:ext cx="20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5815800" y="32590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1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5244480" y="299736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4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672800" y="281160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6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087080" y="2641680"/>
            <a:ext cx="28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8,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316160" y="52833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316160" y="48340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211040" y="4402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211040" y="395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1040" y="352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211040" y="3073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211040" y="264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211040" y="219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rot="16200000">
            <a:off x="16221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22096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 rot="16200000">
            <a:off x="27954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rot="16200000">
            <a:off x="33825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16200000">
            <a:off x="39686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rot="16200000">
            <a:off x="45558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rot="16200000">
            <a:off x="512748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57132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rot="16200000">
            <a:off x="630036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rot="16200000">
            <a:off x="688644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rot="16200000">
            <a:off x="747360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8059320" y="5605200"/>
            <a:ext cx="40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rot="16200000">
            <a:off x="-147600" y="3630600"/>
            <a:ext cx="21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% ARANCEL IMPO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1280" y="1978200"/>
            <a:ext cx="8088120" cy="4184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6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753840" y="630864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499" name="" descr=""/>
            <p:cNvPicPr/>
            <p:nvPr/>
          </p:nvPicPr>
          <p:blipFill>
            <a:blip r:embed="rId2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1628640"/>
          <a:ext cx="8893080" cy="47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628640"/>
                    <a:ext cx="889308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VOLUCIÓN TASA INTERÉS CHILE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N" descr=""/>
          <p:cNvPicPr/>
          <p:nvPr/>
        </p:nvPicPr>
        <p:blipFill>
          <a:blip r:embed="rId3"/>
          <a:stretch/>
        </p:blipFill>
        <p:spPr>
          <a:xfrm>
            <a:off x="0" y="0"/>
            <a:ext cx="1324080" cy="1628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49520" y="6381720"/>
            <a:ext cx="288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Banco Central de Chil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01080" y="0"/>
            <a:ext cx="1001520" cy="1587600"/>
            <a:chOff x="8101080" y="0"/>
            <a:chExt cx="1001520" cy="1587600"/>
          </a:xfrm>
        </p:grpSpPr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8101080" y="0"/>
              <a:ext cx="1001520" cy="1587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CEITES Y OLEAGINO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CEITES PUROS: ARANCEL CERO INMEDIATO, CON EXCEPCIÓN DEL ACEITE DE RAPS O CAN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MANTIENE LA BANDA DE PRECIOS MODIFICADA DE ACUERDO A LAS EXIGENCIAS OMC POR 12 AÑOS, CON DESGRAVACIÓN IGUAL A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2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3" name=""/>
          <p:cNvGrpSpPr/>
          <p:nvPr/>
        </p:nvGrpSpPr>
        <p:grpSpPr>
          <a:xfrm>
            <a:off x="8288280" y="0"/>
            <a:ext cx="823320" cy="1377000"/>
            <a:chOff x="8288280" y="0"/>
            <a:chExt cx="823320" cy="1377000"/>
          </a:xfrm>
        </p:grpSpPr>
        <p:pic>
          <p:nvPicPr>
            <p:cNvPr id="1504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23320" cy="1377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ZÚ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  MANTIENE LA BANDA O ARANCEL CONSOLIDADO ANTE LA OMC POR 12 AÑOS, SEGÚN PLAZOS Y DESGRAVACIONES SIMILARES AL CASO DEL TRI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XISTENCIA DE CLÁUSULA, QUE OBLIGA A CHILE A SER EXCEDENTARIO EN AZÚCAR, PARA PODER EXPOR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7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08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09" name="" descr=""/>
            <p:cNvPicPr/>
            <p:nvPr/>
          </p:nvPicPr>
          <p:blipFill>
            <a:blip r:embed="rId2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SGRAVACIÓN AZÚCAR CON ACUERDO 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1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800600"/>
          </a:xfrm>
          <a:prstGeom prst="rect">
            <a:avLst/>
          </a:prstGeom>
          <a:ln w="0">
            <a:noFill/>
          </a:ln>
        </p:spPr>
      </p:pic>
      <p:pic>
        <p:nvPicPr>
          <p:cNvPr id="1512" name="BN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sp>
        <p:nvSpPr>
          <p:cNvPr id="1513" name=""/>
          <p:cNvSpPr/>
          <p:nvPr/>
        </p:nvSpPr>
        <p:spPr>
          <a:xfrm>
            <a:off x="609480" y="63817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15" name="" descr=""/>
            <p:cNvPicPr/>
            <p:nvPr/>
          </p:nvPicPr>
          <p:blipFill>
            <a:blip r:embed="rId3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ESGRAVACIÓ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HILE - EEU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DESGRAV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8" name="BN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244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1519" name=""/>
          <p:cNvGrpSpPr/>
          <p:nvPr/>
        </p:nvGrpSpPr>
        <p:grpSpPr>
          <a:xfrm>
            <a:off x="7975440" y="0"/>
            <a:ext cx="1124280" cy="1881360"/>
            <a:chOff x="7975440" y="0"/>
            <a:chExt cx="1124280" cy="1881360"/>
          </a:xfrm>
        </p:grpSpPr>
        <p:pic>
          <p:nvPicPr>
            <p:cNvPr id="1520" name="" descr=""/>
            <p:cNvPicPr/>
            <p:nvPr/>
          </p:nvPicPr>
          <p:blipFill>
            <a:blip r:embed="rId2"/>
            <a:stretch/>
          </p:blipFill>
          <p:spPr>
            <a:xfrm>
              <a:off x="7975440" y="0"/>
              <a:ext cx="1124280" cy="188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1" name=""/>
          <p:cNvGraphicFramePr/>
          <p:nvPr/>
        </p:nvGraphicFramePr>
        <p:xfrm>
          <a:off x="914400" y="2327400"/>
          <a:ext cx="7238880" cy="31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27400"/>
                    <a:ext cx="72388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5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27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917640" y="2276640"/>
          <a:ext cx="8043840" cy="39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2276640"/>
                    <a:ext cx="80438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1" name=""/>
          <p:cNvSpPr/>
          <p:nvPr/>
        </p:nvSpPr>
        <p:spPr>
          <a:xfrm>
            <a:off x="1065240" y="61722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2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33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34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6" name=""/>
          <p:cNvGraphicFramePr/>
          <p:nvPr/>
        </p:nvGraphicFramePr>
        <p:xfrm>
          <a:off x="762120" y="2216160"/>
          <a:ext cx="70866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16160"/>
                    <a:ext cx="7086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8" name=""/>
          <p:cNvSpPr/>
          <p:nvPr/>
        </p:nvSpPr>
        <p:spPr>
          <a:xfrm>
            <a:off x="760320" y="624852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9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0" name=""/>
          <p:cNvGrpSpPr/>
          <p:nvPr/>
        </p:nvGrpSpPr>
        <p:grpSpPr>
          <a:xfrm>
            <a:off x="8245440" y="0"/>
            <a:ext cx="864360" cy="1446480"/>
            <a:chOff x="8245440" y="0"/>
            <a:chExt cx="864360" cy="1446480"/>
          </a:xfrm>
        </p:grpSpPr>
        <p:pic>
          <p:nvPicPr>
            <p:cNvPr id="1541" name="" descr=""/>
            <p:cNvPicPr/>
            <p:nvPr/>
          </p:nvPicPr>
          <p:blipFill>
            <a:blip r:embed="rId4"/>
            <a:stretch/>
          </p:blipFill>
          <p:spPr>
            <a:xfrm>
              <a:off x="8245440" y="0"/>
              <a:ext cx="864360" cy="144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3" name=""/>
          <p:cNvGraphicFramePr/>
          <p:nvPr/>
        </p:nvGraphicFramePr>
        <p:xfrm>
          <a:off x="762120" y="2757600"/>
          <a:ext cx="7543800" cy="259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57600"/>
                    <a:ext cx="7543800" cy="25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5" name=""/>
          <p:cNvSpPr/>
          <p:nvPr/>
        </p:nvSpPr>
        <p:spPr>
          <a:xfrm>
            <a:off x="836640" y="568476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6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47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48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0" name=""/>
          <p:cNvGraphicFramePr/>
          <p:nvPr/>
        </p:nvGraphicFramePr>
        <p:xfrm>
          <a:off x="457200" y="2776680"/>
          <a:ext cx="7772400" cy="281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776680"/>
                    <a:ext cx="7772400" cy="28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2" name=""/>
          <p:cNvSpPr/>
          <p:nvPr/>
        </p:nvSpPr>
        <p:spPr>
          <a:xfrm>
            <a:off x="45540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3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54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55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000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ITUACIÓN ARANCELARIA DE PRODUCTOS ACUERDO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ILE-EEU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7" name=""/>
          <p:cNvGraphicFramePr/>
          <p:nvPr/>
        </p:nvGraphicFramePr>
        <p:xfrm>
          <a:off x="1219320" y="2695680"/>
          <a:ext cx="670536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95680"/>
                    <a:ext cx="670536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9" name=""/>
          <p:cNvSpPr/>
          <p:nvPr/>
        </p:nvSpPr>
        <p:spPr>
          <a:xfrm>
            <a:off x="1293840" y="571500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Fuente: DIRECON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0" name="BN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334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561" name=""/>
          <p:cNvGrpSpPr/>
          <p:nvPr/>
        </p:nvGrpSpPr>
        <p:grpSpPr>
          <a:xfrm>
            <a:off x="8201160" y="0"/>
            <a:ext cx="906840" cy="1517760"/>
            <a:chOff x="8201160" y="0"/>
            <a:chExt cx="906840" cy="1517760"/>
          </a:xfrm>
        </p:grpSpPr>
        <p:pic>
          <p:nvPicPr>
            <p:cNvPr id="1562" name="" descr=""/>
            <p:cNvPicPr/>
            <p:nvPr/>
          </p:nvPicPr>
          <p:blipFill>
            <a:blip r:embed="rId4"/>
            <a:stretch/>
          </p:blipFill>
          <p:spPr>
            <a:xfrm>
              <a:off x="8201160" y="0"/>
              <a:ext cx="906840" cy="15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25:50Z</dcterms:created>
  <dc:creator>Carlos Arancibia</dc:creator>
  <dc:description/>
  <dc:language>en-US</dc:language>
  <cp:lastModifiedBy>Varinia Goldstein</cp:lastModifiedBy>
  <cp:lastPrinted>2003-04-03T19:56:17Z</cp:lastPrinted>
  <dcterms:modified xsi:type="dcterms:W3CDTF">2004-12-01T22:36:20Z</dcterms:modified>
  <cp:revision>86</cp:revision>
  <dc:subject/>
  <dc:title>Sin título de diapositiva</dc:title>
</cp:coreProperties>
</file>