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5.wmf" ContentType="image/x-wmf"/>
  <Override PartName="/ppt/media/image25.png" ContentType="image/png"/>
  <Override PartName="/ppt/media/image2.png" ContentType="image/png"/>
  <Override PartName="/ppt/media/image37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4.png" ContentType="image/png"/>
  <Override PartName="/ppt/media/image45.wmf" ContentType="image/x-wmf"/>
  <Override PartName="/ppt/media/image46.wmf" ContentType="image/x-wmf"/>
  <Override PartName="/ppt/media/image48.wmf" ContentType="image/x-wmf"/>
  <Override PartName="/ppt/media/image50.wmf" ContentType="image/x-wmf"/>
  <Override PartName="/ppt/media/image52.wmf" ContentType="image/x-wmf"/>
  <Override PartName="/ppt/media/image15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9.wmf" ContentType="image/x-wmf"/>
  <Override PartName="/ppt/media/image9.wmf" ContentType="image/x-wmf"/>
  <Override PartName="/ppt/media/image28.png" ContentType="image/png"/>
  <Override PartName="/ppt/media/image31.wmf" ContentType="image/x-wmf"/>
  <Override PartName="/ppt/media/image51.wmf" ContentType="image/x-wmf"/>
  <Override PartName="/ppt/media/image11.png" ContentType="image/png"/>
  <Override PartName="/ppt/media/image7.png" ContentType="image/png"/>
  <Override PartName="/ppt/media/image40.wmf" ContentType="image/x-wmf"/>
  <Override PartName="/ppt/media/image38.wmf" ContentType="image/x-wmf"/>
  <Override PartName="/ppt/media/image8.wmf" ContentType="image/x-wmf"/>
  <Override PartName="/ppt/media/image6.wmf" ContentType="image/x-wmf"/>
  <Override PartName="/ppt/media/image36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8E19-6E6F-4E81-9F93-D9EFC42D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ACA4-A616-41A9-830E-F8AF6E01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F4A0-B245-4AE0-BB8E-FD21A569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4EC7-547E-43E6-A466-FFA0641F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9D26-D827-4F83-ABE3-461D2E01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3DCB-4ACA-4BC4-A62D-F48949CB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8218-549B-4FF7-BBE5-13B5EE0B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D15-7143-4557-A66A-668ABE5F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0D79-D9AD-4E5C-9E8A-8CF57705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2AB8-0FE5-4974-9B03-D4A4A472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981D-10D5-429E-B3DC-2AE4D2D7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4D13-FA42-4B55-83FC-C7D9A5C6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5CC9-612A-4288-BB01-255922DE1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www.terrandina.cl/espanol/portada_alto.htm" TargetMode="External"/><Relationship Id="rId2" Type="http://schemas.openxmlformats.org/officeDocument/2006/relationships/hyperlink" Target="http://www.terrandina.cl/espanol/portada_alto.htm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ONES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41148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GUSTAVO ROJAS LE-B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ROFESOR FAC. AGRONOMÍA 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482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7650000" y="260280"/>
            <a:ext cx="1191600" cy="1616400"/>
            <a:chOff x="7650000" y="260280"/>
            <a:chExt cx="1191600" cy="161640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7650000" y="260280"/>
              <a:ext cx="1191600" cy="161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ARANCEL ADUANERO CHIL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62120" y="1655640"/>
          <a:ext cx="7848360" cy="447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55640"/>
                    <a:ext cx="7848360" cy="44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908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Times New Roman"/>
              </a:rPr>
              <a:t>6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8172360" y="0"/>
            <a:ext cx="930240" cy="1379520"/>
            <a:chOff x="8172360" y="0"/>
            <a:chExt cx="930240" cy="137952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37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4" name=""/>
          <p:cNvGraphicFramePr/>
          <p:nvPr/>
        </p:nvGraphicFramePr>
        <p:xfrm>
          <a:off x="685800" y="2666880"/>
          <a:ext cx="7620120" cy="27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6201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1" name=""/>
          <p:cNvGraphicFramePr/>
          <p:nvPr/>
        </p:nvGraphicFramePr>
        <p:xfrm>
          <a:off x="685800" y="2666880"/>
          <a:ext cx="7467480" cy="27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46748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3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7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7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8" name=""/>
          <p:cNvGraphicFramePr/>
          <p:nvPr/>
        </p:nvGraphicFramePr>
        <p:xfrm>
          <a:off x="1066680" y="2286000"/>
          <a:ext cx="655344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655344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0" name=""/>
          <p:cNvSpPr/>
          <p:nvPr/>
        </p:nvSpPr>
        <p:spPr>
          <a:xfrm>
            <a:off x="1065240" y="63244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5" name=""/>
          <p:cNvGraphicFramePr/>
          <p:nvPr/>
        </p:nvGraphicFramePr>
        <p:xfrm>
          <a:off x="762120" y="2857680"/>
          <a:ext cx="7543800" cy="23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57680"/>
                    <a:ext cx="754380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7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90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4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94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95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7" name=""/>
          <p:cNvGraphicFramePr/>
          <p:nvPr/>
        </p:nvGraphicFramePr>
        <p:xfrm>
          <a:off x="685800" y="2776680"/>
          <a:ext cx="754380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76680"/>
                    <a:ext cx="7543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9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4" name=""/>
          <p:cNvGraphicFramePr/>
          <p:nvPr/>
        </p:nvGraphicFramePr>
        <p:xfrm>
          <a:off x="838080" y="2695680"/>
          <a:ext cx="7239240" cy="29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695680"/>
                    <a:ext cx="723924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1" name=""/>
          <p:cNvGraphicFramePr/>
          <p:nvPr/>
        </p:nvGraphicFramePr>
        <p:xfrm>
          <a:off x="533520" y="2406600"/>
          <a:ext cx="7391160" cy="267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06600"/>
                    <a:ext cx="739116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3" name=""/>
          <p:cNvSpPr/>
          <p:nvPr/>
        </p:nvSpPr>
        <p:spPr>
          <a:xfrm>
            <a:off x="531720" y="52578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1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1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8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2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2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3" name=""/>
          <p:cNvGraphicFramePr/>
          <p:nvPr/>
        </p:nvGraphicFramePr>
        <p:xfrm>
          <a:off x="762120" y="2614680"/>
          <a:ext cx="6781680" cy="30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14680"/>
                    <a:ext cx="67816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2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CHILE PARTICIPA EN FOROS MULT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USCRIPCIÓN DE ACUERDOS B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REDUCCIÓN GRADUAL DE ARANCELES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10-12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32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33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5" name=""/>
          <p:cNvGraphicFramePr/>
          <p:nvPr/>
        </p:nvGraphicFramePr>
        <p:xfrm>
          <a:off x="685800" y="2452680"/>
          <a:ext cx="6553080" cy="355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52680"/>
                    <a:ext cx="6553080" cy="35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7" name=""/>
          <p:cNvSpPr/>
          <p:nvPr/>
        </p:nvSpPr>
        <p:spPr>
          <a:xfrm>
            <a:off x="836640" y="60958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3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4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1143000" y="2286000"/>
          <a:ext cx="678168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86000"/>
                    <a:ext cx="678168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4" name=""/>
          <p:cNvSpPr/>
          <p:nvPr/>
        </p:nvSpPr>
        <p:spPr>
          <a:xfrm>
            <a:off x="12175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416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UOTAS OTORGADAS POR 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9" name=""/>
          <p:cNvGraphicFramePr/>
          <p:nvPr/>
        </p:nvGraphicFramePr>
        <p:xfrm>
          <a:off x="914400" y="1730520"/>
          <a:ext cx="7315200" cy="388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30520"/>
                    <a:ext cx="731520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1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54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EXPORTACIONES SE EXPANDEN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05,4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MILLONES AL AÑO (15,9% SOBRE EL ACTUAL) Y CON 20 MIL EMPLEOS M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ESVÍO COMERCIO: US$ 246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NUEVO COMERCIO:  US$ 259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838080" y="4114800"/>
            <a:ext cx="73152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MPORTACION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428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ILVOAGROPECUARIAS Y PESCA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94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O-INDUSTRIAL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334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EXPORTACIONES: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505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63,5 MILL SILVOAGROPECU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41,9 MILL  MINERO-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EQUEÑOS Y MEDIANOS PRODUCT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VERSIONES PARA ACCEDER A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RECIMIENTO DEL COMERCIO POR SOBRE EL 10% ANUAL DESPUÉS DEL AÑO 8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XIGENCIAS LABORALES, MEDIOAMBIENTALES, INOCUIDAD, SEGUR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BUSO” SISTEMA ANTIDUMP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AÑO A LA PRODUCCIÓN DE TRIGO Y REMOLACH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UEVOS TLC FIRMADOS POR LOS EEU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ODERNIZACIÓN DEL ESTADO Y EMPRESARIOS AGRÍCOL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8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70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APROXIMACI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Ó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N PO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É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FELICIDAD: te ví de cerca pero no pude hablar conti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no busca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ser altivo en la desgra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y no sentirse juguete vil de tus caprichos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Times New Roman"/>
              </a:rPr>
              <a:t>José Santos Chocano (1875-193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85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ONSOLIDACIÓN DE ARANCELES AD-VALOREM DECRECIENTES ANTE OM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RIGO, ACEITES Y LECHE EN 31,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ZÚCAR EN 98% (200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RESTO SE DEJÓ EN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L TLC CHILE-EEUU ES UN ACUERDO FAVORABLE PARA LA AGRICULTURA CHILENA, PERO PRESENTA GRANDES DESAFÍOS E INCERTIDUMBRE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ÓN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USTAVO ROJAS LE-BE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OFESOR FAC. AGRONOMÍA-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9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 SE ALINEA CON GRUPO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AIRNS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:                             REDUCCIÓN DE SUBSIDIOS A AGRICULTURA Y MAYOR LIBERALIZACIÓN DEL COMER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ARECEN LOS ACE O ACUERDOS DE COMPLEMENTACIÓN ECONÓM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83: AL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2: MÉXICO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VENEZUEL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BOLIV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COLOMB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ECUADOR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6: MERCO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7: CANADÁ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8: PERÚ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2: CENTROAMERICA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U.E.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COREA DEL 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EUU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FTA 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OTROS ACE O TLC EN ESTU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L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NA, JAPÓN, IND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NUEVA ZELANDA Y SINGAP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CHILEN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422360"/>
          <a:ext cx="7924680" cy="46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22360"/>
                    <a:ext cx="792468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8172360" y="0"/>
            <a:ext cx="930240" cy="1446120"/>
            <a:chOff x="8172360" y="0"/>
            <a:chExt cx="930240" cy="1446120"/>
          </a:xfrm>
        </p:grpSpPr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44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457200" y="571680"/>
            <a:ext cx="8381880" cy="5821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SITUACIÓN 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8317080" y="0"/>
            <a:ext cx="793440" cy="1166760"/>
            <a:chOff x="8317080" y="0"/>
            <a:chExt cx="793440" cy="1166760"/>
          </a:xfrm>
        </p:grpSpPr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8317080" y="0"/>
              <a:ext cx="7934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SECTORIAL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 EL PIB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N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5720" cy="10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-758880" y="1419120"/>
          <a:ext cx="9178920" cy="471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58880" y="1419120"/>
                    <a:ext cx="9178920" cy="47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78240" y="609300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48: CHILE SUSCRIBE EL GA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(ACUERDO GENERAL DE ARANCELES ADUANER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CREA LA OMC (1995) Y SE REALIZAN 8 RONDAS DE NEGOCIACIONES COMERCIALES MULTILATER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CHILE:</a:t>
            </a:r>
            <a:br>
              <a:rPr sz="3600"/>
            </a:b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PIB DE LA AGRICUL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1600200"/>
          <a:ext cx="723924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239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93880" y="6165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DEL PIB SILVOAGROPECUARIO POR SECTOR PRODUCTIVO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857160" cy="105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250920" y="2133720"/>
          <a:ext cx="8435880" cy="3840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133720"/>
                    <a:ext cx="8435880" cy="3840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" y="1579680"/>
          <a:ext cx="8001000" cy="459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79680"/>
                    <a:ext cx="800100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EX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95160" y="1851120"/>
          <a:ext cx="7851960" cy="428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851120"/>
                    <a:ext cx="785196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8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IM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03440" y="1709640"/>
          <a:ext cx="7657920" cy="44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709640"/>
                    <a:ext cx="76579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187" name="" descr=""/>
            <p:cNvPicPr/>
            <p:nvPr/>
          </p:nvPicPr>
          <p:blipFill>
            <a:blip r:embed="rId4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99640" y="45684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MÉ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1413000"/>
          <a:ext cx="7658280" cy="488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13000"/>
                    <a:ext cx="7658280" cy="48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52760" y="630864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VENEZU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914400" y="1557360"/>
          <a:ext cx="7543800" cy="4843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557360"/>
                    <a:ext cx="754380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52760" y="63817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PER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914400" y="1562040"/>
          <a:ext cx="7391520" cy="48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2040"/>
                    <a:ext cx="7391520" cy="48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OLOM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4360" y="1465200"/>
          <a:ext cx="8135640" cy="498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65200"/>
                    <a:ext cx="813564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418600" y="0"/>
            <a:ext cx="698040" cy="1166760"/>
            <a:chOff x="8418600" y="0"/>
            <a:chExt cx="698040" cy="1166760"/>
          </a:xfrm>
        </p:grpSpPr>
        <p:pic>
          <p:nvPicPr>
            <p:cNvPr id="215" name="" descr=""/>
            <p:cNvPicPr/>
            <p:nvPr/>
          </p:nvPicPr>
          <p:blipFill>
            <a:blip r:embed="rId4"/>
            <a:stretch/>
          </p:blipFill>
          <p:spPr>
            <a:xfrm>
              <a:off x="8418600" y="0"/>
              <a:ext cx="6980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60: TRATADO DE MONTEVIDEO: SE CREÓ LA ALALC.     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(ASOCIACIÓN LATINOAMERICANA DE LIBRE COMERCIO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     FRACAS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PAÍSES LATINOAMERICANOS CREARON  ALADI.         (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ASOCIACIÓN LATINOAMERICANA DE INTEGRACIÓN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26920" y="1557360"/>
          <a:ext cx="79218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9218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9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B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826920" y="1557360"/>
          <a:ext cx="7777440" cy="49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7774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ANAD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00000" y="1557360"/>
          <a:ext cx="741708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4170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2440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36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MERCO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2120" y="1668600"/>
          <a:ext cx="8096040" cy="45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68600"/>
                    <a:ext cx="809604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52760" y="623736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71640" y="4568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 ACUER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65120" y="2208240"/>
          <a:ext cx="8178840" cy="312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208240"/>
                    <a:ext cx="817884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43000" y="201600"/>
            <a:ext cx="7010280" cy="6297480"/>
          </a:xfrm>
          <a:prstGeom prst="rect">
            <a:avLst/>
          </a:prstGeom>
          <a:ln w="0">
            <a:noFill/>
          </a:ln>
        </p:spPr>
      </p:pic>
      <p:pic>
        <p:nvPicPr>
          <p:cNvPr id="25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IPO DE CAMBIO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MOCIÓN DE EXPOR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ERTURA CUENTA DE CAPI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DE DOBLE TRIBU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TAR FLUJO 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COMERCIALES Y RESPETO A O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MEJORAR INFRAESTRUCTURA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TECCIÓN DE DERECHOS LEGALES DE EXPORTA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INNOVACIONES TECNOLÓG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STÍMULO PARA INCORPORAR PYMES A PROCESO EXPORTA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EXPORTACIONES CON MAYOR VALOR AGREG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REDUCIR BARRERAS Y OBSTÁCULOS AL COMERCIO EN EL PAÍS Y EN EL EXT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MEJOR COORDINACIÓN DE LA POLÍTICA COMER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772400" cy="6246720"/>
          </a:xfrm>
          <a:prstGeom prst="rect">
            <a:avLst/>
          </a:prstGeom>
          <a:ln w="0">
            <a:noFill/>
          </a:ln>
        </p:spPr>
      </p:pic>
      <p:pic>
        <p:nvPicPr>
          <p:cNvPr id="270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CON ALADI SE RENEGOCIÓ EL “PATRIMONIO HISTÓRICO” O VENTAJAS RECÍPROCAS YA NEGOCIADAS PARCIALMENTE EN ALAL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DESARROLLO HACIA ADENTRO CON PREDOMINIO INDUSTRIAL POR SOBRE BIENES PRIM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TLC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CHILE - EE.UU.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Y LA AGRICULTURA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62120" y="1703520"/>
          <a:ext cx="7924680" cy="431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03520"/>
                    <a:ext cx="79246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911520" y="60199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2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51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S SON COMPLEMENTARIAS Y NO COMPETI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 DE EE.UU. ES MUY SUBSIDI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8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8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9810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NTRIBUCIÓN AL PIB (%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:     4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EUU:       0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PIB AGRÍCOLA DE ESTADOS UNIDOS ES 29,5 VECES MAYOR QUE EL PIB CHI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9560" y="6095880"/>
            <a:ext cx="36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Banco Central de Chile y USDA, 2004</a:t>
            </a:r>
            <a:r>
              <a:rPr b="0" lang="es-CL" sz="24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1981080"/>
            <a:ext cx="8153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NÚMERO DE PREDI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32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2.2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12240" y="5834160"/>
            <a:ext cx="216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INE y USD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85800" y="243828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EX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 miles MMUS$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5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56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72360" y="568008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62120" y="25146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IM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miles MM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1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45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72000" y="598176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2514600"/>
            <a:ext cx="8381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  EXPORTÓ A EE.UU EL 200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1.857 Mill==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6,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.UU. EXPORTÓ A CHILE EL 2003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35 Mill==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15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9720" y="58323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5800" y="198108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ESUPUESTO FISCAL (2003) PARA EL SECTOR AGRICULTU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Mill. US$ 3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2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Mill. US$ 75.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6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1880" y="621504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2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3600"/>
            </a:b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(www.direcon.cl; www.sofofa.cl; www.manualtlc.cl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DISPOSICIONES Y DEFINICIONE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CCESO A MER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3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REGLAS DE 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4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ADMINISTRACIÓN ADUA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ALVAGUARDIAS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: GLOBALES; BILATERALES; ESPECIALES: TEXTILES Y AGRÍCO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2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 PARTIR DE 1975 EN ADELANTE, CHILE ADOPTA POLÍTICA DE APERTURA: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“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DUCCIÓN DE BIENES CON VENTAJAS COMPARATIVAS O ADQUISICIÓN DE BIENES BARATOS EN EL EXTERIO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6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NTID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BARRERAS TÉCNICAS AL 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SANITARIOS Y FITOSANI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MOVIMIENTO DE CAPITAL Y BALANZA DE PA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SERVICIOS Y COMERCIO                                               TRANSFRONTERI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2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ENTRADA TEMPORAL DE PERSONAS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 NEGO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3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4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SERVICIOS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COMERCIO ELECTRÓ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6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MPRAS PÚBL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7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PROPIEDAD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8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9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LABO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0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OLUCIÓN DE CONTROVERS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1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ONOPOLIOS Y EMPRESAS DEL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CONTENIDOS DE UN TLC CHILE-EEU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83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2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3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DMINISTRACIÓN DEL T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4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XCEP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5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ISPOSICIONE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6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NEX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1168560" cy="143676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2532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ESTRATEGIA NEGOCIADORA PARA SECTOR PRIV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STUDIO DE IMPACTO POR SECTOR PRODU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FIJAR PRIORIDADES CLARAS Y CON ANTICIP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CORPORAR PRIORIDADES EN EL EQUIPO NEGOCIADOR, EVITANDO CONFRONTACIÓN ENTRE SECTORES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FRECUENTES REUNIONES CON EQUIPO NEGOCI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OMPAÑAR AL EQUIPO NEGOCIADOR EN “CUARTO DEL LADO”  EN TODAS LAS RONDAS DE NEGOCI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OMAR CONTACTO INFORMAL CON EQUIPO NEGOCIADOR DEL OTRO PAÍ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NUMEROSAS REUNIONES CON REPRESENTANTES DE RUBROS ORGANIZADOS PARA SOLICITAR OPINIÓN Y RESPALDO FRENTE A FLEXIBILIZAR  POSI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ACTIVAMENTE EN REUNIONES A TODO NIVEL PARA AFIANZAR POSICIONES “DURA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64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OCER RESULTADOS DE SECTORES PRIVADOS DE OTROS PAÍSES QUE YA TUVIERON LA EXPERIENCIA NEGOCIAD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BAJAR MUY INTENSAMENTE CON LA PRENSA NACIONAL PARA AFIANZAR POSICIONES ANTE LA OPINIÓN 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6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VISITAR A GREMIOS EN LOS EE.UU. PA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)-VENDER LA IDEA DE “SOCIEDAD”  EN RUBROS ATRA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)-SOLICITAR INVERSIONES PARA AGRANDAR LOS NEGO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I)-REDUCIRLES EL MIEDO A NEGOCI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TRATAR “LOBISTAS” EN LOS EE.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ELERAR RITMO DE NEGOCIACIONES PARA TRATAR TEMAS CONFLICTIVOS EN LAS PRIMERAS REUN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PROFUNDIZA CONCEPTO DE MERCADO COMO BASE DE ASIGNACIÓN DE RECURS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SULTADOS MUY POSITIVOS PERO CON ALGUNOS SECTORES DAÑ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EN TODAS LAS REUNIONES EN LOS EE.UU. CON LOS STAFFERS, CONGRESISTAS, GOBERNADORES,  LOBISTAS,  GREMIOS, BANCOS  Y EMPRESAS INFLUYENTES PARA SOLICITAR APOYO A PLANTEAMIENTOS DE INTERÉ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POYARSE MUCHO EN AMCH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8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8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ER BANDAS DE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BRIR MERCADO PARA LÁCTEOS, CARNES ROJAS, AGROINDUST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SOLIDAR EL “SGP” PARA LA FRUTA FRESCA Y FORES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8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ARANCELES PARA VI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COMERCIO DE PRODUCTOS SUBSIDI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ROTEGER CARNES NEGRAS DE 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Í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TEXTILE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3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ICIO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IBERTAD PARA ACCEDER A MERC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BANC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DE INGRESO A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CIÓN DEL “ENCAJ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 AUTOMOTRÍZ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OSTERGAR ACCESO;  MANTENER “IMPUESTO AL LUJ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PESC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 Y MANTENER LAS 200 MIL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0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EL ACUER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SOLUCIÓN DE CONTROVERS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RECHOS DE PROPIEDAD INTELECTUAL Y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EY ANTIDUMPING EN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1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LABORALES Y AMBIENT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LIMINACIÓN DE BARRERAS PARA-ARANCEL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VERSIONES: INCENTIVAR.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41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SULTADOS PARA EL SECTOR SILVOAGROPECUARIO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L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534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L CABO SE 12 AÑOS, SE ELIMINAN TODOS LOS ARANCELES    AD-VALOREM  Y ESPECÍFICOS PARA TODOS LOS PRODUCTOS  SILVOAGROPECUARIOS,  SIN EXCEP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ESTABLECIÓ QUE NO HABRÁ COMERCIO ENTRE CHILE Y EEUU DE PRODUCTOS QUE RECIBEN SUBSIDIOS A LA EXPOR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2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85 A´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AMBIO LI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BAJA ARANCELARIA UNILAT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DAD OPERACIONAL EN COMERCIO EXT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GRAMA DE PROMOCIÓN DE EXPORT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GRAN INVERSIÓN EXTE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CONSOLIDÓ EL SISTEMA GENERAL DE PREFERENCIAS (SGP) PARA LA GRAN MAYORÍA DE LOS PRODUC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ESTABLECIÓ UNA SALVAGUARDIA AGRÍCOLA BILATERAL, CON 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PRODUCTOS POR PARTE DE EE.UU. Y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12 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POR PARTE DE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3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NEGOCIÓ UNA DESGRAVACIÓN LINEAL ANUAL PARA TODOS LOS PRODUCTOS QUE NO ESTÁN AFECTOS  A 12 AÑOS DE DESGRAV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OS PRODUCTOS AFECTOS A CUOTAS, TIENEN UNA TASA DE CRECIMIENTO ANUAL COMPUESTA Y VARIABLE PARA CADA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3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I EN ALGÚN PRODUCTO QUE NO ESTÁ EN DESGRAVACIÓN INMEDIATA O AFECTO AL SGP, CHILE O LOS EEUU SOBREPASAN EL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50%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DE LAS IMPORTACIONES O ENVÍA MAS DE US$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110 MILL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, SE PODRÍA APLICAR UN ALZA ARANCELARIA QUE PODRÍA DEJAR EL ARANCEL A NIVEL FUERA DEL SG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4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EL TOTAL DE PRODUCTOS IMPORTADOS POR CHILE DESDE LOS EEUU, EL 88,5% QUEDÓ EN DESGRAVACIÓN INMEDIATA.               POR EL CONTRARIO, EL 87% DE LOS PRODUCTOS EXPORTADOS POR CHILE A EEUU QUEDÓ CON DESGRAVACIÓN INMEDI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N CUANTO A PRODUCTOS AGROPECUARIOS, EL 55% DE LAS IMPORTACIONES DESDE EEUU ESTÁN AFECTAS A DESGRAVACIÓN INMEDIATA Y EL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4%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DE LOS PRODUCTOS CHILENOS INGRESARÁN A EEUU CON CERO ARANCEL INMEDIATO, UNA VEZ QUE SE INICIE EL ACUER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58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459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0000"/>
                </a:solidFill>
                <a:uFillTx/>
                <a:latin typeface="Times New Roman"/>
              </a:rPr>
              <a:t>FRUTAS Y HORTALIZAS FRES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ONSOLIDACIÓN DEL SGP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asegura la continuidad de arancel cero para la gran mayoría de los productos. Entre las excepciones se encuentran las clementinas, naranjas, almendras e higos con desgravación a 4 años, limones y alcachofas con 8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UOTA PALTAS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49.000 TON.                            34.000 oct-dic y 15.000 resto del año                       (65% del volúmen exportado a EEUU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6877080" y="4846680"/>
            <a:ext cx="1962000" cy="1763640"/>
          </a:xfrm>
          <a:prstGeom prst="rect">
            <a:avLst/>
          </a:prstGeom>
          <a:ln w="0">
            <a:noFill/>
          </a:ln>
        </p:spPr>
      </p:pic>
      <p:pic>
        <p:nvPicPr>
          <p:cNvPr id="463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6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6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ORES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ONSOLIDACIÓN DEL SGP: ARANCEL CERO, INMEDIATO Y PERMANENTE.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TODOS LOS PRODUCTO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V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DESGRAVACIÓN EN 12 AÑOS QUE PARTE DESDE EL 5% DE ARANCEL VIGENTE PARA VINO A GRA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CONCEDERÁN A CHILE, TODOS LOS BENEFICIOS QUE SE OTORGUEN A TERCEROS PAÍSES EN CUANTO A CONDICIONES DE MERCADO EN LOS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“CONSOLIDÓ” EL TEMA MARC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71360" y="2017800"/>
            <a:ext cx="8801280" cy="2759040"/>
            <a:chOff x="171360" y="2017800"/>
            <a:chExt cx="8801280" cy="2759040"/>
          </a:xfrm>
        </p:grpSpPr>
        <p:sp>
          <p:nvSpPr>
            <p:cNvPr id="474" name=""/>
            <p:cNvSpPr/>
            <p:nvPr/>
          </p:nvSpPr>
          <p:spPr>
            <a:xfrm>
              <a:off x="171360" y="2017800"/>
              <a:ext cx="8801280" cy="8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1360" y="2017800"/>
              <a:ext cx="8801280" cy="27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17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6" name="" descr="Alto de Terra Andina">
            <a:hlinkClick r:id="rId2"/>
          </p:cNvPr>
          <p:cNvPicPr/>
          <p:nvPr/>
        </p:nvPicPr>
        <p:blipFill>
          <a:blip r:embed="rId3"/>
          <a:srcRect l="14669" t="0" r="31999" b="19199"/>
          <a:stretch/>
        </p:blipFill>
        <p:spPr>
          <a:xfrm>
            <a:off x="7543800" y="4613400"/>
            <a:ext cx="1523880" cy="2244600"/>
          </a:xfrm>
          <a:prstGeom prst="rect">
            <a:avLst/>
          </a:prstGeom>
          <a:ln w="0">
            <a:noFill/>
          </a:ln>
        </p:spPr>
      </p:pic>
      <p:pic>
        <p:nvPicPr>
          <p:cNvPr id="477" name="BN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9" name="" descr=""/>
            <p:cNvPicPr/>
            <p:nvPr/>
          </p:nvPicPr>
          <p:blipFill>
            <a:blip r:embed="rId5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95280" y="457200"/>
            <a:ext cx="6553440" cy="6172200"/>
          </a:xfrm>
          <a:prstGeom prst="rect">
            <a:avLst/>
          </a:prstGeom>
          <a:ln w="0">
            <a:noFill/>
          </a:ln>
        </p:spPr>
      </p:pic>
      <p:pic>
        <p:nvPicPr>
          <p:cNvPr id="48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3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6912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EVOLUCIÓN DEL TIPO DE CAMB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71640" y="1003320"/>
          <a:ext cx="7200720" cy="55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03320"/>
                    <a:ext cx="720072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973080" cy="1197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49520" y="655308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ERDOS Y OVINOS: DESGRAVACIÓN INMEDI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OVINOS: SE OBTUVO UNA CUOTA D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000 T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Y DESGRAVACIÓN A    4 AÑOS PARA ENVÍOS FUERA DE LA CUO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553080" y="5232240"/>
            <a:ext cx="2210040" cy="1473480"/>
          </a:xfrm>
          <a:prstGeom prst="rect">
            <a:avLst/>
          </a:prstGeom>
          <a:ln w="0">
            <a:noFill/>
          </a:ln>
        </p:spPr>
      </p:pic>
      <p:pic>
        <p:nvPicPr>
          <p:cNvPr id="487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8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9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V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VOS Y POLLOS ENTEROS, DESGRAVACIÓN INMEDIATA RECÍPRO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R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OZOS DE AVES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SE NEGOCIÓ UNA CUOTA RECÍPROCA DE 8.000 TON/AÑO CON CRECIMIENTO DE 5% ANUAL Y DESGRAVACIÓN FUERA DE CUOTA EN 10 AÑOS, CON 2 AÑOS DE GRACIA Y 8 DE DESGRAVACIÓN LINEAL COMENZANDO CON UN ARANCEL DE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9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LÁCT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OBTUVO UNA CUOTA DE INGRESO LIBRE INMEDIATO DE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3.501 TON.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imes New Roman"/>
              </a:rPr>
              <a:t>1.432 TON DE QUESOS Y 2.069 TON PARA MANTEQUILLA, LECHE EN POLVO, LECHE CONDENSADA, MANJAR Y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INCREMENTO DE LA CUOTA: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7% AN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FUERA DE CUOTA LOS PRODUCTOS SE DESGRAVARÁN LINEALMENTE A PARTIR DEL AÑO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ARA IMPORTACIONES FUERA DE CUOTA DESDE EEUU SE OTORGÓ UNA DESGRAVACIÓN A CUATRO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AGROINDUST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DESGRAVACIÓN ENTRE 8 Y 12 AÑOS PARA LA GRAN MAYORÍA DE LOS PRODUCTOS.                                                      (CONSERVAS, CONGELADOS PULPAS Y JUG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EXISTENCIA DE SALVAGUARDIAS PARA ALGUNOS CONGELADOS Y PULP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468360" y="2133720"/>
          <a:ext cx="8261280" cy="424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26128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75384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1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592200" y="1900080"/>
          <a:ext cx="8389800" cy="43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1900080"/>
                    <a:ext cx="8389800" cy="43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68256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18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689040" y="2062080"/>
          <a:ext cx="810396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062080"/>
                    <a:ext cx="810396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82548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25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695160" y="2062080"/>
          <a:ext cx="784080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2062080"/>
                    <a:ext cx="78408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82548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32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TR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</a:t>
            </a: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12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318440" y="4267080"/>
            <a:ext cx="1563480" cy="2295720"/>
          </a:xfrm>
          <a:prstGeom prst="rect">
            <a:avLst/>
          </a:prstGeom>
          <a:ln w="0">
            <a:noFill/>
          </a:ln>
        </p:spPr>
      </p:pic>
      <p:pic>
        <p:nvPicPr>
          <p:cNvPr id="536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3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38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TRIGO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699400" y="2008080"/>
            <a:ext cx="47880" cy="420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1520" y="6162840"/>
            <a:ext cx="8105760" cy="4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706400" y="2611440"/>
            <a:ext cx="247680" cy="2779560"/>
            <a:chOff x="1706400" y="2611440"/>
            <a:chExt cx="247680" cy="2779560"/>
          </a:xfrm>
        </p:grpSpPr>
        <p:sp>
          <p:nvSpPr>
            <p:cNvPr id="546" name=""/>
            <p:cNvSpPr/>
            <p:nvPr/>
          </p:nvSpPr>
          <p:spPr>
            <a:xfrm>
              <a:off x="170640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0640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0640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0640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0640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0640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0640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0640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0640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70640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70640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0640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70640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0640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0640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0640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70640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0640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70640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0640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0640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0640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0640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0640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0640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0640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0640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0640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0640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0640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0640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70640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0640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70640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0640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0640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0640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0640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70640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0640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0640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0640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0640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0640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0640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0640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0640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0640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640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640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640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640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0640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0640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0640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0640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0640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0640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0640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0640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0640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0640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0640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0640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0640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0640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0640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0640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0640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0640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0640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0640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0640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70640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0640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0640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70640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0640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0640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0640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0640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70640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70640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0640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0640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0640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0640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70640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0640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0640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0640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0640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0640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70640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0640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0640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170640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293920" y="2611440"/>
            <a:ext cx="246240" cy="2779560"/>
            <a:chOff x="2293920" y="2611440"/>
            <a:chExt cx="246240" cy="2779560"/>
          </a:xfrm>
        </p:grpSpPr>
        <p:sp>
          <p:nvSpPr>
            <p:cNvPr id="644" name=""/>
            <p:cNvSpPr/>
            <p:nvPr/>
          </p:nvSpPr>
          <p:spPr>
            <a:xfrm>
              <a:off x="2293920" y="261144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93920" y="264168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293920" y="2671920"/>
              <a:ext cx="24624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93920" y="2703600"/>
              <a:ext cx="24624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93920" y="2719440"/>
              <a:ext cx="24624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93920" y="2749680"/>
              <a:ext cx="24624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93920" y="2781360"/>
              <a:ext cx="24624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93920" y="2811600"/>
              <a:ext cx="24624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93920" y="2841480"/>
              <a:ext cx="24624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93920" y="2873520"/>
              <a:ext cx="24624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293920" y="2903400"/>
              <a:ext cx="24624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93920" y="2935440"/>
              <a:ext cx="24624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93920" y="2951280"/>
              <a:ext cx="24624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93920" y="2981160"/>
              <a:ext cx="24624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93920" y="3011400"/>
              <a:ext cx="24624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93920" y="3043080"/>
              <a:ext cx="24624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93920" y="3073320"/>
              <a:ext cx="24624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93920" y="3105000"/>
              <a:ext cx="24624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93920" y="3135240"/>
              <a:ext cx="24624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93920" y="3166920"/>
              <a:ext cx="24624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93920" y="3181320"/>
              <a:ext cx="24624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93920" y="3213000"/>
              <a:ext cx="24624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93920" y="3243240"/>
              <a:ext cx="2462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293920" y="3274920"/>
              <a:ext cx="24624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93920" y="3305160"/>
              <a:ext cx="24624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93920" y="3336840"/>
              <a:ext cx="24624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293920" y="3367080"/>
              <a:ext cx="24624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293920" y="3398760"/>
              <a:ext cx="24624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293920" y="3413160"/>
              <a:ext cx="24624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293920" y="3444840"/>
              <a:ext cx="2462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93920" y="3475080"/>
              <a:ext cx="24624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293920" y="3506760"/>
              <a:ext cx="24624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93920" y="3537000"/>
              <a:ext cx="24624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93920" y="3568680"/>
              <a:ext cx="24624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293920" y="3598920"/>
              <a:ext cx="24624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293920" y="3630600"/>
              <a:ext cx="24624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293920" y="3645000"/>
              <a:ext cx="24624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93920" y="3676680"/>
              <a:ext cx="24624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293920" y="3706920"/>
              <a:ext cx="24624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93920" y="3738600"/>
              <a:ext cx="24624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93920" y="3768840"/>
              <a:ext cx="2462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93920" y="3800520"/>
              <a:ext cx="24624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93920" y="3830760"/>
              <a:ext cx="24624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293920" y="3862440"/>
              <a:ext cx="24624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93920" y="3876840"/>
              <a:ext cx="24624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93920" y="3908520"/>
              <a:ext cx="24624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93920" y="3938760"/>
              <a:ext cx="24624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93920" y="3970440"/>
              <a:ext cx="24624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93920" y="4000680"/>
              <a:ext cx="24624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93920" y="4032360"/>
              <a:ext cx="24624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93920" y="4062240"/>
              <a:ext cx="24624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93920" y="4094280"/>
              <a:ext cx="24624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293920" y="4108320"/>
              <a:ext cx="24624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93920" y="4140360"/>
              <a:ext cx="24624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93920" y="4170240"/>
              <a:ext cx="24624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293920" y="4202280"/>
              <a:ext cx="24624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93920" y="4232160"/>
              <a:ext cx="24624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93920" y="4264200"/>
              <a:ext cx="24624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93920" y="4294080"/>
              <a:ext cx="24624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293920" y="4324320"/>
              <a:ext cx="24624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93920" y="4340160"/>
              <a:ext cx="24624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93920" y="4371840"/>
              <a:ext cx="24624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93920" y="4402080"/>
              <a:ext cx="24624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93920" y="4433760"/>
              <a:ext cx="24624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93920" y="4464000"/>
              <a:ext cx="24624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293920" y="4494240"/>
              <a:ext cx="24624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93920" y="4525920"/>
              <a:ext cx="24624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93920" y="4556160"/>
              <a:ext cx="24624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293920" y="4572000"/>
              <a:ext cx="24624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93920" y="4603680"/>
              <a:ext cx="24624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93920" y="4633920"/>
              <a:ext cx="24624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93920" y="4664160"/>
              <a:ext cx="2462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93920" y="4695840"/>
              <a:ext cx="24624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293920" y="4726080"/>
              <a:ext cx="24624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93920" y="4757760"/>
              <a:ext cx="24624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293920" y="4788000"/>
              <a:ext cx="24624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293920" y="4803840"/>
              <a:ext cx="2462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293920" y="4834080"/>
              <a:ext cx="24624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93920" y="4865760"/>
              <a:ext cx="2462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93920" y="4896000"/>
              <a:ext cx="24624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93920" y="4927680"/>
              <a:ext cx="24624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93920" y="4957920"/>
              <a:ext cx="24624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93920" y="4989600"/>
              <a:ext cx="24624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93920" y="5019840"/>
              <a:ext cx="24624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93920" y="5035680"/>
              <a:ext cx="2462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293920" y="5065560"/>
              <a:ext cx="24624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293920" y="5097600"/>
              <a:ext cx="24624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293920" y="5127480"/>
              <a:ext cx="2462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93920" y="5159520"/>
              <a:ext cx="24624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93920" y="5189400"/>
              <a:ext cx="24624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93920" y="5221440"/>
              <a:ext cx="24624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93920" y="5251320"/>
              <a:ext cx="24624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93920" y="526716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93920" y="529740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93920" y="532908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93920" y="535932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293920" y="2611440"/>
            <a:ext cx="24624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2879640" y="2611440"/>
            <a:ext cx="247680" cy="2779560"/>
            <a:chOff x="2879640" y="2611440"/>
            <a:chExt cx="247680" cy="2779560"/>
          </a:xfrm>
        </p:grpSpPr>
        <p:sp>
          <p:nvSpPr>
            <p:cNvPr id="742" name=""/>
            <p:cNvSpPr/>
            <p:nvPr/>
          </p:nvSpPr>
          <p:spPr>
            <a:xfrm>
              <a:off x="287964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7964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87964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87964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7964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87964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87964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7964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7964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7964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87964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7964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7964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7964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7964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87964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87964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87964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7964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7964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7964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7964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7964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87964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87964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87964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7964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7964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87964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7964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87964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87964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7964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87964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87964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7964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87964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87964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7964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87964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87964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87964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7964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7964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7964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7964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7964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87964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7964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87964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87964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87964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87964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7964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7964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7964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7964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7964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7964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7964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7964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7964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87964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7964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7964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7964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7964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87964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87964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87964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7964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87964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7964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7964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87964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7964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7964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7964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87964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7964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7964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87964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7964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7964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87964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87964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7964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7964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87964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7964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87964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7964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7964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7964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87964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7964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287964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3467160" y="2611440"/>
            <a:ext cx="245880" cy="2779560"/>
            <a:chOff x="3467160" y="2611440"/>
            <a:chExt cx="245880" cy="2779560"/>
          </a:xfrm>
        </p:grpSpPr>
        <p:sp>
          <p:nvSpPr>
            <p:cNvPr id="840" name=""/>
            <p:cNvSpPr/>
            <p:nvPr/>
          </p:nvSpPr>
          <p:spPr>
            <a:xfrm>
              <a:off x="3467160" y="261144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67160" y="264168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467160" y="267192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467160" y="2703600"/>
              <a:ext cx="2458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467160" y="2719440"/>
              <a:ext cx="2458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467160" y="2749680"/>
              <a:ext cx="2458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467160" y="278136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467160" y="2811600"/>
              <a:ext cx="2458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467160" y="2841480"/>
              <a:ext cx="2458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67160" y="2873520"/>
              <a:ext cx="2458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67160" y="2903400"/>
              <a:ext cx="2458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467160" y="2935440"/>
              <a:ext cx="2458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467160" y="2951280"/>
              <a:ext cx="2458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467160" y="2981160"/>
              <a:ext cx="2458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67160" y="3011400"/>
              <a:ext cx="2458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467160" y="304308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467160" y="3073320"/>
              <a:ext cx="2458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467160" y="3105000"/>
              <a:ext cx="2458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467160" y="3135240"/>
              <a:ext cx="2458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467160" y="3166920"/>
              <a:ext cx="2458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467160" y="3181320"/>
              <a:ext cx="2458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467160" y="3213000"/>
              <a:ext cx="2458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467160" y="3243240"/>
              <a:ext cx="2458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67160" y="3274920"/>
              <a:ext cx="2458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467160" y="330516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467160" y="3336840"/>
              <a:ext cx="2458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467160" y="336708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467160" y="339876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467160" y="341316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467160" y="3444840"/>
              <a:ext cx="2458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67160" y="3475080"/>
              <a:ext cx="2458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67160" y="3506760"/>
              <a:ext cx="2458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467160" y="3537000"/>
              <a:ext cx="2458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467160" y="3568680"/>
              <a:ext cx="2458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467160" y="3598920"/>
              <a:ext cx="2458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67160" y="3630600"/>
              <a:ext cx="2458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67160" y="3645000"/>
              <a:ext cx="2458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67160" y="367668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467160" y="3706920"/>
              <a:ext cx="2458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467160" y="3738600"/>
              <a:ext cx="2458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67160" y="3768840"/>
              <a:ext cx="2458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467160" y="3800520"/>
              <a:ext cx="2458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467160" y="3830760"/>
              <a:ext cx="2458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67160" y="386244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467160" y="3876840"/>
              <a:ext cx="2458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67160" y="3908520"/>
              <a:ext cx="2458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67160" y="3938760"/>
              <a:ext cx="2458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467160" y="3970440"/>
              <a:ext cx="2458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467160" y="4000680"/>
              <a:ext cx="2458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67160" y="403236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467160" y="4062240"/>
              <a:ext cx="2458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467160" y="4094280"/>
              <a:ext cx="2458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467160" y="4108320"/>
              <a:ext cx="2458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467160" y="4140360"/>
              <a:ext cx="2458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467160" y="4170240"/>
              <a:ext cx="2458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67160" y="4202280"/>
              <a:ext cx="2458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467160" y="4232160"/>
              <a:ext cx="2458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467160" y="426420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67160" y="429408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67160" y="432432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467160" y="4340160"/>
              <a:ext cx="2458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467160" y="4371840"/>
              <a:ext cx="2458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67160" y="440208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467160" y="4433760"/>
              <a:ext cx="2458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467160" y="4464000"/>
              <a:ext cx="2458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467160" y="4494240"/>
              <a:ext cx="2458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467160" y="4525920"/>
              <a:ext cx="2458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67160" y="4556160"/>
              <a:ext cx="2458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67160" y="4572000"/>
              <a:ext cx="2458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67160" y="4603680"/>
              <a:ext cx="2458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467160" y="4633920"/>
              <a:ext cx="2458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67160" y="466416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467160" y="4695840"/>
              <a:ext cx="2458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467160" y="4726080"/>
              <a:ext cx="2458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467160" y="475776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67160" y="4788000"/>
              <a:ext cx="2458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467160" y="480384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67160" y="483408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67160" y="4865760"/>
              <a:ext cx="2458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467160" y="4896000"/>
              <a:ext cx="2458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467160" y="492768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67160" y="4957920"/>
              <a:ext cx="2458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467160" y="498960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67160" y="501984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467160" y="503568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67160" y="5065560"/>
              <a:ext cx="2458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67160" y="5097600"/>
              <a:ext cx="2458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467160" y="5127480"/>
              <a:ext cx="2458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467160" y="515952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67160" y="5189400"/>
              <a:ext cx="2458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67160" y="522144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46716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67160" y="526716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467160" y="529740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7160" y="532908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4671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3467160" y="2611440"/>
            <a:ext cx="2458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4052880" y="2919240"/>
            <a:ext cx="247680" cy="2471760"/>
            <a:chOff x="4052880" y="2919240"/>
            <a:chExt cx="247680" cy="2471760"/>
          </a:xfrm>
        </p:grpSpPr>
        <p:sp>
          <p:nvSpPr>
            <p:cNvPr id="938" name=""/>
            <p:cNvSpPr/>
            <p:nvPr/>
          </p:nvSpPr>
          <p:spPr>
            <a:xfrm>
              <a:off x="4052880" y="2919240"/>
              <a:ext cx="2476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52880" y="2951280"/>
              <a:ext cx="2476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052880" y="2965320"/>
              <a:ext cx="247680" cy="320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052880" y="2997360"/>
              <a:ext cx="247680" cy="2988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052880" y="302724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052880" y="3043080"/>
              <a:ext cx="2476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052880" y="307332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52880" y="3105000"/>
              <a:ext cx="247680" cy="1620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52880" y="3121200"/>
              <a:ext cx="247680" cy="2988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052880" y="3151080"/>
              <a:ext cx="247680" cy="302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052880" y="3181320"/>
              <a:ext cx="247680" cy="158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52880" y="3197160"/>
              <a:ext cx="247680" cy="3168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52880" y="322884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052880" y="32590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052880" y="32749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052880" y="3305160"/>
              <a:ext cx="24768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052880" y="333684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052880" y="335268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052880" y="3382920"/>
              <a:ext cx="247680" cy="302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052880" y="3413160"/>
              <a:ext cx="247680" cy="158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052880" y="342900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52880" y="3460680"/>
              <a:ext cx="247680" cy="302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052880" y="3490920"/>
              <a:ext cx="247680" cy="1584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052880" y="350676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052880" y="353700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052880" y="3568680"/>
              <a:ext cx="2476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52880" y="3583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052880" y="3614760"/>
              <a:ext cx="247680" cy="302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052880" y="364500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52880" y="3660840"/>
              <a:ext cx="247680" cy="3168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52880" y="3692520"/>
              <a:ext cx="247680" cy="302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052880" y="3722760"/>
              <a:ext cx="247680" cy="158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052880" y="3738600"/>
              <a:ext cx="247680" cy="302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052880" y="3768840"/>
              <a:ext cx="2476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52880" y="3800520"/>
              <a:ext cx="247680" cy="1440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052880" y="3814920"/>
              <a:ext cx="247680" cy="3168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52880" y="3846600"/>
              <a:ext cx="247680" cy="302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52880" y="3876840"/>
              <a:ext cx="247680" cy="158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052880" y="389268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052880" y="3922560"/>
              <a:ext cx="247680" cy="32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052880" y="3954600"/>
              <a:ext cx="247680" cy="1584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052880" y="397044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052880" y="400068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052880" y="4032360"/>
              <a:ext cx="247680" cy="140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052880" y="4046400"/>
              <a:ext cx="247680" cy="320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052880" y="4078440"/>
              <a:ext cx="24768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52880" y="41083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052880" y="412416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052880" y="415440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052880" y="4186080"/>
              <a:ext cx="247680" cy="162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052880" y="4202280"/>
              <a:ext cx="247680" cy="298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052880" y="4232160"/>
              <a:ext cx="247680" cy="32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052880" y="4264200"/>
              <a:ext cx="247680" cy="14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052880" y="4278240"/>
              <a:ext cx="247680" cy="316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052880" y="4309920"/>
              <a:ext cx="247680" cy="302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052880" y="434016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052880" y="4356000"/>
              <a:ext cx="247680" cy="302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52880" y="4386240"/>
              <a:ext cx="247680" cy="316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052880" y="4417920"/>
              <a:ext cx="24768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052880" y="4433760"/>
              <a:ext cx="247680" cy="302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052880" y="4464000"/>
              <a:ext cx="2476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052880" y="4494240"/>
              <a:ext cx="2476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052880" y="4510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052880" y="4541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052880" y="4572000"/>
              <a:ext cx="247680" cy="158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52880" y="4587840"/>
              <a:ext cx="247680" cy="3024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052880" y="4618080"/>
              <a:ext cx="24768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052880" y="4649760"/>
              <a:ext cx="247680" cy="1440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052880" y="466416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052880" y="469584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052880" y="4726080"/>
              <a:ext cx="247680" cy="158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052880" y="474192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52880" y="477360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052880" y="480384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52880" y="4819680"/>
              <a:ext cx="24768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052880" y="4849920"/>
              <a:ext cx="247680" cy="3168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052880" y="488160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052880" y="489600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052880" y="492768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52880" y="4957920"/>
              <a:ext cx="2476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52880" y="4973760"/>
              <a:ext cx="247680" cy="316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52880" y="5005440"/>
              <a:ext cx="247680" cy="302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52880" y="5035680"/>
              <a:ext cx="24768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52880" y="5051520"/>
              <a:ext cx="247680" cy="302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52880" y="5081760"/>
              <a:ext cx="2476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052880" y="511344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052880" y="512748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05288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52880" y="518940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052880" y="5205240"/>
              <a:ext cx="247680" cy="302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052880" y="5235480"/>
              <a:ext cx="247680" cy="316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052880" y="5267160"/>
              <a:ext cx="247680" cy="1620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52880" y="528336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52880" y="5313240"/>
              <a:ext cx="2476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052880" y="5345280"/>
              <a:ext cx="2476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0528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4052880" y="2919240"/>
            <a:ext cx="247680" cy="2471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4640400" y="3089160"/>
            <a:ext cx="245880" cy="2301840"/>
            <a:chOff x="4640400" y="3089160"/>
            <a:chExt cx="245880" cy="2301840"/>
          </a:xfrm>
        </p:grpSpPr>
        <p:sp>
          <p:nvSpPr>
            <p:cNvPr id="1036" name=""/>
            <p:cNvSpPr/>
            <p:nvPr/>
          </p:nvSpPr>
          <p:spPr>
            <a:xfrm>
              <a:off x="4640400" y="308916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40400" y="3121200"/>
              <a:ext cx="2458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640400" y="313524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640400" y="3166920"/>
              <a:ext cx="245880" cy="1440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640400" y="3181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640400" y="3213000"/>
              <a:ext cx="245880" cy="158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40400" y="322884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640400" y="3259080"/>
              <a:ext cx="24588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40400" y="3274920"/>
              <a:ext cx="24588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640400" y="3305160"/>
              <a:ext cx="245880" cy="316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640400" y="3336840"/>
              <a:ext cx="245880" cy="158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640400" y="33526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640400" y="3382920"/>
              <a:ext cx="2458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640400" y="3398760"/>
              <a:ext cx="245880" cy="302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640400" y="3429000"/>
              <a:ext cx="24588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640400" y="344484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640400" y="3475080"/>
              <a:ext cx="2458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640400" y="3490920"/>
              <a:ext cx="24588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640400" y="352260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640400" y="3537000"/>
              <a:ext cx="245880" cy="3168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640400" y="3568680"/>
              <a:ext cx="245880" cy="3024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640400" y="3598920"/>
              <a:ext cx="245880" cy="158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640400" y="3614760"/>
              <a:ext cx="245880" cy="302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640400" y="3645000"/>
              <a:ext cx="24588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640400" y="366084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640400" y="369252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40400" y="370692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640400" y="373860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40400" y="375300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640400" y="378468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640400" y="3814920"/>
              <a:ext cx="24588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640400" y="3830760"/>
              <a:ext cx="245880" cy="316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640400" y="3862440"/>
              <a:ext cx="245880" cy="144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640400" y="3876840"/>
              <a:ext cx="2458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640400" y="3908520"/>
              <a:ext cx="245880" cy="140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640400" y="3922560"/>
              <a:ext cx="245880" cy="320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640400" y="3954600"/>
              <a:ext cx="2458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640400" y="397044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640400" y="4000680"/>
              <a:ext cx="245880" cy="3168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640400" y="4032360"/>
              <a:ext cx="24588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640400" y="4046400"/>
              <a:ext cx="245880" cy="320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640400" y="4078440"/>
              <a:ext cx="245880" cy="158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640400" y="4094280"/>
              <a:ext cx="245880" cy="298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40400" y="4124160"/>
              <a:ext cx="245880" cy="162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640400" y="4140360"/>
              <a:ext cx="245880" cy="298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640400" y="4170240"/>
              <a:ext cx="245880" cy="1584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640400" y="4186080"/>
              <a:ext cx="2458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640400" y="4216320"/>
              <a:ext cx="2458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640400" y="4232160"/>
              <a:ext cx="245880" cy="3204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640400" y="426420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640400" y="4294080"/>
              <a:ext cx="245880" cy="158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640400" y="4309920"/>
              <a:ext cx="245880" cy="302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40400" y="434016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40400" y="4356000"/>
              <a:ext cx="245880" cy="302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640400" y="4386240"/>
              <a:ext cx="245880" cy="158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640400" y="4402080"/>
              <a:ext cx="245880" cy="316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640400" y="4433760"/>
              <a:ext cx="245880" cy="1440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640400" y="4448160"/>
              <a:ext cx="245880" cy="3168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640400" y="447984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640400" y="451008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640400" y="452592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640400" y="455616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640400" y="457200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640400" y="4603680"/>
              <a:ext cx="245880" cy="1440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40400" y="4618080"/>
              <a:ext cx="24588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640400" y="4649760"/>
              <a:ext cx="24588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40400" y="4664160"/>
              <a:ext cx="245880" cy="3168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640400" y="4695840"/>
              <a:ext cx="245880" cy="302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640400" y="4726080"/>
              <a:ext cx="2458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640400" y="4741920"/>
              <a:ext cx="24588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640400" y="4773600"/>
              <a:ext cx="24588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640400" y="478800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640400" y="4819680"/>
              <a:ext cx="245880" cy="1440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640400" y="4834080"/>
              <a:ext cx="245880" cy="3168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640400" y="4865760"/>
              <a:ext cx="245880" cy="158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640400" y="488160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40400" y="491184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640400" y="4943520"/>
              <a:ext cx="245880" cy="1440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640400" y="4957920"/>
              <a:ext cx="245880" cy="316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640400" y="4989600"/>
              <a:ext cx="2458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640400" y="500544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640400" y="503568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640400" y="505152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640400" y="508176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640400" y="509760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640400" y="5127480"/>
              <a:ext cx="245880" cy="1620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640400" y="5143680"/>
              <a:ext cx="245880" cy="316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640400" y="5175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640400" y="5205240"/>
              <a:ext cx="245880" cy="1620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640400" y="5221440"/>
              <a:ext cx="245880" cy="2988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64040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640400" y="5267160"/>
              <a:ext cx="2458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640400" y="529740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640400" y="5313240"/>
              <a:ext cx="2458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64040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64040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4640400" y="3089160"/>
            <a:ext cx="245880" cy="2301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5226120" y="3274920"/>
            <a:ext cx="231840" cy="2116080"/>
            <a:chOff x="5226120" y="3274920"/>
            <a:chExt cx="231840" cy="2116080"/>
          </a:xfrm>
        </p:grpSpPr>
        <p:sp>
          <p:nvSpPr>
            <p:cNvPr id="1134" name=""/>
            <p:cNvSpPr/>
            <p:nvPr/>
          </p:nvSpPr>
          <p:spPr>
            <a:xfrm>
              <a:off x="5226120" y="3274920"/>
              <a:ext cx="23184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226120" y="3290760"/>
              <a:ext cx="2318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226120" y="3321000"/>
              <a:ext cx="231840" cy="158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226120" y="3336840"/>
              <a:ext cx="231840" cy="302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226120" y="3367080"/>
              <a:ext cx="23184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226120" y="3382920"/>
              <a:ext cx="23184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26120" y="341316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226120" y="342900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226120" y="3444840"/>
              <a:ext cx="23184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226120" y="3475080"/>
              <a:ext cx="23184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226120" y="3490920"/>
              <a:ext cx="231840" cy="3168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26120" y="3522600"/>
              <a:ext cx="231840" cy="1440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26120" y="3537000"/>
              <a:ext cx="23184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26120" y="3568680"/>
              <a:ext cx="231840" cy="1440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226120" y="3583080"/>
              <a:ext cx="23184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226120" y="3598920"/>
              <a:ext cx="23184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226120" y="3630600"/>
              <a:ext cx="231840" cy="1440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226120" y="3645000"/>
              <a:ext cx="23184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226120" y="3676680"/>
              <a:ext cx="231840" cy="158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226120" y="3692520"/>
              <a:ext cx="231840" cy="302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226120" y="3722760"/>
              <a:ext cx="231840" cy="158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226120" y="3738600"/>
              <a:ext cx="231840" cy="1440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226120" y="3753000"/>
              <a:ext cx="2318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226120" y="3784680"/>
              <a:ext cx="23184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226120" y="3800520"/>
              <a:ext cx="231840" cy="302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226120" y="3830760"/>
              <a:ext cx="231840" cy="158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226120" y="3846600"/>
              <a:ext cx="231840" cy="3024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226120" y="3876840"/>
              <a:ext cx="231840" cy="158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26120" y="3892680"/>
              <a:ext cx="23184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226120" y="3908520"/>
              <a:ext cx="2318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226120" y="3938760"/>
              <a:ext cx="23184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226120" y="3954600"/>
              <a:ext cx="231840" cy="298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226120" y="3984480"/>
              <a:ext cx="231840" cy="162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226120" y="4000680"/>
              <a:ext cx="23184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26120" y="4032360"/>
              <a:ext cx="231840" cy="1404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226120" y="4046400"/>
              <a:ext cx="23184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226120" y="4062240"/>
              <a:ext cx="231840" cy="320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226120" y="4094280"/>
              <a:ext cx="231840" cy="140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226120" y="4108320"/>
              <a:ext cx="231840" cy="320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226120" y="4140360"/>
              <a:ext cx="23184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226120" y="4154400"/>
              <a:ext cx="2318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226120" y="4186080"/>
              <a:ext cx="231840" cy="16200"/>
            </a:xfrm>
            <a:prstGeom prst="rect">
              <a:avLst/>
            </a:prstGeom>
            <a:solidFill>
              <a:srgbClr val="6e6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226120" y="4202280"/>
              <a:ext cx="231840" cy="140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226120" y="4216320"/>
              <a:ext cx="231840" cy="3168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226120" y="4248000"/>
              <a:ext cx="231840" cy="1620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226120" y="4264200"/>
              <a:ext cx="23184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226120" y="4294080"/>
              <a:ext cx="23184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226120" y="4309920"/>
              <a:ext cx="231840" cy="1440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226120" y="4324320"/>
              <a:ext cx="231840" cy="3168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226120" y="4356000"/>
              <a:ext cx="231840" cy="158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226120" y="4371840"/>
              <a:ext cx="231840" cy="302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226120" y="4402080"/>
              <a:ext cx="23184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226120" y="4417920"/>
              <a:ext cx="23184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226120" y="4448160"/>
              <a:ext cx="23184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226120" y="4464000"/>
              <a:ext cx="231840" cy="15840"/>
            </a:xfrm>
            <a:prstGeom prst="rect">
              <a:avLst/>
            </a:prstGeom>
            <a:solidFill>
              <a:srgbClr val="7f7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226120" y="4479840"/>
              <a:ext cx="231840" cy="302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226120" y="4510080"/>
              <a:ext cx="23184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226120" y="4525920"/>
              <a:ext cx="231840" cy="3024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226120" y="4556160"/>
              <a:ext cx="23184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226120" y="4572000"/>
              <a:ext cx="231840" cy="3168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226120" y="4603680"/>
              <a:ext cx="231840" cy="1440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26120" y="4618080"/>
              <a:ext cx="23184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226120" y="4633920"/>
              <a:ext cx="231840" cy="3024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226120" y="4664160"/>
              <a:ext cx="23184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226120" y="4680000"/>
              <a:ext cx="23184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226120" y="4711680"/>
              <a:ext cx="23184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26120" y="4726080"/>
              <a:ext cx="23184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26120" y="4757760"/>
              <a:ext cx="23184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226120" y="4773600"/>
              <a:ext cx="231840" cy="1440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226120" y="4788000"/>
              <a:ext cx="23184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226120" y="4819680"/>
              <a:ext cx="23184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226120" y="4834080"/>
              <a:ext cx="2318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226120" y="4865760"/>
              <a:ext cx="23184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226120" y="4881600"/>
              <a:ext cx="23184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226120" y="491184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226120" y="492768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26120" y="4943520"/>
              <a:ext cx="2318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226120" y="4973760"/>
              <a:ext cx="23184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226120" y="4989600"/>
              <a:ext cx="2318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226120" y="5019840"/>
              <a:ext cx="23184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226120" y="5035680"/>
              <a:ext cx="231840" cy="298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226120" y="5065560"/>
              <a:ext cx="231840" cy="1620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26120" y="5081760"/>
              <a:ext cx="23184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26120" y="5097600"/>
              <a:ext cx="2318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226120" y="5127480"/>
              <a:ext cx="231840" cy="1620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226120" y="5143680"/>
              <a:ext cx="231840" cy="316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226120" y="5175360"/>
              <a:ext cx="231840" cy="14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226120" y="5189400"/>
              <a:ext cx="2318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6120" y="5221440"/>
              <a:ext cx="23184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226120" y="5235480"/>
              <a:ext cx="231840" cy="158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226120" y="5251320"/>
              <a:ext cx="23184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226120" y="5283360"/>
              <a:ext cx="23184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226120" y="5297400"/>
              <a:ext cx="2318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226120" y="5329080"/>
              <a:ext cx="23184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226120" y="5345280"/>
              <a:ext cx="23184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226120" y="5375160"/>
              <a:ext cx="231840" cy="158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5226120" y="3274920"/>
            <a:ext cx="231840" cy="2116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5797440" y="3537000"/>
            <a:ext cx="247680" cy="1854000"/>
            <a:chOff x="5797440" y="3537000"/>
            <a:chExt cx="247680" cy="1854000"/>
          </a:xfrm>
        </p:grpSpPr>
        <p:sp>
          <p:nvSpPr>
            <p:cNvPr id="1232" name=""/>
            <p:cNvSpPr/>
            <p:nvPr/>
          </p:nvSpPr>
          <p:spPr>
            <a:xfrm>
              <a:off x="5797440" y="353700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97440" y="355284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97440" y="3568680"/>
              <a:ext cx="247680" cy="302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97440" y="359892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797440" y="361476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97440" y="3630600"/>
              <a:ext cx="247680" cy="1440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97440" y="364500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97440" y="3676680"/>
              <a:ext cx="247680" cy="158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97440" y="3692520"/>
              <a:ext cx="247680" cy="1440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97440" y="3706920"/>
              <a:ext cx="2476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97440" y="3722760"/>
              <a:ext cx="247680" cy="302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97440" y="375300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97440" y="376884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97440" y="37846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797440" y="38005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797440" y="3830760"/>
              <a:ext cx="247680" cy="158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797440" y="384660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797440" y="3862440"/>
              <a:ext cx="247680" cy="1440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97440" y="38768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797440" y="3908520"/>
              <a:ext cx="247680" cy="140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97440" y="3922560"/>
              <a:ext cx="247680" cy="1620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97440" y="3938760"/>
              <a:ext cx="247680" cy="158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797440" y="3954600"/>
              <a:ext cx="247680" cy="298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797440" y="3984480"/>
              <a:ext cx="247680" cy="1620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97440" y="4000680"/>
              <a:ext cx="247680" cy="158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797440" y="4016520"/>
              <a:ext cx="247680" cy="158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797440" y="4032360"/>
              <a:ext cx="247680" cy="298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97440" y="4062240"/>
              <a:ext cx="247680" cy="162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797440" y="407844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797440" y="4094280"/>
              <a:ext cx="247680" cy="140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97440" y="4108320"/>
              <a:ext cx="247680" cy="320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797440" y="4140360"/>
              <a:ext cx="247680" cy="140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797440" y="4154400"/>
              <a:ext cx="247680" cy="158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97440" y="4170240"/>
              <a:ext cx="247680" cy="15840"/>
            </a:xfrm>
            <a:prstGeom prst="rect">
              <a:avLst/>
            </a:prstGeom>
            <a:solidFill>
              <a:srgbClr val="626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97440" y="4186080"/>
              <a:ext cx="247680" cy="302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797440" y="4216320"/>
              <a:ext cx="24768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797440" y="4232160"/>
              <a:ext cx="2476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797440" y="4248000"/>
              <a:ext cx="247680" cy="1620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797440" y="426420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797440" y="4294080"/>
              <a:ext cx="247680" cy="158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797440" y="4309920"/>
              <a:ext cx="247680" cy="1440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797440" y="4324320"/>
              <a:ext cx="247680" cy="15840"/>
            </a:xfrm>
            <a:prstGeom prst="rect">
              <a:avLst/>
            </a:prstGeom>
            <a:solidFill>
              <a:srgbClr val="6d6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797440" y="43401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797440" y="4371840"/>
              <a:ext cx="247680" cy="14400"/>
            </a:xfrm>
            <a:prstGeom prst="rect">
              <a:avLst/>
            </a:prstGeom>
            <a:solidFill>
              <a:srgbClr val="71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797440" y="4386240"/>
              <a:ext cx="247680" cy="158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797440" y="4402080"/>
              <a:ext cx="2476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797440" y="4417920"/>
              <a:ext cx="2476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97440" y="4448160"/>
              <a:ext cx="2476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97440" y="4464000"/>
              <a:ext cx="247680" cy="158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797440" y="4479840"/>
              <a:ext cx="247680" cy="144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97440" y="4494240"/>
              <a:ext cx="247680" cy="316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97440" y="4525920"/>
              <a:ext cx="24768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797440" y="4541760"/>
              <a:ext cx="247680" cy="1440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797440" y="4556160"/>
              <a:ext cx="247680" cy="15840"/>
            </a:xfrm>
            <a:prstGeom prst="rect">
              <a:avLst/>
            </a:prstGeom>
            <a:solidFill>
              <a:srgbClr val="7d7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797440" y="4572000"/>
              <a:ext cx="2476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797440" y="4603680"/>
              <a:ext cx="247680" cy="14400"/>
            </a:xfrm>
            <a:prstGeom prst="rect">
              <a:avLst/>
            </a:prstGeom>
            <a:solidFill>
              <a:srgbClr val="818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797440" y="4618080"/>
              <a:ext cx="24768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97440" y="4633920"/>
              <a:ext cx="247680" cy="158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797440" y="464976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797440" y="468000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797440" y="4695840"/>
              <a:ext cx="247680" cy="158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797440" y="4711680"/>
              <a:ext cx="247680" cy="1440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797440" y="4726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797440" y="4757760"/>
              <a:ext cx="24768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797440" y="4773600"/>
              <a:ext cx="247680" cy="1440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97440" y="4788000"/>
              <a:ext cx="2476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97440" y="480384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97440" y="4834080"/>
              <a:ext cx="24768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797440" y="4849920"/>
              <a:ext cx="2476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797440" y="4865760"/>
              <a:ext cx="2476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797440" y="488160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797440" y="4911840"/>
              <a:ext cx="247680" cy="1584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797440" y="4927680"/>
              <a:ext cx="24768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797440" y="4943520"/>
              <a:ext cx="247680" cy="1440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797440" y="495792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797440" y="49896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797440" y="500544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797440" y="5019840"/>
              <a:ext cx="2476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97440" y="5035680"/>
              <a:ext cx="2476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97440" y="5065560"/>
              <a:ext cx="247680" cy="1620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797440" y="5081760"/>
              <a:ext cx="247680" cy="158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797440" y="5097600"/>
              <a:ext cx="2476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797440" y="511344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97440" y="514368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97440" y="515952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97440" y="517536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797440" y="518940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797440" y="5221440"/>
              <a:ext cx="24768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797440" y="523548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797440" y="525132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797440" y="5267160"/>
              <a:ext cx="2476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797440" y="529740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797440" y="531324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797440" y="5329080"/>
              <a:ext cx="24768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797440" y="534528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797440" y="537516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8" name=""/>
          <p:cNvSpPr/>
          <p:nvPr/>
        </p:nvSpPr>
        <p:spPr>
          <a:xfrm>
            <a:off x="5797440" y="3537000"/>
            <a:ext cx="247680" cy="1854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6384960" y="4170240"/>
            <a:ext cx="245880" cy="1220760"/>
            <a:chOff x="6384960" y="4170240"/>
            <a:chExt cx="245880" cy="1220760"/>
          </a:xfrm>
        </p:grpSpPr>
        <p:sp>
          <p:nvSpPr>
            <p:cNvPr id="1330" name=""/>
            <p:cNvSpPr/>
            <p:nvPr/>
          </p:nvSpPr>
          <p:spPr>
            <a:xfrm>
              <a:off x="6384960" y="417024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84960" y="4202280"/>
              <a:ext cx="245880" cy="140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84960" y="4216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84960" y="424800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84960" y="4278240"/>
              <a:ext cx="2458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84960" y="42940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84960" y="4324320"/>
              <a:ext cx="24588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84960" y="4356000"/>
              <a:ext cx="245880" cy="15840"/>
            </a:xfrm>
            <a:prstGeom prst="rect">
              <a:avLst/>
            </a:prstGeom>
            <a:solidFill>
              <a:srgbClr val="4e4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84960" y="4371840"/>
              <a:ext cx="245880" cy="3024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84960" y="4402080"/>
              <a:ext cx="245880" cy="15840"/>
            </a:xfrm>
            <a:prstGeom prst="rect">
              <a:avLst/>
            </a:prstGeom>
            <a:solidFill>
              <a:srgbClr val="52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84960" y="4417920"/>
              <a:ext cx="245880" cy="302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84960" y="4448160"/>
              <a:ext cx="245880" cy="31680"/>
            </a:xfrm>
            <a:prstGeom prst="rect">
              <a:avLst/>
            </a:prstGeom>
            <a:solidFill>
              <a:srgbClr val="565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84960" y="447984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84960" y="449424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84960" y="4525920"/>
              <a:ext cx="2458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84960" y="4556160"/>
              <a:ext cx="245880" cy="15840"/>
            </a:xfrm>
            <a:prstGeom prst="rect">
              <a:avLst/>
            </a:prstGeom>
            <a:solidFill>
              <a:srgbClr val="5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84960" y="4572000"/>
              <a:ext cx="245880" cy="31680"/>
            </a:xfrm>
            <a:prstGeom prst="rect">
              <a:avLst/>
            </a:prstGeom>
            <a:solidFill>
              <a:srgbClr val="62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84960" y="4603680"/>
              <a:ext cx="245880" cy="30240"/>
            </a:xfrm>
            <a:prstGeom prst="rect">
              <a:avLst/>
            </a:prstGeom>
            <a:solidFill>
              <a:srgbClr val="656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84960" y="4633920"/>
              <a:ext cx="245880" cy="15840"/>
            </a:xfrm>
            <a:prstGeom prst="rect">
              <a:avLst/>
            </a:prstGeom>
            <a:solidFill>
              <a:srgbClr val="67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84960" y="4649760"/>
              <a:ext cx="245880" cy="3024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84960" y="4680000"/>
              <a:ext cx="245880" cy="3168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84960" y="471168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84960" y="4726080"/>
              <a:ext cx="245880" cy="31680"/>
            </a:xfrm>
            <a:prstGeom prst="rect">
              <a:avLst/>
            </a:prstGeom>
            <a:solidFill>
              <a:srgbClr val="727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84960" y="4757760"/>
              <a:ext cx="24588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84960" y="4773600"/>
              <a:ext cx="245880" cy="302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84960" y="4803840"/>
              <a:ext cx="245880" cy="30240"/>
            </a:xfrm>
            <a:prstGeom prst="rect">
              <a:avLst/>
            </a:prstGeom>
            <a:solidFill>
              <a:srgbClr val="7b7b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84960" y="483408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84960" y="4849920"/>
              <a:ext cx="2458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84960" y="4881600"/>
              <a:ext cx="245880" cy="302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84960" y="4911840"/>
              <a:ext cx="245880" cy="15840"/>
            </a:xfrm>
            <a:prstGeom prst="rect">
              <a:avLst/>
            </a:prstGeom>
            <a:solidFill>
              <a:srgbClr val="848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84960" y="492768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84960" y="4957920"/>
              <a:ext cx="245880" cy="31680"/>
            </a:xfrm>
            <a:prstGeom prst="rect">
              <a:avLst/>
            </a:prstGeom>
            <a:solidFill>
              <a:srgbClr val="8989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84960" y="4989600"/>
              <a:ext cx="2458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84960" y="5005440"/>
              <a:ext cx="245880" cy="302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84960" y="5035680"/>
              <a:ext cx="245880" cy="298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84960" y="5065560"/>
              <a:ext cx="245880" cy="1620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84960" y="5081760"/>
              <a:ext cx="245880" cy="3168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384960" y="511344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384960" y="5143680"/>
              <a:ext cx="2458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384960" y="5159520"/>
              <a:ext cx="2458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384960" y="518940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384960" y="520524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84960" y="5235480"/>
              <a:ext cx="2458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84960" y="526716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384960" y="5283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384960" y="5313240"/>
              <a:ext cx="24588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8496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3849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6384960" y="4170240"/>
            <a:ext cx="245880" cy="1220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6970680" y="4572000"/>
            <a:ext cx="247680" cy="819000"/>
            <a:chOff x="6970680" y="4572000"/>
            <a:chExt cx="247680" cy="819000"/>
          </a:xfrm>
        </p:grpSpPr>
        <p:sp>
          <p:nvSpPr>
            <p:cNvPr id="1380" name=""/>
            <p:cNvSpPr/>
            <p:nvPr/>
          </p:nvSpPr>
          <p:spPr>
            <a:xfrm>
              <a:off x="6970680" y="4572000"/>
              <a:ext cx="247680" cy="3168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970680" y="4603680"/>
              <a:ext cx="247680" cy="1440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970680" y="461808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970680" y="4649760"/>
              <a:ext cx="247680" cy="302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970680" y="4680000"/>
              <a:ext cx="247680" cy="158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970680" y="4695840"/>
              <a:ext cx="247680" cy="302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970680" y="4726080"/>
              <a:ext cx="247680" cy="31680"/>
            </a:xfrm>
            <a:prstGeom prst="rect">
              <a:avLst/>
            </a:prstGeom>
            <a:solidFill>
              <a:srgbClr val="535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970680" y="4757760"/>
              <a:ext cx="247680" cy="158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970680" y="4773600"/>
              <a:ext cx="247680" cy="302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970680" y="4803840"/>
              <a:ext cx="2476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970680" y="4834080"/>
              <a:ext cx="247680" cy="158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970680" y="4849920"/>
              <a:ext cx="247680" cy="3168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970680" y="4881600"/>
              <a:ext cx="247680" cy="30240"/>
            </a:xfrm>
            <a:prstGeom prst="rect">
              <a:avLst/>
            </a:prstGeom>
            <a:solidFill>
              <a:srgbClr val="696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970680" y="4911840"/>
              <a:ext cx="247680" cy="158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970680" y="4927680"/>
              <a:ext cx="247680" cy="302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970680" y="49579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970680" y="4973760"/>
              <a:ext cx="247680" cy="31680"/>
            </a:xfrm>
            <a:prstGeom prst="rect">
              <a:avLst/>
            </a:prstGeom>
            <a:solidFill>
              <a:srgbClr val="787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970680" y="5005440"/>
              <a:ext cx="24768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970680" y="503568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970680" y="5051520"/>
              <a:ext cx="247680" cy="30240"/>
            </a:xfrm>
            <a:prstGeom prst="rect">
              <a:avLst/>
            </a:prstGeom>
            <a:solidFill>
              <a:srgbClr val="838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970680" y="5081760"/>
              <a:ext cx="247680" cy="3168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970680" y="5113440"/>
              <a:ext cx="247680" cy="140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970680" y="5127480"/>
              <a:ext cx="247680" cy="320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970680" y="5159520"/>
              <a:ext cx="247680" cy="2988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970680" y="518940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970680" y="52052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970680" y="523548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970680" y="5267160"/>
              <a:ext cx="247680" cy="1620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970680" y="5283360"/>
              <a:ext cx="247680" cy="298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970680" y="531324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970680" y="5345280"/>
              <a:ext cx="24768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9706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2" name=""/>
          <p:cNvSpPr/>
          <p:nvPr/>
        </p:nvSpPr>
        <p:spPr>
          <a:xfrm>
            <a:off x="6970680" y="4572000"/>
            <a:ext cx="247680" cy="819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7558200" y="4849920"/>
            <a:ext cx="245880" cy="541080"/>
            <a:chOff x="7558200" y="4849920"/>
            <a:chExt cx="245880" cy="541080"/>
          </a:xfrm>
        </p:grpSpPr>
        <p:sp>
          <p:nvSpPr>
            <p:cNvPr id="1414" name=""/>
            <p:cNvSpPr/>
            <p:nvPr/>
          </p:nvSpPr>
          <p:spPr>
            <a:xfrm>
              <a:off x="7558200" y="4849920"/>
              <a:ext cx="2458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558200" y="4865760"/>
              <a:ext cx="2458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558200" y="4896000"/>
              <a:ext cx="24588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558200" y="4911840"/>
              <a:ext cx="245880" cy="3168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558200" y="494352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558200" y="4957920"/>
              <a:ext cx="245880" cy="31680"/>
            </a:xfrm>
            <a:prstGeom prst="rect">
              <a:avLst/>
            </a:prstGeom>
            <a:solidFill>
              <a:srgbClr val="555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558200" y="4989600"/>
              <a:ext cx="245880" cy="15840"/>
            </a:xfrm>
            <a:prstGeom prst="rect">
              <a:avLst/>
            </a:prstGeom>
            <a:solidFill>
              <a:srgbClr val="595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558200" y="500544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558200" y="5035680"/>
              <a:ext cx="245880" cy="158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558200" y="5051520"/>
              <a:ext cx="245880" cy="302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558200" y="5081760"/>
              <a:ext cx="245880" cy="158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558200" y="5097600"/>
              <a:ext cx="2458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558200" y="5113440"/>
              <a:ext cx="245880" cy="302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558200" y="5143680"/>
              <a:ext cx="24588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558200" y="515952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558200" y="518940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558200" y="5205240"/>
              <a:ext cx="245880" cy="3024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558200" y="5235480"/>
              <a:ext cx="2458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558200" y="5251320"/>
              <a:ext cx="245880" cy="320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558200" y="5283360"/>
              <a:ext cx="245880" cy="1404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558200" y="5297400"/>
              <a:ext cx="245880" cy="3168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558200" y="532908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558200" y="534528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558200" y="537516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" name=""/>
          <p:cNvSpPr/>
          <p:nvPr/>
        </p:nvSpPr>
        <p:spPr>
          <a:xfrm>
            <a:off x="7558200" y="4849920"/>
            <a:ext cx="245880" cy="541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536840" y="2301840"/>
            <a:ext cx="1440" cy="3089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474920" y="539100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474920" y="49435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474920" y="45100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474920" y="40622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474920" y="363060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474920" y="31813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474920" y="27496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474920" y="23018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536840" y="5391000"/>
            <a:ext cx="702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15368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212400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27097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32972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38829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44704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50562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56275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62150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68007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73882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79740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856152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74060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32668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91384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49956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338880" y="3892680"/>
            <a:ext cx="37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5,7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970680" y="4294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0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558200" y="45720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5,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202240" y="5113440"/>
            <a:ext cx="206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815800" y="3259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1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244480" y="299736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4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672800" y="28116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6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087080" y="26416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8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316160" y="5283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316160" y="4834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211040" y="4402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211040" y="395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211040" y="352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211040" y="30733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211040" y="264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211040" y="2193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rot="16200000">
            <a:off x="16221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rot="16200000">
            <a:off x="22096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rot="16200000">
            <a:off x="27954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rot="16200000">
            <a:off x="33825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rot="16200000">
            <a:off x="39686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6200000">
            <a:off x="45558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rot="16200000">
            <a:off x="51274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rot="16200000">
            <a:off x="57132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rot="16200000">
            <a:off x="63003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6200000">
            <a:off x="68864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rot="16200000">
            <a:off x="74736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rot="16200000">
            <a:off x="805932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rot="16200000">
            <a:off x="-147600" y="3630600"/>
            <a:ext cx="21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% ARANCEL IM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75384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49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08000" y="1628640"/>
          <a:ext cx="8893080" cy="47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628640"/>
                    <a:ext cx="8893080" cy="47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TASA INTERÉS CHILE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1324080" cy="1628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49520" y="6381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101080" y="0"/>
            <a:ext cx="1001520" cy="1587600"/>
            <a:chOff x="8101080" y="0"/>
            <a:chExt cx="1001520" cy="1587600"/>
          </a:xfrm>
        </p:grpSpPr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8101080" y="0"/>
              <a:ext cx="1001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EITES Y OLEAGINO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CEITES PUROS: ARANCEL CERO INMEDIATO, CON EXCEPCIÓN DEL ACEITE DE RAPS O CANO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12 AÑOS, CON DESGRAVACIÓN IGUAL A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3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504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ZÚ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 MANTIENE LA BANDA O ARANCEL CONSOLIDADO ANTE LA OMC POR 12 AÑOS, SEGÚN PLAZOS Y DESGRAVACIONES SIMILARES AL CASO DE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ISTENCIA DE CLÁUSULA, QUE OBLIGA A CHILE A SER EXCEDENTARIO EN AZÚCAR, PARA PODER EXPOR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0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AZÚCAR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1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458200" cy="4800600"/>
          </a:xfrm>
          <a:prstGeom prst="rect">
            <a:avLst/>
          </a:prstGeom>
          <a:ln w="0">
            <a:noFill/>
          </a:ln>
        </p:spPr>
      </p:pic>
      <p:pic>
        <p:nvPicPr>
          <p:cNvPr id="1512" name="BN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513" name=""/>
          <p:cNvSpPr/>
          <p:nvPr/>
        </p:nvSpPr>
        <p:spPr>
          <a:xfrm>
            <a:off x="609480" y="63817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1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INMED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19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20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1" name=""/>
          <p:cNvGraphicFramePr/>
          <p:nvPr/>
        </p:nvGraphicFramePr>
        <p:xfrm>
          <a:off x="914400" y="2327400"/>
          <a:ext cx="7238880" cy="317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27400"/>
                    <a:ext cx="723888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26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27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9" name=""/>
          <p:cNvGraphicFramePr/>
          <p:nvPr/>
        </p:nvGraphicFramePr>
        <p:xfrm>
          <a:off x="917640" y="2276640"/>
          <a:ext cx="8043840" cy="394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2276640"/>
                    <a:ext cx="804384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1" name=""/>
          <p:cNvSpPr/>
          <p:nvPr/>
        </p:nvSpPr>
        <p:spPr>
          <a:xfrm>
            <a:off x="1065240" y="61722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34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6" name=""/>
          <p:cNvGraphicFramePr/>
          <p:nvPr/>
        </p:nvGraphicFramePr>
        <p:xfrm>
          <a:off x="762120" y="2216160"/>
          <a:ext cx="708660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16160"/>
                    <a:ext cx="70866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8" name=""/>
          <p:cNvSpPr/>
          <p:nvPr/>
        </p:nvSpPr>
        <p:spPr>
          <a:xfrm>
            <a:off x="7603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4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3" name=""/>
          <p:cNvGraphicFramePr/>
          <p:nvPr/>
        </p:nvGraphicFramePr>
        <p:xfrm>
          <a:off x="762120" y="2757600"/>
          <a:ext cx="7543800" cy="259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57600"/>
                    <a:ext cx="7543800" cy="25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48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0" name=""/>
          <p:cNvGraphicFramePr/>
          <p:nvPr/>
        </p:nvGraphicFramePr>
        <p:xfrm>
          <a:off x="457200" y="2776680"/>
          <a:ext cx="7772400" cy="281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76680"/>
                    <a:ext cx="7772400" cy="28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2" name=""/>
          <p:cNvSpPr/>
          <p:nvPr/>
        </p:nvSpPr>
        <p:spPr>
          <a:xfrm>
            <a:off x="45540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5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55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7" name=""/>
          <p:cNvGraphicFramePr/>
          <p:nvPr/>
        </p:nvGraphicFramePr>
        <p:xfrm>
          <a:off x="1219320" y="2695680"/>
          <a:ext cx="670536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95680"/>
                    <a:ext cx="670536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9" name=""/>
          <p:cNvSpPr/>
          <p:nvPr/>
        </p:nvSpPr>
        <p:spPr>
          <a:xfrm>
            <a:off x="129384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6:25:50Z</dcterms:created>
  <dc:creator>Carlos Arancibia</dc:creator>
  <dc:description/>
  <dc:language>en-US</dc:language>
  <cp:lastModifiedBy>Varinia Goldstein</cp:lastModifiedBy>
  <cp:lastPrinted>2003-04-03T19:56:17Z</cp:lastPrinted>
  <dcterms:modified xsi:type="dcterms:W3CDTF">2004-12-01T22:36:20Z</dcterms:modified>
  <cp:revision>86</cp:revision>
  <dc:subject/>
  <dc:title>Sin título de diapositiva</dc:title>
</cp:coreProperties>
</file>