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32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4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5.wmf" ContentType="image/x-wmf"/>
  <Override PartName="/ppt/media/image25.png" ContentType="image/png"/>
  <Override PartName="/ppt/media/image2.png" ContentType="image/png"/>
  <Override PartName="/ppt/media/image37.wmf" ContentType="image/x-wmf"/>
  <Override PartName="/ppt/media/image41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34.png" ContentType="image/png"/>
  <Override PartName="/ppt/media/image45.wmf" ContentType="image/x-wmf"/>
  <Override PartName="/ppt/media/image46.wmf" ContentType="image/x-wmf"/>
  <Override PartName="/ppt/media/image48.wmf" ContentType="image/x-wmf"/>
  <Override PartName="/ppt/media/image50.wmf" ContentType="image/x-wmf"/>
  <Override PartName="/ppt/media/image52.wmf" ContentType="image/x-wmf"/>
  <Override PartName="/ppt/media/image15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9.wmf" ContentType="image/x-wmf"/>
  <Override PartName="/ppt/media/image9.wmf" ContentType="image/x-wmf"/>
  <Override PartName="/ppt/media/image28.png" ContentType="image/png"/>
  <Override PartName="/ppt/media/image31.wmf" ContentType="image/x-wmf"/>
  <Override PartName="/ppt/media/image51.wmf" ContentType="image/x-wmf"/>
  <Override PartName="/ppt/media/image11.png" ContentType="image/png"/>
  <Override PartName="/ppt/media/image7.png" ContentType="image/png"/>
  <Override PartName="/ppt/media/image40.wmf" ContentType="image/x-wmf"/>
  <Override PartName="/ppt/media/image38.wmf" ContentType="image/x-wmf"/>
  <Override PartName="/ppt/media/image8.wmf" ContentType="image/x-wmf"/>
  <Override PartName="/ppt/media/image6.wmf" ContentType="image/x-wmf"/>
  <Override PartName="/ppt/media/image36.wmf" ContentType="image/x-wmf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7ABC-43F6-4546-8DE1-6DA68562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F464-7CB9-4847-B146-C2131DF3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A5FA-B1DD-4A8B-9D79-45509445C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D792-EDA8-4906-967C-907781441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622C-40AE-4AF4-93E9-0080A117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4F8A-63B4-4714-83E3-0DFBE2B1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D091-0E7D-4D06-8C9F-7AA04F8B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966D-A342-4296-8366-62E3C47D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F05C-3A57-4754-BBB4-F19BD035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C82A-3595-42FD-B61A-CA5755A4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CF6D-57F1-4CA5-9527-58823450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8068-1CF1-42AB-8CB9-F9BD6425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3400-AED9-4BDD-8CE3-2A9A47A93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8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http://www.terrandina.cl/espanol/portada_alto.htm" TargetMode="External"/><Relationship Id="rId2" Type="http://schemas.openxmlformats.org/officeDocument/2006/relationships/hyperlink" Target="http://www.terrandina.cl/espanol/portada_alto.htm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8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LC CHILE-EEUU: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EGOCIACIONES PARA EL SECTOR AGRÍC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41148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GUSTAVO ROJAS LE-B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PROFESOR FAC. AGRONOMÍA 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Times New Roman"/>
              </a:rPr>
              <a:t>gusrojas@puc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482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7650000" y="260280"/>
            <a:ext cx="1191600" cy="1616400"/>
            <a:chOff x="7650000" y="260280"/>
            <a:chExt cx="1191600" cy="161640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7650000" y="260280"/>
              <a:ext cx="1191600" cy="161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VOLUCIÓN ARANCEL ADUANERO CHIL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62120" y="1655640"/>
          <a:ext cx="7848360" cy="447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55640"/>
                    <a:ext cx="7848360" cy="44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908280" y="62485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49080" y="4937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Times New Roman"/>
              </a:rPr>
              <a:t>6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8172360" y="0"/>
            <a:ext cx="930240" cy="1379520"/>
            <a:chOff x="8172360" y="0"/>
            <a:chExt cx="930240" cy="1379520"/>
          </a:xfrm>
        </p:grpSpPr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8172360" y="0"/>
              <a:ext cx="930240" cy="1379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4" name=""/>
          <p:cNvGraphicFramePr/>
          <p:nvPr/>
        </p:nvGraphicFramePr>
        <p:xfrm>
          <a:off x="685800" y="2666880"/>
          <a:ext cx="7620120" cy="276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66880"/>
                    <a:ext cx="76201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6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7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6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69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1" name=""/>
          <p:cNvGraphicFramePr/>
          <p:nvPr/>
        </p:nvGraphicFramePr>
        <p:xfrm>
          <a:off x="685800" y="2666880"/>
          <a:ext cx="7467480" cy="27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66880"/>
                    <a:ext cx="7467480" cy="27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3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4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75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76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8" name=""/>
          <p:cNvGraphicFramePr/>
          <p:nvPr/>
        </p:nvGraphicFramePr>
        <p:xfrm>
          <a:off x="1066680" y="2286000"/>
          <a:ext cx="655344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86000"/>
                    <a:ext cx="655344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0" name=""/>
          <p:cNvSpPr/>
          <p:nvPr/>
        </p:nvSpPr>
        <p:spPr>
          <a:xfrm>
            <a:off x="1065240" y="632448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1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82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83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5" name=""/>
          <p:cNvGraphicFramePr/>
          <p:nvPr/>
        </p:nvGraphicFramePr>
        <p:xfrm>
          <a:off x="762120" y="2857680"/>
          <a:ext cx="7543800" cy="23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57680"/>
                    <a:ext cx="754380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7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8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8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90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 4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594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595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7" name=""/>
          <p:cNvGraphicFramePr/>
          <p:nvPr/>
        </p:nvGraphicFramePr>
        <p:xfrm>
          <a:off x="685800" y="2776680"/>
          <a:ext cx="754380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76680"/>
                    <a:ext cx="754380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9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0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01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02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4" name=""/>
          <p:cNvGraphicFramePr/>
          <p:nvPr/>
        </p:nvGraphicFramePr>
        <p:xfrm>
          <a:off x="838080" y="2695680"/>
          <a:ext cx="7239240" cy="294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695680"/>
                    <a:ext cx="723924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6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7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0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09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1" name=""/>
          <p:cNvGraphicFramePr/>
          <p:nvPr/>
        </p:nvGraphicFramePr>
        <p:xfrm>
          <a:off x="533520" y="2406600"/>
          <a:ext cx="7391160" cy="267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06600"/>
                    <a:ext cx="739116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3" name=""/>
          <p:cNvSpPr/>
          <p:nvPr/>
        </p:nvSpPr>
        <p:spPr>
          <a:xfrm>
            <a:off x="531720" y="52578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4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15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16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 8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62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62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3" name=""/>
          <p:cNvGraphicFramePr/>
          <p:nvPr/>
        </p:nvGraphicFramePr>
        <p:xfrm>
          <a:off x="762120" y="2614680"/>
          <a:ext cx="6781680" cy="306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14680"/>
                    <a:ext cx="67816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5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6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27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1628" name="" descr=""/>
            <p:cNvPicPr/>
            <p:nvPr/>
          </p:nvPicPr>
          <p:blipFill>
            <a:blip r:embed="rId4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CHILE PARTICIPA EN FOROS MULTILATE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SUSCRIPCIÓN DE ACUERDOS BILATE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REDUCCIÓN GRADUAL DE ARANCELES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8244000" y="0"/>
            <a:ext cx="866520" cy="1587600"/>
            <a:chOff x="8244000" y="0"/>
            <a:chExt cx="866520" cy="1587600"/>
          </a:xfrm>
        </p:grpSpPr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58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10-12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632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633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5" name=""/>
          <p:cNvGraphicFramePr/>
          <p:nvPr/>
        </p:nvGraphicFramePr>
        <p:xfrm>
          <a:off x="685800" y="2452680"/>
          <a:ext cx="6553080" cy="355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52680"/>
                    <a:ext cx="6553080" cy="35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7" name=""/>
          <p:cNvSpPr/>
          <p:nvPr/>
        </p:nvSpPr>
        <p:spPr>
          <a:xfrm>
            <a:off x="836640" y="609588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8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39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1640" name="" descr=""/>
            <p:cNvPicPr/>
            <p:nvPr/>
          </p:nvPicPr>
          <p:blipFill>
            <a:blip r:embed="rId4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1143000" y="2286000"/>
          <a:ext cx="678168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86000"/>
                    <a:ext cx="678168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4" name=""/>
          <p:cNvSpPr/>
          <p:nvPr/>
        </p:nvSpPr>
        <p:spPr>
          <a:xfrm>
            <a:off x="1217520" y="62485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5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46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47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416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UOTAS OTORGADAS POR 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9" name=""/>
          <p:cNvGraphicFramePr/>
          <p:nvPr/>
        </p:nvGraphicFramePr>
        <p:xfrm>
          <a:off x="914400" y="1730520"/>
          <a:ext cx="7315200" cy="388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30520"/>
                    <a:ext cx="7315200" cy="38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1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2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5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54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IMPACTO DE UN TLC 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 ENTRE CHILE-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EXPORTACIONES SE EXPANDEN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</a:t>
            </a: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505,4</a:t>
            </a: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 MILLONES AL AÑO (15,9% SOBRE EL ACTUAL) Y CON 20 MIL EMPLEOS M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DESVÍO COMERCIO: US$ 246,0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NUEVO COMERCIO:  US$ 259,4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838080" y="4114800"/>
            <a:ext cx="73152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5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6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IMPACTO DE UN TLC 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 ENTRE CHILE-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IMPORTACION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US$ 428,3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SILVOAGROPECUARIAS Y PESCA: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US$ 94,3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MINERO-INDUSTRIAL: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US$ 334,0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6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65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IMPACTO DE UN TLC 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 ENTRE CHILE-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EXPORTACIONES: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505,4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263,5 MILL SILVOAGROPECU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241,9 MILL  MINERO-INDUS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6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7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AFÍOS Y PROYECCIONE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LC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EQUEÑOS Y MEDIANOS PRODUCTO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NVERSIONES PARA ACCEDER A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RECIMIENTO DEL COMERCIO POR SOBRE EL 10% ANUAL DESPUÉS DEL AÑO 8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XIGENCIAS LABORALES, MEDIOAMBIENTALES, INOCUIDAD, SEGUR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7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75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AFÍOS Y PROYECCIONE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LC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BUSO” SISTEMA ANTIDUMP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AÑO A LA PRODUCCIÓN DE TRIGO Y REMOLACH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NUEVOS TLC FIRMADOS POR LOS EEU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MODERNIZACIÓN DEL ESTADO Y EMPRESARIOS AGRÍCOL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7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8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826560" y="620640"/>
            <a:ext cx="7704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APROXIMACI</a:t>
            </a: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Ó</a:t>
            </a: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N PO</a:t>
            </a: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É</a:t>
            </a: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FELICIDAD: te ví de cerca pero no pude hablar conti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¿será mejor el no buscar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¿será mejor el ser altivo en la desgrac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y no sentirse juguete vil de tus caprichos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Times New Roman"/>
              </a:rPr>
              <a:t>José Santos Chocano (1875-193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84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1685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ONSOLIDACIÓN DE ARANCELES AD-VALOREM DECRECIENTES ANTE OM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TRIGO, ACEITES Y LECHE EN 31,5 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ZÚCAR EN 98% (200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EL RESTO SE DEJÓ EN 2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8244000" y="0"/>
            <a:ext cx="866520" cy="1587600"/>
            <a:chOff x="8244000" y="0"/>
            <a:chExt cx="866520" cy="1587600"/>
          </a:xfrm>
        </p:grpSpPr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58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L TLC CHILE-EEUU ES UN ACUERDO FAVORABLE PARA LA AGRICULTURA CHILENA, PERO PRESENTA GRANDES DESAFÍOS E INCERTIDUMBRE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8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9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LC CHILE-EEUU: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EGOCIACIÓN PARA EL SECTOR AGRÍC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GUSTAVO ROJAS LE-BE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ROFESOR FAC. AGRONOMÍA-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usrojas@puc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9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95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HILE SE ALINEA CON GRUPO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AIRNS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:                             REDUCCIÓN DE SUBSIDIOS A AGRICULTURA Y MAYOR LIBERALIZACIÓN DEL COMER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8244000" y="0"/>
            <a:ext cx="866520" cy="1658880"/>
            <a:chOff x="8244000" y="0"/>
            <a:chExt cx="866520" cy="1658880"/>
          </a:xfrm>
        </p:grpSpPr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PARECEN LOS ACE O ACUERDOS DE COMPLEMENTACIÓN ECONÓM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83: ALA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2: MÉXICO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3: VENEZUELA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3: BOLIVIA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4: COLOMBIA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8244000" y="0"/>
            <a:ext cx="866520" cy="1658880"/>
            <a:chOff x="8244000" y="0"/>
            <a:chExt cx="866520" cy="1658880"/>
          </a:xfrm>
        </p:grpSpPr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4: ECUADOR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6: MERCOSUR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7: CANADÁ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8: PERÚ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2: CENTROAMERICA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U.E.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COREA DEL SUR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8172360" y="0"/>
            <a:ext cx="930240" cy="1658880"/>
            <a:chOff x="8172360" y="0"/>
            <a:chExt cx="930240" cy="165888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8172360" y="0"/>
              <a:ext cx="93024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EEUU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EFTA 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OTROS ACE O TLC EN ESTU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L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HINA, JAPÓN, IND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NUEVA ZELANDA Y SINGAP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8172360" y="0"/>
            <a:ext cx="930240" cy="1658880"/>
            <a:chOff x="8172360" y="0"/>
            <a:chExt cx="930240" cy="1658880"/>
          </a:xfrm>
        </p:grpSpPr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8172360" y="0"/>
              <a:ext cx="93024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OLUCIÓN COMERCIO CHILENO 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422360"/>
          <a:ext cx="7924680" cy="467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22360"/>
                    <a:ext cx="792468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8172360" y="0"/>
            <a:ext cx="930240" cy="1446120"/>
            <a:chOff x="8172360" y="0"/>
            <a:chExt cx="930240" cy="1446120"/>
          </a:xfrm>
        </p:grpSpPr>
        <p:pic>
          <p:nvPicPr>
            <p:cNvPr id="135" name="" descr=""/>
            <p:cNvPicPr/>
            <p:nvPr/>
          </p:nvPicPr>
          <p:blipFill>
            <a:blip r:embed="rId4"/>
            <a:stretch/>
          </p:blipFill>
          <p:spPr>
            <a:xfrm>
              <a:off x="8172360" y="0"/>
              <a:ext cx="930240" cy="144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457200" y="571680"/>
            <a:ext cx="8381880" cy="5821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SITUACIÓN N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8317080" y="0"/>
            <a:ext cx="793440" cy="1166760"/>
            <a:chOff x="8317080" y="0"/>
            <a:chExt cx="793440" cy="1166760"/>
          </a:xfrm>
        </p:grpSpPr>
        <p:pic>
          <p:nvPicPr>
            <p:cNvPr id="140" name="" descr=""/>
            <p:cNvPicPr/>
            <p:nvPr/>
          </p:nvPicPr>
          <p:blipFill>
            <a:blip r:embed="rId3"/>
            <a:stretch/>
          </p:blipFill>
          <p:spPr>
            <a:xfrm>
              <a:off x="8317080" y="0"/>
              <a:ext cx="79344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RTICIPACIÓN SECTORIAL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N EL PIB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BN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5720" cy="105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-758880" y="1419120"/>
          <a:ext cx="9178920" cy="4716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758880" y="1419120"/>
                    <a:ext cx="9178920" cy="47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78240" y="609300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47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48: CHILE SUSCRIBE EL GA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(ACUERDO GENERAL DE ARANCELES ADUANER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SE CREA LA OMC (1995) Y SE REALIZAN 8 RONDAS DE NEGOCIACIONES COMERCIALES MULTILATER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CHILE:</a:t>
            </a:r>
            <a:br>
              <a:rPr sz="3600"/>
            </a:b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PIB DE LA AGRICULT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38080" y="1600200"/>
          <a:ext cx="723924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2392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93880" y="61657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154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RTICIPACIÓN DEL PIB SILVOAGROPECUARIO POR SECTOR PRODUCTIVO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BN" descr=""/>
          <p:cNvPicPr/>
          <p:nvPr/>
        </p:nvPicPr>
        <p:blipFill>
          <a:blip r:embed="rId1"/>
          <a:stretch/>
        </p:blipFill>
        <p:spPr>
          <a:xfrm>
            <a:off x="0" y="0"/>
            <a:ext cx="857160" cy="105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250920" y="2133720"/>
          <a:ext cx="8435880" cy="3840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133720"/>
                    <a:ext cx="8435880" cy="3840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908280" y="62485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8332920" y="0"/>
            <a:ext cx="780120" cy="1307160"/>
            <a:chOff x="8332920" y="0"/>
            <a:chExt cx="780120" cy="1307160"/>
          </a:xfrm>
        </p:grpSpPr>
        <p:pic>
          <p:nvPicPr>
            <p:cNvPr id="161" name="" descr=""/>
            <p:cNvPicPr/>
            <p:nvPr/>
          </p:nvPicPr>
          <p:blipFill>
            <a:blip r:embed="rId4"/>
            <a:stretch/>
          </p:blipFill>
          <p:spPr>
            <a:xfrm>
              <a:off x="8332920" y="0"/>
              <a:ext cx="7801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60962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COMERCIO EXTERI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166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OLUCIÓN COMERCIO SILVOAGROPECUARIO 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5800" y="1579680"/>
          <a:ext cx="8001000" cy="459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79680"/>
                    <a:ext cx="800100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73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PRINCIPALES PRODUCTOS EXPORTADOS (MM US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95160" y="1851120"/>
          <a:ext cx="7851960" cy="428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1851120"/>
                    <a:ext cx="7851960" cy="42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7" name="BN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031760" cy="1268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180" name="" descr=""/>
            <p:cNvPicPr/>
            <p:nvPr/>
          </p:nvPicPr>
          <p:blipFill>
            <a:blip r:embed="rId4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PRINCIPALES PRODUCTOS IMPORTADOS (MM US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703440" y="1709640"/>
          <a:ext cx="7657920" cy="44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1709640"/>
                    <a:ext cx="765792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BN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031760" cy="1268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187" name="" descr=""/>
            <p:cNvPicPr/>
            <p:nvPr/>
          </p:nvPicPr>
          <p:blipFill>
            <a:blip r:embed="rId4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99640" y="456840"/>
            <a:ext cx="75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ILE-MÉ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838080" y="1413000"/>
          <a:ext cx="7658280" cy="488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13000"/>
                    <a:ext cx="7658280" cy="48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1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752760" y="630864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ILE-VENEZU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914400" y="1557360"/>
          <a:ext cx="7543800" cy="4843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557360"/>
                    <a:ext cx="7543800" cy="48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752760" y="63817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201" name="" descr=""/>
            <p:cNvPicPr/>
            <p:nvPr/>
          </p:nvPicPr>
          <p:blipFill>
            <a:blip r:embed="rId4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PER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914400" y="1562040"/>
          <a:ext cx="7391520" cy="48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2040"/>
                    <a:ext cx="7391520" cy="48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5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8420040" y="0"/>
            <a:ext cx="696600" cy="1166760"/>
            <a:chOff x="8420040" y="0"/>
            <a:chExt cx="696600" cy="1166760"/>
          </a:xfrm>
        </p:grpSpPr>
        <p:pic>
          <p:nvPicPr>
            <p:cNvPr id="208" name="" descr=""/>
            <p:cNvPicPr/>
            <p:nvPr/>
          </p:nvPicPr>
          <p:blipFill>
            <a:blip r:embed="rId4"/>
            <a:stretch/>
          </p:blipFill>
          <p:spPr>
            <a:xfrm>
              <a:off x="8420040" y="0"/>
              <a:ext cx="69660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COLOM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84360" y="1465200"/>
          <a:ext cx="8135640" cy="498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65200"/>
                    <a:ext cx="8135640" cy="49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2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8418600" y="0"/>
            <a:ext cx="698040" cy="1166760"/>
            <a:chOff x="8418600" y="0"/>
            <a:chExt cx="698040" cy="1166760"/>
          </a:xfrm>
        </p:grpSpPr>
        <p:pic>
          <p:nvPicPr>
            <p:cNvPr id="215" name="" descr=""/>
            <p:cNvPicPr/>
            <p:nvPr/>
          </p:nvPicPr>
          <p:blipFill>
            <a:blip r:embed="rId4"/>
            <a:stretch/>
          </p:blipFill>
          <p:spPr>
            <a:xfrm>
              <a:off x="8418600" y="0"/>
              <a:ext cx="69804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960: TRATADO DE MONTEVIDEO: SE CREÓ LA ALALC.     </a:t>
            </a: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(ASOCIACIÓN LATINOAMERICANA DE LIBRE COMERCIO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).     FRACAS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980: PAÍSES LATINOAMERICANOS CREARON  ALADI.         (</a:t>
            </a: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ASOCIACIÓN LATINOAMERICANA DE INTEGRACIÓN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826920" y="1557360"/>
          <a:ext cx="792180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9218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9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22" name="" descr=""/>
            <p:cNvPicPr/>
            <p:nvPr/>
          </p:nvPicPr>
          <p:blipFill>
            <a:blip r:embed="rId4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BOLI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826920" y="1557360"/>
          <a:ext cx="7777440" cy="49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77744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229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CANAD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900000" y="1557360"/>
          <a:ext cx="741708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57360"/>
                    <a:ext cx="741708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3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82440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36" name="" descr=""/>
            <p:cNvPicPr/>
            <p:nvPr/>
          </p:nvPicPr>
          <p:blipFill>
            <a:blip r:embed="rId4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MERCOS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762120" y="1668600"/>
          <a:ext cx="8096040" cy="458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68600"/>
                    <a:ext cx="809604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0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752760" y="623736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8332920" y="0"/>
            <a:ext cx="780120" cy="1307160"/>
            <a:chOff x="8332920" y="0"/>
            <a:chExt cx="780120" cy="1307160"/>
          </a:xfrm>
        </p:grpSpPr>
        <p:pic>
          <p:nvPicPr>
            <p:cNvPr id="243" name="" descr=""/>
            <p:cNvPicPr/>
            <p:nvPr/>
          </p:nvPicPr>
          <p:blipFill>
            <a:blip r:embed="rId4"/>
            <a:stretch/>
          </p:blipFill>
          <p:spPr>
            <a:xfrm>
              <a:off x="8332920" y="0"/>
              <a:ext cx="7801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71640" y="4568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ONCLUSIÓN ACUER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65120" y="2208240"/>
          <a:ext cx="8178840" cy="312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2208240"/>
                    <a:ext cx="817884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7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248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249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143000" y="201600"/>
            <a:ext cx="7010280" cy="6297480"/>
          </a:xfrm>
          <a:prstGeom prst="rect">
            <a:avLst/>
          </a:prstGeom>
          <a:ln w="0">
            <a:noFill/>
          </a:ln>
        </p:spPr>
      </p:pic>
      <p:pic>
        <p:nvPicPr>
          <p:cNvPr id="251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253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ESTRATEGIA EXPORT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TIPO DE CAMBIO AL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PROMOCIÓN DE EXPOR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PERTURA CUENTA DE CAPI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CUERDOS DE DOBLE TRIBU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FACILITAR FLUJO DE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CUERDOS COMERCIALES Y RESPETO A O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MEJORAR INFRAESTRUCTURA 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57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58" name="" descr=""/>
            <p:cNvPicPr/>
            <p:nvPr/>
          </p:nvPicPr>
          <p:blipFill>
            <a:blip r:embed="rId2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ESTRATEGIA EXPORT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OTECCIÓN DE DERECHOS LEGALES DE EXPORTAD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OMOCIÓN DE INNOVACIONES TECNOLÓG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STÍMULO PARA INCORPORAR PYMES A PROCESO EXPORTAD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63" name="" descr=""/>
            <p:cNvPicPr/>
            <p:nvPr/>
          </p:nvPicPr>
          <p:blipFill>
            <a:blip r:embed="rId2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6560" y="90756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ESTRATEGIA EXPORT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OMOCIÓN DE EXPORTACIONES CON MAYOR VALOR AGREG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REDUCIR BARRERAS Y OBSTÁCULOS AL COMERCIO EN EL PAÍS Y EN EL EXTER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MEJOR COORDINACIÓN DE LA POLÍTICA COMERC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67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268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772400" cy="6246720"/>
          </a:xfrm>
          <a:prstGeom prst="rect">
            <a:avLst/>
          </a:prstGeom>
          <a:ln w="0">
            <a:noFill/>
          </a:ln>
        </p:spPr>
      </p:pic>
      <p:pic>
        <p:nvPicPr>
          <p:cNvPr id="270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8420040" y="0"/>
            <a:ext cx="696600" cy="1166760"/>
            <a:chOff x="8420040" y="0"/>
            <a:chExt cx="696600" cy="1166760"/>
          </a:xfrm>
        </p:grpSpPr>
        <p:pic>
          <p:nvPicPr>
            <p:cNvPr id="272" name="" descr=""/>
            <p:cNvPicPr/>
            <p:nvPr/>
          </p:nvPicPr>
          <p:blipFill>
            <a:blip r:embed="rId3"/>
            <a:stretch/>
          </p:blipFill>
          <p:spPr>
            <a:xfrm>
              <a:off x="8420040" y="0"/>
              <a:ext cx="69660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980: CON ALADI SE RENEGOCIÓ EL “PATRIMONIO HISTÓRICO” O VENTAJAS RECÍPROCAS YA NEGOCIADAS PARCIALMENTE EN ALAL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DESARROLLO HACIA ADENTRO CON PREDOMINIO INDUSTRIAL POR SOBRE BIENES PRIMA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TLC</a:t>
            </a:r>
            <a:br>
              <a:rPr sz="4400"/>
            </a:b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CHILE - EE.UU.</a:t>
            </a:r>
            <a:br>
              <a:rPr sz="4400"/>
            </a:b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Y LA AGRICULTURA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275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276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762120" y="1703520"/>
          <a:ext cx="7924680" cy="431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03520"/>
                    <a:ext cx="79246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911520" y="60199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82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283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51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AGRICULTURAS SON COMPLEMENTARIAS Y NO COMPETI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AGRICULTURA DE EE.UU. ES MUY SUBSIDI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87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288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1981080"/>
            <a:ext cx="7772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Times New Roman"/>
              </a:rPr>
              <a:t>CONTRIBUCIÓN AL PIB (%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HILE:     4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EEUU:       0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EL PIB AGRÍCOLA DE ESTADOS UNIDOS ES 29,5 VECES MAYOR QUE EL PIB CHIL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69560" y="6095880"/>
            <a:ext cx="36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Banco Central de Chile y USDA, 2004</a:t>
            </a:r>
            <a:r>
              <a:rPr b="0" lang="es-CL" sz="24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9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29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85800" y="1981080"/>
            <a:ext cx="8153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Times New Roman"/>
              </a:rPr>
              <a:t>NÚMERO DE PREDI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      32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   2.2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12240" y="5834160"/>
            <a:ext cx="216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INE y USD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99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00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85800" y="243828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Times New Roman"/>
              </a:rPr>
              <a:t>EXPORTACIONES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( miles MMUS$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      5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    56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72360" y="568008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, 2004</a:t>
            </a:r>
            <a:r>
              <a:rPr b="0" lang="es-CL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06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762120" y="251460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Times New Roman"/>
              </a:rPr>
              <a:t>IMPORTACIONES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(miles MMUS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      1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    45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72000" y="5981760"/>
            <a:ext cx="239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, 2004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11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12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2514600"/>
            <a:ext cx="8381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  EXPORTÓ A EE.UU EL 200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1.857 Mill==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US$ 6,5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.UU. EXPORTÓ A CHILE EL 2003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 235 Mill== 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US$ 15,6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cc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9720" y="583236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, 2004</a:t>
            </a:r>
            <a:r>
              <a:rPr b="0" lang="es-CL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17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18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85800" y="1981080"/>
            <a:ext cx="7772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ESUPUESTO FISCAL (2003) PARA EL SECTOR AGRICULTU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Mill. US$ 3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 22,6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Mill. US$ 75.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 265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1880" y="621504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2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2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br>
              <a:rPr sz="3600"/>
            </a:b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(www.direcon.cl; www.sofofa.cl; www.manualtlc.cl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DISPOSICIONES Y DEFINICIONE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CCESO A MER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3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REGLAS DE ORI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4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ADMINISTRACIÓN ADUA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5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SALVAGUARDIAS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: GLOBALES; BILATERALES; ESPECIALES: TEXTILES Y AGRÍCO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28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329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 PARTIR DE 1975 EN ADELANTE, CHILE ADOPTA POLÍTICA DE APERTURA: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   “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PRODUCCIÓN DE BIENES CON VENTAJAS COMPARATIVAS O ADQUISICIÓN DE BIENES BARATOS EN EL EXTERIOR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 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6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NTIDUM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7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BARRERAS TÉCNICAS AL COMER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SUNTOS SANITARIOS Y FITOSANIT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9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MOVIMIENTO DE CAPITAL Y BALANZA DE PA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 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1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SERVICIOS Y COMERCIO                                               TRANSFRONTERI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2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ENTRADA TEMPORAL DE PERSONAS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DE NEGO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3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TELECOMUN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4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SERVICIOS FINANCI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5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COMERCIO ELECTRÓ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3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6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COMPRAS PÚBL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7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PROPIEDAD INTELE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8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MEDI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9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SUNTOS LABO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0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SOLUCIÓN DE CONTROVERS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1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MONOPOLIOS Y EMPRESAS DEL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4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CONTENIDOS DE UN TLC CHILE-EEU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83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2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3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DMINISTRACIÓN DEL T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4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EXCEPC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5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DISPOSICIONES FI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6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NEX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BN" descr=""/>
          <p:cNvPicPr/>
          <p:nvPr/>
        </p:nvPicPr>
        <p:blipFill>
          <a:blip r:embed="rId1"/>
          <a:stretch/>
        </p:blipFill>
        <p:spPr>
          <a:xfrm>
            <a:off x="0" y="0"/>
            <a:ext cx="1168560" cy="143676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49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25328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ESTRATEGIA NEGOCIADORA PARA SECTOR PRIV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ESTUDIO DE IMPACTO POR SECTOR PRODUC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FIJAR PRIORIDADES CLARAS Y CON ANTICIP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NCORPORAR PRIORIDADES EN EL EQUIPO NEGOCIADOR, EVITANDO CONFRONTACIÓN ENTRE SECTORES PRODU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5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5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ALIZAR FRECUENTES REUNIONES CON EQUIPO NEGOCI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COMPAÑAR AL EQUIPO NEGOCIADOR EN “CUARTO DEL LADO”  EN TODAS LAS RONDAS DE NEGOCI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TOMAR CONTACTO INFORMAL CON EQUIPO NEGOCIADOR DEL OTRO PAÍ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5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5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ALIZAR NUMEROSAS REUNIONES CON REPRESENTANTES DE RUBROS ORGANIZADOS PARA SOLICITAR OPINIÓN Y RESPALDO FRENTE A FLEXIBILIZAR  POSI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ARTICIPAR ACTIVAMENTE EN REUNIONES A TODO NIVEL PARA AFIANZAR POSICIONES “DURA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64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CONOCER RESULTADOS DE SECTORES PRIVADOS DE OTROS PAÍSES QUE YA TUVIERON LA EXPERIENCIA NEGOCIADO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TRABAJAR MUY INTENSAMENTE CON LA PRENSA NACIONAL PARA AFIANZAR POSICIONES ANTE LA OPINIÓN PÚB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6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6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VISITAR A GREMIOS EN LOS EE.UU. PA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)-VENDER LA IDEA DE “SOCIEDAD”  EN RUBROS ATRA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I)-SOLICITAR INVERSIONES PARA AGRANDAR LOS NEGOC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II)-REDUCIRLES EL MIEDO A NEGOCI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7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7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CONTRATAR “LOBISTAS” EN LOS EE.U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CELERAR RITMO DE NEGOCIACIONES PARA TRATAR TEMAS CONFLICTIVOS EN LAS PRIMERAS REUN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7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7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SE PROFUNDIZA CONCEPTO DE MERCADO COMO BASE DE ASIGNACIÓN DE RECURS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RESULTADOS MUY POSITIVOS PERO CON ALGUNOS SECTORES DAÑ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ARTICIPAR EN TODAS LAS REUNIONES EN LOS EE.UU. CON LOS STAFFERS, CONGRESISTAS, GOBERNADORES,  LOBISTAS,  GREMIOS, BANCOS  Y EMPRESAS INFLUYENTES PARA SOLICITAR APOYO A PLANTEAMIENTOS DE INTERÉ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POYARSE MUCHO EN AMCH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8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8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AGRÍCO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MANTENER BANDAS DE PRE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BRIR MERCADO PARA LÁCTEOS, CARNES ROJAS, AGROINDUST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CONSOLIDAR EL “SGP” PARA LA FRUTA FRESCA Y FORES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389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AGRÍCO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NO NEGOCIAR ARANCELES PARA VI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NO NEGOCIAR COMERCIO DE PRODUCTOS SUBSIDI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ROTEGER CARNES NEGRAS DE 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9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MINERÍA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TEXTILES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DUST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9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39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SERVICIOS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LIBERTAD PARA ACCEDER A MERC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BANCA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STRICCIONES DE INGRESO A CH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MANTENCIÓN DEL “ENCAJE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0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528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DUSTRIA AUTOMOTRÍZ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OSTERGAR ACCESO;  MANTENER “IMPUESTO AL LUJO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PESCA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 Y MANTENER LAS 200 MIL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0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0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PRIOR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OTROS TEMAS DE INTERÉS PARA EL ACUER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SOLUCIÓN DE CONTROVERS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OTROS TEMAS DE INTERÉS PARA CH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DERECHOS DE PROPIEDAD INTELECTUAL Y COMER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LEY ANTIDUMPING EN EEU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1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1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PRIOR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OTROS TEMAS DE INTERÉS PARA CH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STRICCIONES LABORALES Y AMBIENT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ELIMINACIÓN DE BARRERAS PARA-ARANCELA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NVERSIONES: INCENTIVAR.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18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419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SULTADOS PARA EL SECTOR SILVOAGROPECUARIO</a:t>
            </a:r>
            <a:br>
              <a:rPr sz="4400"/>
            </a:b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TL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CHILE-EEU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424" name="" descr=""/>
            <p:cNvPicPr/>
            <p:nvPr/>
          </p:nvPicPr>
          <p:blipFill>
            <a:blip r:embed="rId2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534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L CABO SE 12 AÑOS, SE ELIMINAN TODOS LOS ARANCELES    AD-VALOREM  Y ESPECÍFICOS PARA TODOS LOS PRODUCTOS  SILVOAGROPECUARIOS,  SIN EXCEP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 ESTABLECIÓ QUE NO HABRÁ COMERCIO ENTRE CHILE Y EEUU DE PRODUCTOS QUE RECIBEN SUBSIDIOS A LA EXPOR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2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2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85 A´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AMBIO LIB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REBAJA ARANCELARIA UNILATE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FACILIDAD OPERACIONAL EN COMERCIO EXTER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PROGRAMA DE PROMOCIÓN DE EXPORT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GRAN INVERSIÓN EXTER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SE CONSOLIDÓ EL SISTEMA GENERAL DE PREFERENCIAS (SGP) PARA LA GRAN MAYORÍA DE LOS PRODUCT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SE ESTABLECIÓ UNA SALVAGUARDIA AGRÍCOLA BILATERAL, CON  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28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 PRODUCTOS POR PARTE DE EE.UU. Y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12 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POR PARTE DE CH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33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434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 NEGOCIÓ UNA DESGRAVACIÓN LINEAL ANUAL PARA TODOS LOS PRODUCTOS QUE NO ESTÁN AFECTOS  A 12 AÑOS DE DESGRAV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OS PRODUCTOS AFECTOS A CUOTAS, TIENEN UNA TASA DE CRECIMIENTO ANUAL COMPUESTA Y VARIABLE PARA CADA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3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3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SI EN ALGÚN PRODUCTO QUE NO ESTÁ EN DESGRAVACIÓN INMEDIATA O AFECTO AL SGP, CHILE O LOS EEUU SOBREPASAN EL </a:t>
            </a:r>
            <a:r>
              <a:rPr b="1" lang="es-CL" sz="3200" spc="-1" strike="noStrike">
                <a:solidFill>
                  <a:srgbClr val="333399"/>
                </a:solidFill>
                <a:latin typeface="Times New Roman"/>
              </a:rPr>
              <a:t>50%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 DE LAS IMPORTACIONES O ENVÍA MAS DE US$ </a:t>
            </a:r>
            <a:r>
              <a:rPr b="1" lang="es-CL" sz="3200" spc="-1" strike="noStrike">
                <a:solidFill>
                  <a:srgbClr val="333399"/>
                </a:solidFill>
                <a:latin typeface="Times New Roman"/>
              </a:rPr>
              <a:t>110 MILL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, SE PODRÍA APLICAR UN ALZA ARANCELARIA QUE PODRÍA DEJAR EL ARANCEL A NIVEL FUERA DEL SG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4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44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EL TOTAL DE PRODUCTOS IMPORTADOS POR CHILE DESDE LOS EEUU, EL 88,5% QUEDÓ EN DESGRAVACIÓN INMEDIATA.               POR EL CONTRARIO, EL 87% DE LOS PRODUCTOS EXPORTADOS POR CHILE A EEUU QUEDÓ CON DESGRAVACIÓN INMEDI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4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4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N CUANTO A PRODUCTOS AGROPECUARIOS, EL 55% DE LAS IMPORTACIONES DESDE EEUU ESTÁN AFECTAS A DESGRAVACIÓN INMEDIATA Y EL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4%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DE LOS PRODUCTOS CHILENOS INGRESARÁN A EEUU CON CERO ARANCEL INMEDIATO, UNA VEZ QUE SE INICIE EL ACUER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5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609624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COMERCIO EXTERI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458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459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ff0000"/>
                </a:solidFill>
                <a:uFillTx/>
                <a:latin typeface="Times New Roman"/>
              </a:rPr>
              <a:t>FRUTAS Y HORTALIZAS FRES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Times New Roman"/>
              </a:rPr>
              <a:t>CONSOLIDACIÓN DEL SGP:</a:t>
            </a:r>
            <a:r>
              <a:rPr b="0" lang="es-CL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asegura la continuidad de arancel cero para la gran mayoría de los productos. Entre las excepciones se encuentran las clementinas, naranjas, almendras e higos con desgravación a 4 años, limones y alcachofas con 8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Times New Roman"/>
              </a:rPr>
              <a:t>CUOTA PALTAS:</a:t>
            </a:r>
            <a:r>
              <a:rPr b="0" lang="es-CL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49.000 TON.                            34.000 oct-dic y 15.000 resto del año                       (65% del volúmen exportado a EEUU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6877080" y="4846680"/>
            <a:ext cx="1962000" cy="1763640"/>
          </a:xfrm>
          <a:prstGeom prst="rect">
            <a:avLst/>
          </a:prstGeom>
          <a:ln w="0">
            <a:noFill/>
          </a:ln>
        </p:spPr>
      </p:pic>
      <p:pic>
        <p:nvPicPr>
          <p:cNvPr id="463" name="B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64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465" name="" descr=""/>
            <p:cNvPicPr/>
            <p:nvPr/>
          </p:nvPicPr>
          <p:blipFill>
            <a:blip r:embed="rId3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FORES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ONSOLIDACIÓN DEL SGP: ARANCEL CERO, INMEDIATO Y PERMANENTE.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TODOS LOS PRODUCTO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6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7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V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DESGRAVACIÓN EN 12 AÑOS QUE PARTE DESDE EL 5% DE ARANCEL VIGENTE PARA VINO A GRAN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CONCEDERÁN A CHILE, TODOS LOS BENEFICIOS QUE SE OTORGUEN A TERCEROS PAÍSES EN CUANTO A CONDICIONES DE MERCADO EN LOS EEU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“CONSOLIDÓ” EL TEMA MARCA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171360" y="2017800"/>
            <a:ext cx="8801280" cy="2759040"/>
            <a:chOff x="171360" y="2017800"/>
            <a:chExt cx="8801280" cy="2759040"/>
          </a:xfrm>
        </p:grpSpPr>
        <p:sp>
          <p:nvSpPr>
            <p:cNvPr id="474" name=""/>
            <p:cNvSpPr/>
            <p:nvPr/>
          </p:nvSpPr>
          <p:spPr>
            <a:xfrm>
              <a:off x="171360" y="2017800"/>
              <a:ext cx="8801280" cy="8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1360" y="2017800"/>
              <a:ext cx="8801280" cy="27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17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6" name="" descr="Alto de Terra Andina">
            <a:hlinkClick r:id="rId2"/>
          </p:cNvPr>
          <p:cNvPicPr/>
          <p:nvPr/>
        </p:nvPicPr>
        <p:blipFill>
          <a:blip r:embed="rId3"/>
          <a:srcRect l="14669" t="0" r="31999" b="19199"/>
          <a:stretch/>
        </p:blipFill>
        <p:spPr>
          <a:xfrm>
            <a:off x="7543800" y="4613400"/>
            <a:ext cx="1523880" cy="2244600"/>
          </a:xfrm>
          <a:prstGeom prst="rect">
            <a:avLst/>
          </a:prstGeom>
          <a:ln w="0">
            <a:noFill/>
          </a:ln>
        </p:spPr>
      </p:pic>
      <p:pic>
        <p:nvPicPr>
          <p:cNvPr id="477" name="BN" descr=""/>
          <p:cNvPicPr/>
          <p:nvPr/>
        </p:nvPicPr>
        <p:blipFill>
          <a:blip r:embed="rId4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7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79" name="" descr=""/>
            <p:cNvPicPr/>
            <p:nvPr/>
          </p:nvPicPr>
          <p:blipFill>
            <a:blip r:embed="rId5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295280" y="457200"/>
            <a:ext cx="6553440" cy="6172200"/>
          </a:xfrm>
          <a:prstGeom prst="rect">
            <a:avLst/>
          </a:prstGeom>
          <a:ln w="0">
            <a:noFill/>
          </a:ln>
        </p:spPr>
      </p:pic>
      <p:pic>
        <p:nvPicPr>
          <p:cNvPr id="481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482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83" name="" descr=""/>
            <p:cNvPicPr/>
            <p:nvPr/>
          </p:nvPicPr>
          <p:blipFill>
            <a:blip r:embed="rId3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69120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EVOLUCIÓN DEL TIPO DE CAMB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971640" y="1003320"/>
          <a:ext cx="7200720" cy="552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03320"/>
                    <a:ext cx="720072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BN" descr=""/>
          <p:cNvPicPr/>
          <p:nvPr/>
        </p:nvPicPr>
        <p:blipFill>
          <a:blip r:embed="rId3"/>
          <a:stretch/>
        </p:blipFill>
        <p:spPr>
          <a:xfrm>
            <a:off x="0" y="0"/>
            <a:ext cx="973080" cy="1197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49520" y="655308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83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AR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ERDOS Y OVINOS: DESGRAVACIÓN INMEDI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OVINOS: SE OBTUVO UNA CUOTA D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000 TO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Y DESGRAVACIÓN A    4 AÑOS PARA ENVÍOS FUERA DE LA CUO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6553080" y="5232240"/>
            <a:ext cx="2210040" cy="1473480"/>
          </a:xfrm>
          <a:prstGeom prst="rect">
            <a:avLst/>
          </a:prstGeom>
          <a:ln w="0">
            <a:noFill/>
          </a:ln>
        </p:spPr>
      </p:pic>
      <p:pic>
        <p:nvPicPr>
          <p:cNvPr id="487" name="B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8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89" name="" descr=""/>
            <p:cNvPicPr/>
            <p:nvPr/>
          </p:nvPicPr>
          <p:blipFill>
            <a:blip r:embed="rId3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AR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VE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VOS Y POLLOS ENTEROS, DESGRAVACIÓN INMEDIATA RECÍPRO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RA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ROZOS DE AVES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SE NEGOCIÓ UNA CUOTA RECÍPROCA DE 8.000 TON/AÑO CON CRECIMIENTO DE 5% ANUAL Y DESGRAVACIÓN FUERA DE CUOTA EN 10 AÑOS, CON 2 AÑOS DE GRACIA Y 8 DE DESGRAVACIÓN LINEAL COMENZANDO CON UN ARANCEL DE 2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93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494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LÁCTE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OBTUVO UNA CUOTA DE INGRESO LIBRE INMEDIATO DE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3.501 TON.</a:t>
            </a: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imes New Roman"/>
              </a:rPr>
              <a:t>1.432 TON DE QUESOS Y 2.069 TON PARA MANTEQUILLA, LECHE EN POLVO, LECHE CONDENSADA, MANJAR Y O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INCREMENTO DE LA CUOTA: 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7% AN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FUERA DE CUOTA LOS PRODUCTOS SE DESGRAVARÁN LINEALMENTE A PARTIR DEL AÑO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PARA IMPORTACIONES FUERA DE CUOTA DESDE EEUU SE OTORGÓ UNA DESGRAVACIÓN A CUATRO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9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9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AGROINDUST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DESGRAVACIÓN ENTRE 8 Y 12 AÑOS PARA LA GRAN MAYORÍA DE LOS PRODUCTOS.                                                      (CONSERVAS, CONGELADOS PULPAS Y JUG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EXISTENCIA DE SALVAGUARDIAS PARA ALGUNOS CONGELADOS Y PULP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0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GUNOS PRODUCTOS AFECTOS A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ALVAGUARDIA (SGP CONDICIONADO)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R PARTE DE EEU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468360" y="2133720"/>
          <a:ext cx="8261280" cy="424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133720"/>
                    <a:ext cx="8261280" cy="42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8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753840" y="62373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511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GUNOS PRODUCTOS AFECTOS A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ALVAGUARDIA (SGP CONDICIONADO)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R PARTE DE EEU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592200" y="1900080"/>
          <a:ext cx="8389800" cy="430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1900080"/>
                    <a:ext cx="8389800" cy="43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5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682560" y="63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518" name="" descr=""/>
            <p:cNvPicPr/>
            <p:nvPr/>
          </p:nvPicPr>
          <p:blipFill>
            <a:blip r:embed="rId4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ALVAGUARDIAS INTERPUESTAS POR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689040" y="2062080"/>
          <a:ext cx="8103960" cy="40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2062080"/>
                    <a:ext cx="810396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2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825480" y="62373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525" name="" descr=""/>
            <p:cNvPicPr/>
            <p:nvPr/>
          </p:nvPicPr>
          <p:blipFill>
            <a:blip r:embed="rId4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ALVAGUARDIAS INTERPUESTAS POR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695160" y="2062080"/>
          <a:ext cx="7840800" cy="40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2062080"/>
                    <a:ext cx="784080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9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825480" y="63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532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TRI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SE MANTIENE LA BANDA DE PRECIOS MODIFICADA DE ACUERDO A LAS EXIGENCIAS OMC POR </a:t>
            </a: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12 A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7318440" y="4267080"/>
            <a:ext cx="1563480" cy="2295720"/>
          </a:xfrm>
          <a:prstGeom prst="rect">
            <a:avLst/>
          </a:prstGeom>
          <a:ln w="0">
            <a:noFill/>
          </a:ln>
        </p:spPr>
      </p:pic>
      <p:pic>
        <p:nvPicPr>
          <p:cNvPr id="536" name="B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37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538" name="" descr=""/>
            <p:cNvPicPr/>
            <p:nvPr/>
          </p:nvPicPr>
          <p:blipFill>
            <a:blip r:embed="rId3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GRAVACIÓN TRIGO CON ACUERDO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699400" y="2008080"/>
            <a:ext cx="47880" cy="420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1520" y="6162840"/>
            <a:ext cx="8105760" cy="4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11280" y="1978200"/>
            <a:ext cx="8088120" cy="4184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536840" y="2301840"/>
            <a:ext cx="702468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536840" y="2301840"/>
            <a:ext cx="7024680" cy="3089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706400" y="2611440"/>
            <a:ext cx="247680" cy="2779560"/>
            <a:chOff x="1706400" y="2611440"/>
            <a:chExt cx="247680" cy="2779560"/>
          </a:xfrm>
        </p:grpSpPr>
        <p:sp>
          <p:nvSpPr>
            <p:cNvPr id="546" name=""/>
            <p:cNvSpPr/>
            <p:nvPr/>
          </p:nvSpPr>
          <p:spPr>
            <a:xfrm>
              <a:off x="1706400" y="261144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706400" y="264168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706400" y="2671920"/>
              <a:ext cx="2476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706400" y="2703600"/>
              <a:ext cx="2476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06400" y="2719440"/>
              <a:ext cx="24768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706400" y="2749680"/>
              <a:ext cx="24768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706400" y="2781360"/>
              <a:ext cx="2476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706400" y="2811600"/>
              <a:ext cx="24768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706400" y="2841480"/>
              <a:ext cx="24768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706400" y="2873520"/>
              <a:ext cx="24768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706400" y="2903400"/>
              <a:ext cx="24768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706400" y="2935440"/>
              <a:ext cx="2476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706400" y="2951280"/>
              <a:ext cx="24768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706400" y="2981160"/>
              <a:ext cx="2476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706400" y="3011400"/>
              <a:ext cx="24768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706400" y="3043080"/>
              <a:ext cx="2476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706400" y="3073320"/>
              <a:ext cx="24768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706400" y="3105000"/>
              <a:ext cx="2476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706400" y="3135240"/>
              <a:ext cx="2476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706400" y="3166920"/>
              <a:ext cx="24768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706400" y="3181320"/>
              <a:ext cx="2476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06400" y="3213000"/>
              <a:ext cx="24768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706400" y="3243240"/>
              <a:ext cx="24768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706400" y="3274920"/>
              <a:ext cx="2476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06400" y="3305160"/>
              <a:ext cx="2476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706400" y="3336840"/>
              <a:ext cx="24768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06400" y="3367080"/>
              <a:ext cx="2476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706400" y="3398760"/>
              <a:ext cx="2476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706400" y="3413160"/>
              <a:ext cx="2476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706400" y="3444840"/>
              <a:ext cx="24768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706400" y="3475080"/>
              <a:ext cx="24768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706400" y="3506760"/>
              <a:ext cx="24768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706400" y="3537000"/>
              <a:ext cx="24768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706400" y="3568680"/>
              <a:ext cx="24768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706400" y="3598920"/>
              <a:ext cx="24768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706400" y="3630600"/>
              <a:ext cx="24768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706400" y="3645000"/>
              <a:ext cx="24768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706400" y="3676680"/>
              <a:ext cx="2476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706400" y="3706920"/>
              <a:ext cx="24768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706400" y="3738600"/>
              <a:ext cx="24768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06400" y="3768840"/>
              <a:ext cx="24768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706400" y="3800520"/>
              <a:ext cx="2476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706400" y="383076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06400" y="3862440"/>
              <a:ext cx="2476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06400" y="3876840"/>
              <a:ext cx="24768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706400" y="3908520"/>
              <a:ext cx="24768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706400" y="3938760"/>
              <a:ext cx="24768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706400" y="3970440"/>
              <a:ext cx="2476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6400" y="4000680"/>
              <a:ext cx="2476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6400" y="4032360"/>
              <a:ext cx="2476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6400" y="4062240"/>
              <a:ext cx="24768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6400" y="4094280"/>
              <a:ext cx="24768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06400" y="4108320"/>
              <a:ext cx="24768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706400" y="4140360"/>
              <a:ext cx="24768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706400" y="4170240"/>
              <a:ext cx="24768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706400" y="4202280"/>
              <a:ext cx="24768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06400" y="4232160"/>
              <a:ext cx="24768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706400" y="4264200"/>
              <a:ext cx="2476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706400" y="4294080"/>
              <a:ext cx="2476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706400" y="4324320"/>
              <a:ext cx="2476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706400" y="4340160"/>
              <a:ext cx="24768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706400" y="4371840"/>
              <a:ext cx="24768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706400" y="4402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706400" y="4433760"/>
              <a:ext cx="2476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706400" y="4464000"/>
              <a:ext cx="24768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706400" y="4494240"/>
              <a:ext cx="24768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706400" y="4525920"/>
              <a:ext cx="2476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706400" y="4556160"/>
              <a:ext cx="24768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706400" y="4572000"/>
              <a:ext cx="2476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706400" y="4603680"/>
              <a:ext cx="2476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706400" y="4633920"/>
              <a:ext cx="2476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706400" y="4664160"/>
              <a:ext cx="2476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706400" y="4695840"/>
              <a:ext cx="2476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706400" y="4726080"/>
              <a:ext cx="2476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706400" y="4757760"/>
              <a:ext cx="2476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706400" y="4788000"/>
              <a:ext cx="2476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706400" y="4803840"/>
              <a:ext cx="2476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706400" y="4834080"/>
              <a:ext cx="2476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06400" y="4865760"/>
              <a:ext cx="2476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706400" y="4896000"/>
              <a:ext cx="2476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706400" y="4927680"/>
              <a:ext cx="2476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706400" y="4957920"/>
              <a:ext cx="24768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706400" y="4989600"/>
              <a:ext cx="2476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06400" y="501984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706400" y="5035680"/>
              <a:ext cx="2476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06400" y="5065560"/>
              <a:ext cx="24768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706400" y="5097600"/>
              <a:ext cx="24768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706400" y="5127480"/>
              <a:ext cx="2476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706400" y="5159520"/>
              <a:ext cx="2476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06400" y="5189400"/>
              <a:ext cx="24768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706400" y="5221440"/>
              <a:ext cx="2476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706400" y="5251320"/>
              <a:ext cx="2476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706400" y="526716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706400" y="529740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06400" y="532908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70640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1706400" y="2611440"/>
            <a:ext cx="24768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2293920" y="2611440"/>
            <a:ext cx="246240" cy="2779560"/>
            <a:chOff x="2293920" y="2611440"/>
            <a:chExt cx="246240" cy="2779560"/>
          </a:xfrm>
        </p:grpSpPr>
        <p:sp>
          <p:nvSpPr>
            <p:cNvPr id="644" name=""/>
            <p:cNvSpPr/>
            <p:nvPr/>
          </p:nvSpPr>
          <p:spPr>
            <a:xfrm>
              <a:off x="2293920" y="2611440"/>
              <a:ext cx="24624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293920" y="2641680"/>
              <a:ext cx="24624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293920" y="2671920"/>
              <a:ext cx="24624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293920" y="2703600"/>
              <a:ext cx="24624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93920" y="2719440"/>
              <a:ext cx="24624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293920" y="2749680"/>
              <a:ext cx="24624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93920" y="2781360"/>
              <a:ext cx="24624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93920" y="2811600"/>
              <a:ext cx="24624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293920" y="2841480"/>
              <a:ext cx="24624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293920" y="2873520"/>
              <a:ext cx="24624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293920" y="2903400"/>
              <a:ext cx="24624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293920" y="2935440"/>
              <a:ext cx="24624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93920" y="2951280"/>
              <a:ext cx="24624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293920" y="2981160"/>
              <a:ext cx="24624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293920" y="3011400"/>
              <a:ext cx="24624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293920" y="3043080"/>
              <a:ext cx="24624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293920" y="3073320"/>
              <a:ext cx="24624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293920" y="3105000"/>
              <a:ext cx="24624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293920" y="3135240"/>
              <a:ext cx="24624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293920" y="3166920"/>
              <a:ext cx="24624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293920" y="3181320"/>
              <a:ext cx="24624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93920" y="3213000"/>
              <a:ext cx="24624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293920" y="3243240"/>
              <a:ext cx="24624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293920" y="3274920"/>
              <a:ext cx="24624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293920" y="3305160"/>
              <a:ext cx="24624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293920" y="3336840"/>
              <a:ext cx="24624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293920" y="3367080"/>
              <a:ext cx="24624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293920" y="3398760"/>
              <a:ext cx="24624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293920" y="3413160"/>
              <a:ext cx="24624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293920" y="3444840"/>
              <a:ext cx="24624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93920" y="3475080"/>
              <a:ext cx="24624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293920" y="3506760"/>
              <a:ext cx="24624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293920" y="3537000"/>
              <a:ext cx="24624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293920" y="3568680"/>
              <a:ext cx="24624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293920" y="3598920"/>
              <a:ext cx="24624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293920" y="3630600"/>
              <a:ext cx="24624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293920" y="3645000"/>
              <a:ext cx="24624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293920" y="3676680"/>
              <a:ext cx="24624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293920" y="3706920"/>
              <a:ext cx="24624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293920" y="3738600"/>
              <a:ext cx="24624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293920" y="3768840"/>
              <a:ext cx="24624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293920" y="3800520"/>
              <a:ext cx="24624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293920" y="3830760"/>
              <a:ext cx="24624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293920" y="3862440"/>
              <a:ext cx="24624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293920" y="3876840"/>
              <a:ext cx="24624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293920" y="3908520"/>
              <a:ext cx="24624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93920" y="3938760"/>
              <a:ext cx="24624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293920" y="3970440"/>
              <a:ext cx="24624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93920" y="4000680"/>
              <a:ext cx="24624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93920" y="4032360"/>
              <a:ext cx="24624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93920" y="4062240"/>
              <a:ext cx="24624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93920" y="4094280"/>
              <a:ext cx="24624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293920" y="4108320"/>
              <a:ext cx="24624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293920" y="4140360"/>
              <a:ext cx="24624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93920" y="4170240"/>
              <a:ext cx="24624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293920" y="4202280"/>
              <a:ext cx="24624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293920" y="4232160"/>
              <a:ext cx="24624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293920" y="4264200"/>
              <a:ext cx="24624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93920" y="4294080"/>
              <a:ext cx="24624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293920" y="4324320"/>
              <a:ext cx="24624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293920" y="4340160"/>
              <a:ext cx="24624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93920" y="4371840"/>
              <a:ext cx="24624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293920" y="4402080"/>
              <a:ext cx="24624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293920" y="4433760"/>
              <a:ext cx="24624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293920" y="4464000"/>
              <a:ext cx="24624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293920" y="4494240"/>
              <a:ext cx="24624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293920" y="4525920"/>
              <a:ext cx="24624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293920" y="4556160"/>
              <a:ext cx="24624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293920" y="4572000"/>
              <a:ext cx="24624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293920" y="4603680"/>
              <a:ext cx="24624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293920" y="4633920"/>
              <a:ext cx="24624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293920" y="4664160"/>
              <a:ext cx="24624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293920" y="4695840"/>
              <a:ext cx="24624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293920" y="4726080"/>
              <a:ext cx="24624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293920" y="4757760"/>
              <a:ext cx="24624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293920" y="4788000"/>
              <a:ext cx="24624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293920" y="4803840"/>
              <a:ext cx="24624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293920" y="4834080"/>
              <a:ext cx="24624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293920" y="4865760"/>
              <a:ext cx="24624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293920" y="4896000"/>
              <a:ext cx="24624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93920" y="4927680"/>
              <a:ext cx="24624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293920" y="4957920"/>
              <a:ext cx="24624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293920" y="4989600"/>
              <a:ext cx="24624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293920" y="5019840"/>
              <a:ext cx="24624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293920" y="5035680"/>
              <a:ext cx="24624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293920" y="5065560"/>
              <a:ext cx="24624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293920" y="5097600"/>
              <a:ext cx="24624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293920" y="5127480"/>
              <a:ext cx="24624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93920" y="5159520"/>
              <a:ext cx="24624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293920" y="5189400"/>
              <a:ext cx="24624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93920" y="5221440"/>
              <a:ext cx="24624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293920" y="5251320"/>
              <a:ext cx="24624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293920" y="5267160"/>
              <a:ext cx="24624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293920" y="5297400"/>
              <a:ext cx="24624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293920" y="5329080"/>
              <a:ext cx="24624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93920" y="5359320"/>
              <a:ext cx="24624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2293920" y="2611440"/>
            <a:ext cx="24624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2879640" y="2611440"/>
            <a:ext cx="247680" cy="2779560"/>
            <a:chOff x="2879640" y="2611440"/>
            <a:chExt cx="247680" cy="2779560"/>
          </a:xfrm>
        </p:grpSpPr>
        <p:sp>
          <p:nvSpPr>
            <p:cNvPr id="742" name=""/>
            <p:cNvSpPr/>
            <p:nvPr/>
          </p:nvSpPr>
          <p:spPr>
            <a:xfrm>
              <a:off x="2879640" y="261144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879640" y="264168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879640" y="2671920"/>
              <a:ext cx="2476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879640" y="2703600"/>
              <a:ext cx="2476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79640" y="2719440"/>
              <a:ext cx="24768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879640" y="2749680"/>
              <a:ext cx="24768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879640" y="2781360"/>
              <a:ext cx="2476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79640" y="2811600"/>
              <a:ext cx="24768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879640" y="2841480"/>
              <a:ext cx="24768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879640" y="2873520"/>
              <a:ext cx="24768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879640" y="2903400"/>
              <a:ext cx="24768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79640" y="2935440"/>
              <a:ext cx="2476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79640" y="2951280"/>
              <a:ext cx="24768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879640" y="2981160"/>
              <a:ext cx="2476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879640" y="3011400"/>
              <a:ext cx="24768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879640" y="3043080"/>
              <a:ext cx="2476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879640" y="3073320"/>
              <a:ext cx="24768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879640" y="3105000"/>
              <a:ext cx="2476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879640" y="3135240"/>
              <a:ext cx="2476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79640" y="3166920"/>
              <a:ext cx="24768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879640" y="3181320"/>
              <a:ext cx="2476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79640" y="3213000"/>
              <a:ext cx="24768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879640" y="3243240"/>
              <a:ext cx="24768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879640" y="3274920"/>
              <a:ext cx="2476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879640" y="3305160"/>
              <a:ext cx="2476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879640" y="3336840"/>
              <a:ext cx="24768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879640" y="3367080"/>
              <a:ext cx="2476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879640" y="3398760"/>
              <a:ext cx="2476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879640" y="3413160"/>
              <a:ext cx="2476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79640" y="3444840"/>
              <a:ext cx="24768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879640" y="3475080"/>
              <a:ext cx="24768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879640" y="3506760"/>
              <a:ext cx="24768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879640" y="3537000"/>
              <a:ext cx="24768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879640" y="3568680"/>
              <a:ext cx="24768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879640" y="3598920"/>
              <a:ext cx="24768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79640" y="3630600"/>
              <a:ext cx="24768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879640" y="3645000"/>
              <a:ext cx="24768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879640" y="3676680"/>
              <a:ext cx="2476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879640" y="3706920"/>
              <a:ext cx="24768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879640" y="3738600"/>
              <a:ext cx="24768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879640" y="3768840"/>
              <a:ext cx="24768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879640" y="3800520"/>
              <a:ext cx="2476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79640" y="383076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879640" y="3862440"/>
              <a:ext cx="2476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879640" y="3876840"/>
              <a:ext cx="24768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879640" y="3908520"/>
              <a:ext cx="24768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879640" y="3938760"/>
              <a:ext cx="24768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879640" y="3970440"/>
              <a:ext cx="2476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79640" y="4000680"/>
              <a:ext cx="2476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879640" y="4032360"/>
              <a:ext cx="2476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879640" y="4062240"/>
              <a:ext cx="24768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879640" y="4094280"/>
              <a:ext cx="24768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879640" y="4108320"/>
              <a:ext cx="24768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879640" y="4140360"/>
              <a:ext cx="24768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879640" y="4170240"/>
              <a:ext cx="24768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879640" y="4202280"/>
              <a:ext cx="24768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79640" y="4232160"/>
              <a:ext cx="24768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879640" y="4264200"/>
              <a:ext cx="2476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879640" y="4294080"/>
              <a:ext cx="2476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79640" y="4324320"/>
              <a:ext cx="2476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79640" y="4340160"/>
              <a:ext cx="24768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879640" y="4371840"/>
              <a:ext cx="24768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879640" y="4402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879640" y="4433760"/>
              <a:ext cx="2476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879640" y="4464000"/>
              <a:ext cx="24768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879640" y="4494240"/>
              <a:ext cx="24768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879640" y="4525920"/>
              <a:ext cx="2476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879640" y="4556160"/>
              <a:ext cx="24768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879640" y="4572000"/>
              <a:ext cx="2476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879640" y="4603680"/>
              <a:ext cx="2476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879640" y="4633920"/>
              <a:ext cx="2476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879640" y="4664160"/>
              <a:ext cx="2476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879640" y="4695840"/>
              <a:ext cx="2476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879640" y="4726080"/>
              <a:ext cx="2476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879640" y="4757760"/>
              <a:ext cx="2476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879640" y="4788000"/>
              <a:ext cx="2476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79640" y="4803840"/>
              <a:ext cx="2476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879640" y="4834080"/>
              <a:ext cx="2476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879640" y="4865760"/>
              <a:ext cx="2476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879640" y="4896000"/>
              <a:ext cx="2476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879640" y="4927680"/>
              <a:ext cx="2476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879640" y="4957920"/>
              <a:ext cx="24768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879640" y="4989600"/>
              <a:ext cx="2476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879640" y="501984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879640" y="5035680"/>
              <a:ext cx="2476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879640" y="5065560"/>
              <a:ext cx="24768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879640" y="5097600"/>
              <a:ext cx="24768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879640" y="5127480"/>
              <a:ext cx="2476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879640" y="5159520"/>
              <a:ext cx="2476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879640" y="5189400"/>
              <a:ext cx="24768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879640" y="5221440"/>
              <a:ext cx="2476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879640" y="5251320"/>
              <a:ext cx="2476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879640" y="526716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879640" y="529740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879640" y="532908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87964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>
            <a:off x="2879640" y="2611440"/>
            <a:ext cx="24768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3467160" y="2611440"/>
            <a:ext cx="245880" cy="2779560"/>
            <a:chOff x="3467160" y="2611440"/>
            <a:chExt cx="245880" cy="2779560"/>
          </a:xfrm>
        </p:grpSpPr>
        <p:sp>
          <p:nvSpPr>
            <p:cNvPr id="840" name=""/>
            <p:cNvSpPr/>
            <p:nvPr/>
          </p:nvSpPr>
          <p:spPr>
            <a:xfrm>
              <a:off x="3467160" y="2611440"/>
              <a:ext cx="2458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67160" y="2641680"/>
              <a:ext cx="2458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467160" y="2671920"/>
              <a:ext cx="2458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467160" y="2703600"/>
              <a:ext cx="2458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467160" y="2719440"/>
              <a:ext cx="24588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467160" y="2749680"/>
              <a:ext cx="24588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467160" y="2781360"/>
              <a:ext cx="2458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467160" y="2811600"/>
              <a:ext cx="24588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467160" y="2841480"/>
              <a:ext cx="24588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67160" y="2873520"/>
              <a:ext cx="24588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467160" y="2903400"/>
              <a:ext cx="24588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467160" y="2935440"/>
              <a:ext cx="2458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467160" y="2951280"/>
              <a:ext cx="24588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467160" y="2981160"/>
              <a:ext cx="2458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467160" y="3011400"/>
              <a:ext cx="24588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467160" y="3043080"/>
              <a:ext cx="2458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467160" y="3073320"/>
              <a:ext cx="24588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467160" y="3105000"/>
              <a:ext cx="2458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467160" y="3135240"/>
              <a:ext cx="2458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467160" y="3166920"/>
              <a:ext cx="24588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467160" y="3181320"/>
              <a:ext cx="2458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467160" y="3213000"/>
              <a:ext cx="24588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467160" y="3243240"/>
              <a:ext cx="24588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467160" y="3274920"/>
              <a:ext cx="2458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467160" y="3305160"/>
              <a:ext cx="2458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467160" y="3336840"/>
              <a:ext cx="24588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467160" y="3367080"/>
              <a:ext cx="2458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467160" y="3398760"/>
              <a:ext cx="2458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467160" y="3413160"/>
              <a:ext cx="2458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467160" y="3444840"/>
              <a:ext cx="24588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467160" y="3475080"/>
              <a:ext cx="24588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467160" y="3506760"/>
              <a:ext cx="24588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467160" y="3537000"/>
              <a:ext cx="24588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467160" y="3568680"/>
              <a:ext cx="24588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467160" y="3598920"/>
              <a:ext cx="24588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67160" y="3630600"/>
              <a:ext cx="24588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467160" y="3645000"/>
              <a:ext cx="24588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467160" y="3676680"/>
              <a:ext cx="2458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467160" y="3706920"/>
              <a:ext cx="24588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467160" y="3738600"/>
              <a:ext cx="24588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467160" y="3768840"/>
              <a:ext cx="24588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467160" y="3800520"/>
              <a:ext cx="2458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467160" y="3830760"/>
              <a:ext cx="2458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467160" y="3862440"/>
              <a:ext cx="2458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467160" y="3876840"/>
              <a:ext cx="24588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67160" y="3908520"/>
              <a:ext cx="24588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467160" y="3938760"/>
              <a:ext cx="24588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467160" y="3970440"/>
              <a:ext cx="2458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467160" y="4000680"/>
              <a:ext cx="2458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467160" y="4032360"/>
              <a:ext cx="2458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467160" y="4062240"/>
              <a:ext cx="24588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467160" y="4094280"/>
              <a:ext cx="24588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467160" y="4108320"/>
              <a:ext cx="24588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467160" y="4140360"/>
              <a:ext cx="24588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467160" y="4170240"/>
              <a:ext cx="24588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467160" y="4202280"/>
              <a:ext cx="24588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467160" y="4232160"/>
              <a:ext cx="24588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467160" y="4264200"/>
              <a:ext cx="2458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67160" y="4294080"/>
              <a:ext cx="2458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67160" y="4324320"/>
              <a:ext cx="2458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467160" y="4340160"/>
              <a:ext cx="24588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467160" y="4371840"/>
              <a:ext cx="24588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467160" y="4402080"/>
              <a:ext cx="2458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467160" y="4433760"/>
              <a:ext cx="2458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467160" y="4464000"/>
              <a:ext cx="24588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467160" y="4494240"/>
              <a:ext cx="24588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467160" y="4525920"/>
              <a:ext cx="2458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67160" y="4556160"/>
              <a:ext cx="24588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467160" y="4572000"/>
              <a:ext cx="2458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67160" y="4603680"/>
              <a:ext cx="2458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467160" y="4633920"/>
              <a:ext cx="2458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467160" y="4664160"/>
              <a:ext cx="2458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467160" y="4695840"/>
              <a:ext cx="2458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467160" y="4726080"/>
              <a:ext cx="2458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467160" y="4757760"/>
              <a:ext cx="2458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467160" y="4788000"/>
              <a:ext cx="2458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467160" y="4803840"/>
              <a:ext cx="2458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467160" y="4834080"/>
              <a:ext cx="2458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467160" y="4865760"/>
              <a:ext cx="2458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467160" y="4896000"/>
              <a:ext cx="2458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467160" y="4927680"/>
              <a:ext cx="2458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67160" y="4957920"/>
              <a:ext cx="24588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467160" y="4989600"/>
              <a:ext cx="2458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467160" y="5019840"/>
              <a:ext cx="2458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467160" y="5035680"/>
              <a:ext cx="2458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467160" y="5065560"/>
              <a:ext cx="24588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467160" y="5097600"/>
              <a:ext cx="24588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467160" y="5127480"/>
              <a:ext cx="2458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467160" y="5159520"/>
              <a:ext cx="2458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467160" y="5189400"/>
              <a:ext cx="24588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467160" y="5221440"/>
              <a:ext cx="2458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467160" y="5251320"/>
              <a:ext cx="2458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467160" y="5267160"/>
              <a:ext cx="2458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467160" y="529740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7160" y="5329080"/>
              <a:ext cx="2458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467160" y="535932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3467160" y="2611440"/>
            <a:ext cx="24588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4052880" y="2919240"/>
            <a:ext cx="247680" cy="2471760"/>
            <a:chOff x="4052880" y="2919240"/>
            <a:chExt cx="247680" cy="2471760"/>
          </a:xfrm>
        </p:grpSpPr>
        <p:sp>
          <p:nvSpPr>
            <p:cNvPr id="938" name=""/>
            <p:cNvSpPr/>
            <p:nvPr/>
          </p:nvSpPr>
          <p:spPr>
            <a:xfrm>
              <a:off x="4052880" y="2919240"/>
              <a:ext cx="247680" cy="32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052880" y="2951280"/>
              <a:ext cx="247680" cy="14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052880" y="2965320"/>
              <a:ext cx="247680" cy="3204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052880" y="2997360"/>
              <a:ext cx="247680" cy="2988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052880" y="3027240"/>
              <a:ext cx="247680" cy="158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052880" y="3043080"/>
              <a:ext cx="247680" cy="302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052880" y="3073320"/>
              <a:ext cx="247680" cy="316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052880" y="3105000"/>
              <a:ext cx="247680" cy="1620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052880" y="3121200"/>
              <a:ext cx="247680" cy="2988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052880" y="3151080"/>
              <a:ext cx="247680" cy="3024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052880" y="3181320"/>
              <a:ext cx="247680" cy="15840"/>
            </a:xfrm>
            <a:prstGeom prst="rect">
              <a:avLst/>
            </a:prstGeom>
            <a:solidFill>
              <a:srgbClr val="4b4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052880" y="3197160"/>
              <a:ext cx="247680" cy="3168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52880" y="3228840"/>
              <a:ext cx="2476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052880" y="3259080"/>
              <a:ext cx="2476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052880" y="3274920"/>
              <a:ext cx="247680" cy="302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052880" y="3305160"/>
              <a:ext cx="247680" cy="3168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052880" y="3336840"/>
              <a:ext cx="247680" cy="158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052880" y="3352680"/>
              <a:ext cx="2476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052880" y="3382920"/>
              <a:ext cx="247680" cy="3024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052880" y="3413160"/>
              <a:ext cx="247680" cy="1584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052880" y="3429000"/>
              <a:ext cx="2476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052880" y="3460680"/>
              <a:ext cx="247680" cy="30240"/>
            </a:xfrm>
            <a:prstGeom prst="rect">
              <a:avLst/>
            </a:prstGeom>
            <a:solidFill>
              <a:srgbClr val="5454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052880" y="3490920"/>
              <a:ext cx="247680" cy="1584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052880" y="3506760"/>
              <a:ext cx="2476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052880" y="3537000"/>
              <a:ext cx="2476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052880" y="3568680"/>
              <a:ext cx="247680" cy="1440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52880" y="3583080"/>
              <a:ext cx="2476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052880" y="3614760"/>
              <a:ext cx="247680" cy="3024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052880" y="3645000"/>
              <a:ext cx="247680" cy="158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52880" y="3660840"/>
              <a:ext cx="247680" cy="3168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052880" y="3692520"/>
              <a:ext cx="247680" cy="302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052880" y="3722760"/>
              <a:ext cx="247680" cy="158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052880" y="3738600"/>
              <a:ext cx="247680" cy="3024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052880" y="3768840"/>
              <a:ext cx="247680" cy="3168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052880" y="3800520"/>
              <a:ext cx="247680" cy="1440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052880" y="3814920"/>
              <a:ext cx="247680" cy="3168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52880" y="3846600"/>
              <a:ext cx="247680" cy="302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052880" y="3876840"/>
              <a:ext cx="247680" cy="158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052880" y="3892680"/>
              <a:ext cx="247680" cy="298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052880" y="3922560"/>
              <a:ext cx="247680" cy="320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052880" y="3954600"/>
              <a:ext cx="247680" cy="15840"/>
            </a:xfrm>
            <a:prstGeom prst="rect">
              <a:avLst/>
            </a:prstGeom>
            <a:solidFill>
              <a:srgbClr val="6c6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052880" y="3970440"/>
              <a:ext cx="2476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052880" y="400068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052880" y="4032360"/>
              <a:ext cx="247680" cy="1404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052880" y="4046400"/>
              <a:ext cx="247680" cy="3204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052880" y="4078440"/>
              <a:ext cx="247680" cy="2988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052880" y="4108320"/>
              <a:ext cx="247680" cy="158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052880" y="4124160"/>
              <a:ext cx="2476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052880" y="4154400"/>
              <a:ext cx="2476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052880" y="4186080"/>
              <a:ext cx="247680" cy="1620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052880" y="4202280"/>
              <a:ext cx="247680" cy="2988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052880" y="4232160"/>
              <a:ext cx="247680" cy="32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052880" y="4264200"/>
              <a:ext cx="247680" cy="14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052880" y="4278240"/>
              <a:ext cx="247680" cy="316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052880" y="4309920"/>
              <a:ext cx="247680" cy="302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052880" y="4340160"/>
              <a:ext cx="247680" cy="1584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052880" y="4356000"/>
              <a:ext cx="247680" cy="302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052880" y="4386240"/>
              <a:ext cx="247680" cy="316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052880" y="4417920"/>
              <a:ext cx="247680" cy="158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052880" y="4433760"/>
              <a:ext cx="247680" cy="302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052880" y="4464000"/>
              <a:ext cx="247680" cy="302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052880" y="4494240"/>
              <a:ext cx="24768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052880" y="4510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052880" y="4541760"/>
              <a:ext cx="2476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052880" y="4572000"/>
              <a:ext cx="247680" cy="158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052880" y="4587840"/>
              <a:ext cx="247680" cy="3024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052880" y="4618080"/>
              <a:ext cx="247680" cy="3168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052880" y="4649760"/>
              <a:ext cx="247680" cy="1440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052880" y="4664160"/>
              <a:ext cx="2476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052880" y="4695840"/>
              <a:ext cx="2476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052880" y="4726080"/>
              <a:ext cx="247680" cy="158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052880" y="4741920"/>
              <a:ext cx="2476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052880" y="4773600"/>
              <a:ext cx="2476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052880" y="4803840"/>
              <a:ext cx="247680" cy="1584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052880" y="4819680"/>
              <a:ext cx="247680" cy="302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052880" y="4849920"/>
              <a:ext cx="247680" cy="3168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052880" y="4881600"/>
              <a:ext cx="247680" cy="1440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052880" y="4896000"/>
              <a:ext cx="2476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052880" y="4927680"/>
              <a:ext cx="2476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52880" y="4957920"/>
              <a:ext cx="247680" cy="1584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52880" y="4973760"/>
              <a:ext cx="247680" cy="3168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52880" y="5005440"/>
              <a:ext cx="247680" cy="302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52880" y="5035680"/>
              <a:ext cx="247680" cy="158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52880" y="5051520"/>
              <a:ext cx="247680" cy="302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52880" y="5081760"/>
              <a:ext cx="247680" cy="316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052880" y="5113440"/>
              <a:ext cx="247680" cy="14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052880" y="5127480"/>
              <a:ext cx="247680" cy="3204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052880" y="5159520"/>
              <a:ext cx="2476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052880" y="5189400"/>
              <a:ext cx="247680" cy="158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052880" y="5205240"/>
              <a:ext cx="247680" cy="302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052880" y="5235480"/>
              <a:ext cx="247680" cy="316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052880" y="5267160"/>
              <a:ext cx="247680" cy="1620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52880" y="5283360"/>
              <a:ext cx="247680" cy="29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52880" y="5313240"/>
              <a:ext cx="247680" cy="32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052880" y="5345280"/>
              <a:ext cx="247680" cy="14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05288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4052880" y="2919240"/>
            <a:ext cx="247680" cy="2471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4640400" y="3089160"/>
            <a:ext cx="245880" cy="2301840"/>
            <a:chOff x="4640400" y="3089160"/>
            <a:chExt cx="245880" cy="2301840"/>
          </a:xfrm>
        </p:grpSpPr>
        <p:sp>
          <p:nvSpPr>
            <p:cNvPr id="1036" name=""/>
            <p:cNvSpPr/>
            <p:nvPr/>
          </p:nvSpPr>
          <p:spPr>
            <a:xfrm>
              <a:off x="4640400" y="3089160"/>
              <a:ext cx="245880" cy="32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640400" y="3121200"/>
              <a:ext cx="245880" cy="14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640400" y="3135240"/>
              <a:ext cx="2458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640400" y="3166920"/>
              <a:ext cx="245880" cy="1440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640400" y="3181320"/>
              <a:ext cx="245880" cy="3168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640400" y="3213000"/>
              <a:ext cx="245880" cy="158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640400" y="3228840"/>
              <a:ext cx="2458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640400" y="3259080"/>
              <a:ext cx="245880" cy="158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640400" y="3274920"/>
              <a:ext cx="245880" cy="302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640400" y="3305160"/>
              <a:ext cx="245880" cy="316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640400" y="3336840"/>
              <a:ext cx="245880" cy="158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640400" y="3352680"/>
              <a:ext cx="245880" cy="302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640400" y="3382920"/>
              <a:ext cx="2458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640400" y="3398760"/>
              <a:ext cx="245880" cy="3024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640400" y="3429000"/>
              <a:ext cx="245880" cy="158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640400" y="3444840"/>
              <a:ext cx="2458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640400" y="3475080"/>
              <a:ext cx="245880" cy="158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640400" y="3490920"/>
              <a:ext cx="245880" cy="3168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640400" y="3522600"/>
              <a:ext cx="245880" cy="14400"/>
            </a:xfrm>
            <a:prstGeom prst="rect">
              <a:avLst/>
            </a:prstGeom>
            <a:solidFill>
              <a:srgbClr val="515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640400" y="3537000"/>
              <a:ext cx="245880" cy="3168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640400" y="3568680"/>
              <a:ext cx="245880" cy="3024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640400" y="3598920"/>
              <a:ext cx="245880" cy="15840"/>
            </a:xfrm>
            <a:prstGeom prst="rect">
              <a:avLst/>
            </a:prstGeom>
            <a:solidFill>
              <a:srgbClr val="5454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640400" y="3614760"/>
              <a:ext cx="245880" cy="30240"/>
            </a:xfrm>
            <a:prstGeom prst="rect">
              <a:avLst/>
            </a:prstGeom>
            <a:solidFill>
              <a:srgbClr val="555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640400" y="3645000"/>
              <a:ext cx="245880" cy="158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640400" y="3660840"/>
              <a:ext cx="2458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640400" y="3692520"/>
              <a:ext cx="245880" cy="1440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40400" y="3706920"/>
              <a:ext cx="2458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640400" y="3738600"/>
              <a:ext cx="2458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640400" y="3753000"/>
              <a:ext cx="2458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640400" y="3784680"/>
              <a:ext cx="245880" cy="30240"/>
            </a:xfrm>
            <a:prstGeom prst="rect">
              <a:avLst/>
            </a:prstGeom>
            <a:solidFill>
              <a:srgbClr val="5e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640400" y="3814920"/>
              <a:ext cx="245880" cy="158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640400" y="3830760"/>
              <a:ext cx="245880" cy="3168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640400" y="3862440"/>
              <a:ext cx="245880" cy="1440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640400" y="3876840"/>
              <a:ext cx="245880" cy="3168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640400" y="3908520"/>
              <a:ext cx="245880" cy="1404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640400" y="3922560"/>
              <a:ext cx="245880" cy="3204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640400" y="3954600"/>
              <a:ext cx="245880" cy="158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640400" y="3970440"/>
              <a:ext cx="2458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640400" y="4000680"/>
              <a:ext cx="245880" cy="31680"/>
            </a:xfrm>
            <a:prstGeom prst="rect">
              <a:avLst/>
            </a:prstGeom>
            <a:solidFill>
              <a:srgbClr val="6a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640400" y="4032360"/>
              <a:ext cx="245880" cy="140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640400" y="4046400"/>
              <a:ext cx="245880" cy="3204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640400" y="4078440"/>
              <a:ext cx="245880" cy="158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640400" y="4094280"/>
              <a:ext cx="245880" cy="298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640400" y="4124160"/>
              <a:ext cx="245880" cy="162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640400" y="4140360"/>
              <a:ext cx="245880" cy="298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640400" y="4170240"/>
              <a:ext cx="245880" cy="1584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640400" y="4186080"/>
              <a:ext cx="245880" cy="302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640400" y="4216320"/>
              <a:ext cx="245880" cy="158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640400" y="4232160"/>
              <a:ext cx="245880" cy="32040"/>
            </a:xfrm>
            <a:prstGeom prst="rect">
              <a:avLst/>
            </a:prstGeom>
            <a:solidFill>
              <a:srgbClr val="777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640400" y="4264200"/>
              <a:ext cx="2458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640400" y="4294080"/>
              <a:ext cx="245880" cy="158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640400" y="4309920"/>
              <a:ext cx="245880" cy="302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640400" y="4340160"/>
              <a:ext cx="245880" cy="158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640400" y="4356000"/>
              <a:ext cx="245880" cy="3024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640400" y="4386240"/>
              <a:ext cx="245880" cy="158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640400" y="4402080"/>
              <a:ext cx="245880" cy="316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640400" y="4433760"/>
              <a:ext cx="245880" cy="1440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640400" y="4448160"/>
              <a:ext cx="245880" cy="3168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640400" y="4479840"/>
              <a:ext cx="2458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640400" y="4510080"/>
              <a:ext cx="2458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640400" y="4525920"/>
              <a:ext cx="245880" cy="302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640400" y="4556160"/>
              <a:ext cx="24588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640400" y="4572000"/>
              <a:ext cx="2458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640400" y="4603680"/>
              <a:ext cx="245880" cy="1440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640400" y="4618080"/>
              <a:ext cx="245880" cy="3168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640400" y="4649760"/>
              <a:ext cx="245880" cy="1440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640400" y="4664160"/>
              <a:ext cx="245880" cy="31680"/>
            </a:xfrm>
            <a:prstGeom prst="rect">
              <a:avLst/>
            </a:prstGeom>
            <a:solidFill>
              <a:srgbClr val="8b8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640400" y="4695840"/>
              <a:ext cx="245880" cy="3024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640400" y="4726080"/>
              <a:ext cx="245880" cy="1584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640400" y="4741920"/>
              <a:ext cx="245880" cy="3168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640400" y="4773600"/>
              <a:ext cx="245880" cy="1440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640400" y="4788000"/>
              <a:ext cx="2458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640400" y="4819680"/>
              <a:ext cx="245880" cy="1440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640400" y="4834080"/>
              <a:ext cx="245880" cy="3168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640400" y="4865760"/>
              <a:ext cx="245880" cy="158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640400" y="4881600"/>
              <a:ext cx="2458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640400" y="4911840"/>
              <a:ext cx="2458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640400" y="4943520"/>
              <a:ext cx="245880" cy="14400"/>
            </a:xfrm>
            <a:prstGeom prst="rect">
              <a:avLst/>
            </a:prstGeom>
            <a:solidFill>
              <a:srgbClr val="9393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640400" y="4957920"/>
              <a:ext cx="245880" cy="3168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640400" y="4989600"/>
              <a:ext cx="245880" cy="1584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640400" y="5005440"/>
              <a:ext cx="2458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640400" y="5035680"/>
              <a:ext cx="245880" cy="158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640400" y="5051520"/>
              <a:ext cx="2458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640400" y="5081760"/>
              <a:ext cx="2458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640400" y="5097600"/>
              <a:ext cx="2458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640400" y="5127480"/>
              <a:ext cx="245880" cy="1620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640400" y="5143680"/>
              <a:ext cx="245880" cy="316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640400" y="5175360"/>
              <a:ext cx="2458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640400" y="5205240"/>
              <a:ext cx="245880" cy="1620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640400" y="5221440"/>
              <a:ext cx="245880" cy="2988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640400" y="5251320"/>
              <a:ext cx="2458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640400" y="5267160"/>
              <a:ext cx="245880" cy="302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640400" y="5297400"/>
              <a:ext cx="2458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640400" y="5313240"/>
              <a:ext cx="245880" cy="32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640400" y="5345280"/>
              <a:ext cx="245880" cy="14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640400" y="535932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2" name=""/>
          <p:cNvSpPr/>
          <p:nvPr/>
        </p:nvSpPr>
        <p:spPr>
          <a:xfrm>
            <a:off x="4640400" y="3089160"/>
            <a:ext cx="245880" cy="23018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5226120" y="3274920"/>
            <a:ext cx="231840" cy="2116080"/>
            <a:chOff x="5226120" y="3274920"/>
            <a:chExt cx="231840" cy="2116080"/>
          </a:xfrm>
        </p:grpSpPr>
        <p:sp>
          <p:nvSpPr>
            <p:cNvPr id="1134" name=""/>
            <p:cNvSpPr/>
            <p:nvPr/>
          </p:nvSpPr>
          <p:spPr>
            <a:xfrm>
              <a:off x="5226120" y="3274920"/>
              <a:ext cx="23184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226120" y="3290760"/>
              <a:ext cx="23184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226120" y="3321000"/>
              <a:ext cx="231840" cy="1584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226120" y="3336840"/>
              <a:ext cx="231840" cy="302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226120" y="3367080"/>
              <a:ext cx="231840" cy="158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226120" y="3382920"/>
              <a:ext cx="231840" cy="302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226120" y="3413160"/>
              <a:ext cx="231840" cy="158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226120" y="3429000"/>
              <a:ext cx="231840" cy="158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226120" y="3444840"/>
              <a:ext cx="231840" cy="302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226120" y="3475080"/>
              <a:ext cx="231840" cy="1584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226120" y="3490920"/>
              <a:ext cx="231840" cy="3168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226120" y="3522600"/>
              <a:ext cx="231840" cy="1440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226120" y="3537000"/>
              <a:ext cx="231840" cy="3168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226120" y="3568680"/>
              <a:ext cx="231840" cy="1440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226120" y="3583080"/>
              <a:ext cx="231840" cy="158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226120" y="3598920"/>
              <a:ext cx="231840" cy="3168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226120" y="3630600"/>
              <a:ext cx="231840" cy="1440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226120" y="3645000"/>
              <a:ext cx="231840" cy="3168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226120" y="3676680"/>
              <a:ext cx="231840" cy="1584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226120" y="3692520"/>
              <a:ext cx="231840" cy="3024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226120" y="3722760"/>
              <a:ext cx="231840" cy="15840"/>
            </a:xfrm>
            <a:prstGeom prst="rect">
              <a:avLst/>
            </a:prstGeom>
            <a:solidFill>
              <a:srgbClr val="545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226120" y="3738600"/>
              <a:ext cx="231840" cy="1440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226120" y="3753000"/>
              <a:ext cx="23184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226120" y="3784680"/>
              <a:ext cx="231840" cy="158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226120" y="3800520"/>
              <a:ext cx="231840" cy="3024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226120" y="3830760"/>
              <a:ext cx="231840" cy="158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226120" y="3846600"/>
              <a:ext cx="231840" cy="3024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226120" y="3876840"/>
              <a:ext cx="231840" cy="1584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226120" y="3892680"/>
              <a:ext cx="231840" cy="158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226120" y="3908520"/>
              <a:ext cx="23184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226120" y="3938760"/>
              <a:ext cx="231840" cy="158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226120" y="3954600"/>
              <a:ext cx="231840" cy="2988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226120" y="3984480"/>
              <a:ext cx="231840" cy="1620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226120" y="4000680"/>
              <a:ext cx="231840" cy="3168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226120" y="4032360"/>
              <a:ext cx="231840" cy="1404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226120" y="4046400"/>
              <a:ext cx="231840" cy="1584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226120" y="4062240"/>
              <a:ext cx="231840" cy="320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226120" y="4094280"/>
              <a:ext cx="231840" cy="140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226120" y="4108320"/>
              <a:ext cx="231840" cy="3204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226120" y="4140360"/>
              <a:ext cx="231840" cy="140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226120" y="4154400"/>
              <a:ext cx="23184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226120" y="4186080"/>
              <a:ext cx="231840" cy="16200"/>
            </a:xfrm>
            <a:prstGeom prst="rect">
              <a:avLst/>
            </a:prstGeom>
            <a:solidFill>
              <a:srgbClr val="6e6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226120" y="4202280"/>
              <a:ext cx="231840" cy="1404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226120" y="4216320"/>
              <a:ext cx="231840" cy="3168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226120" y="4248000"/>
              <a:ext cx="231840" cy="1620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226120" y="4264200"/>
              <a:ext cx="231840" cy="2988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226120" y="4294080"/>
              <a:ext cx="231840" cy="15840"/>
            </a:xfrm>
            <a:prstGeom prst="rect">
              <a:avLst/>
            </a:prstGeom>
            <a:solidFill>
              <a:srgbClr val="757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226120" y="4309920"/>
              <a:ext cx="231840" cy="1440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226120" y="4324320"/>
              <a:ext cx="231840" cy="31680"/>
            </a:xfrm>
            <a:prstGeom prst="rect">
              <a:avLst/>
            </a:prstGeom>
            <a:solidFill>
              <a:srgbClr val="777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226120" y="4356000"/>
              <a:ext cx="231840" cy="1584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226120" y="4371840"/>
              <a:ext cx="231840" cy="302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226120" y="4402080"/>
              <a:ext cx="231840" cy="158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226120" y="4417920"/>
              <a:ext cx="231840" cy="302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226120" y="4448160"/>
              <a:ext cx="231840" cy="1584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226120" y="4464000"/>
              <a:ext cx="231840" cy="15840"/>
            </a:xfrm>
            <a:prstGeom prst="rect">
              <a:avLst/>
            </a:prstGeom>
            <a:solidFill>
              <a:srgbClr val="7f7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226120" y="4479840"/>
              <a:ext cx="231840" cy="3024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226120" y="4510080"/>
              <a:ext cx="231840" cy="158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226120" y="4525920"/>
              <a:ext cx="231840" cy="3024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226120" y="4556160"/>
              <a:ext cx="231840" cy="158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226120" y="4572000"/>
              <a:ext cx="231840" cy="3168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226120" y="4603680"/>
              <a:ext cx="231840" cy="1440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226120" y="4618080"/>
              <a:ext cx="23184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226120" y="4633920"/>
              <a:ext cx="231840" cy="3024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226120" y="4664160"/>
              <a:ext cx="231840" cy="158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226120" y="4680000"/>
              <a:ext cx="231840" cy="3168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226120" y="4711680"/>
              <a:ext cx="231840" cy="1440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226120" y="4726080"/>
              <a:ext cx="231840" cy="3168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226120" y="4757760"/>
              <a:ext cx="231840" cy="1584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226120" y="4773600"/>
              <a:ext cx="231840" cy="1440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226120" y="4788000"/>
              <a:ext cx="231840" cy="3168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226120" y="4819680"/>
              <a:ext cx="231840" cy="1440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226120" y="4834080"/>
              <a:ext cx="23184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226120" y="4865760"/>
              <a:ext cx="231840" cy="158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226120" y="4881600"/>
              <a:ext cx="231840" cy="302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226120" y="4911840"/>
              <a:ext cx="231840" cy="158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226120" y="4927680"/>
              <a:ext cx="231840" cy="158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226120" y="4943520"/>
              <a:ext cx="23184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226120" y="4973760"/>
              <a:ext cx="231840" cy="158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226120" y="4989600"/>
              <a:ext cx="23184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226120" y="5019840"/>
              <a:ext cx="231840" cy="1584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226120" y="5035680"/>
              <a:ext cx="231840" cy="2988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226120" y="5065560"/>
              <a:ext cx="231840" cy="1620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226120" y="5081760"/>
              <a:ext cx="231840" cy="158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226120" y="5097600"/>
              <a:ext cx="23184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226120" y="5127480"/>
              <a:ext cx="231840" cy="1620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226120" y="5143680"/>
              <a:ext cx="231840" cy="3168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226120" y="5175360"/>
              <a:ext cx="231840" cy="1404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226120" y="5189400"/>
              <a:ext cx="23184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26120" y="5221440"/>
              <a:ext cx="231840" cy="14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226120" y="5235480"/>
              <a:ext cx="231840" cy="158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226120" y="5251320"/>
              <a:ext cx="231840" cy="32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226120" y="5283360"/>
              <a:ext cx="231840" cy="14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226120" y="5297400"/>
              <a:ext cx="23184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226120" y="5329080"/>
              <a:ext cx="231840" cy="1620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226120" y="5345280"/>
              <a:ext cx="231840" cy="29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226120" y="5375160"/>
              <a:ext cx="231840" cy="158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0" name=""/>
          <p:cNvSpPr/>
          <p:nvPr/>
        </p:nvSpPr>
        <p:spPr>
          <a:xfrm>
            <a:off x="5226120" y="3274920"/>
            <a:ext cx="231840" cy="2116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5797440" y="3537000"/>
            <a:ext cx="247680" cy="1854000"/>
            <a:chOff x="5797440" y="3537000"/>
            <a:chExt cx="247680" cy="1854000"/>
          </a:xfrm>
        </p:grpSpPr>
        <p:sp>
          <p:nvSpPr>
            <p:cNvPr id="1232" name=""/>
            <p:cNvSpPr/>
            <p:nvPr/>
          </p:nvSpPr>
          <p:spPr>
            <a:xfrm>
              <a:off x="5797440" y="3537000"/>
              <a:ext cx="24768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797440" y="3552840"/>
              <a:ext cx="24768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797440" y="3568680"/>
              <a:ext cx="247680" cy="3024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97440" y="3598920"/>
              <a:ext cx="2476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797440" y="3614760"/>
              <a:ext cx="247680" cy="158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797440" y="3630600"/>
              <a:ext cx="247680" cy="1440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797440" y="3645000"/>
              <a:ext cx="247680" cy="316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97440" y="3676680"/>
              <a:ext cx="247680" cy="158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797440" y="3692520"/>
              <a:ext cx="247680" cy="1440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797440" y="3706920"/>
              <a:ext cx="247680" cy="15840"/>
            </a:xfrm>
            <a:prstGeom prst="rect">
              <a:avLst/>
            </a:prstGeom>
            <a:solidFill>
              <a:srgbClr val="4a4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797440" y="3722760"/>
              <a:ext cx="247680" cy="30240"/>
            </a:xfrm>
            <a:prstGeom prst="rect">
              <a:avLst/>
            </a:prstGeom>
            <a:solidFill>
              <a:srgbClr val="4b4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797440" y="3753000"/>
              <a:ext cx="2476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797440" y="3768840"/>
              <a:ext cx="2476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797440" y="3784680"/>
              <a:ext cx="2476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797440" y="3800520"/>
              <a:ext cx="247680" cy="302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797440" y="3830760"/>
              <a:ext cx="247680" cy="158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797440" y="3846600"/>
              <a:ext cx="247680" cy="158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797440" y="3862440"/>
              <a:ext cx="247680" cy="1440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797440" y="3876840"/>
              <a:ext cx="2476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797440" y="3908520"/>
              <a:ext cx="247680" cy="1404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797440" y="3922560"/>
              <a:ext cx="247680" cy="1620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797440" y="3938760"/>
              <a:ext cx="247680" cy="158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797440" y="3954600"/>
              <a:ext cx="247680" cy="298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797440" y="3984480"/>
              <a:ext cx="247680" cy="1620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797440" y="4000680"/>
              <a:ext cx="247680" cy="1584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797440" y="4016520"/>
              <a:ext cx="247680" cy="1584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797440" y="4032360"/>
              <a:ext cx="247680" cy="298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797440" y="4062240"/>
              <a:ext cx="247680" cy="162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797440" y="4078440"/>
              <a:ext cx="247680" cy="158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797440" y="4094280"/>
              <a:ext cx="247680" cy="14040"/>
            </a:xfrm>
            <a:prstGeom prst="rect">
              <a:avLst/>
            </a:prstGeom>
            <a:solidFill>
              <a:srgbClr val="5d5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797440" y="4108320"/>
              <a:ext cx="247680" cy="320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797440" y="4140360"/>
              <a:ext cx="247680" cy="1404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797440" y="4154400"/>
              <a:ext cx="247680" cy="1584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797440" y="4170240"/>
              <a:ext cx="247680" cy="15840"/>
            </a:xfrm>
            <a:prstGeom prst="rect">
              <a:avLst/>
            </a:prstGeom>
            <a:solidFill>
              <a:srgbClr val="626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797440" y="4186080"/>
              <a:ext cx="247680" cy="3024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797440" y="4216320"/>
              <a:ext cx="247680" cy="1584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797440" y="4232160"/>
              <a:ext cx="247680" cy="158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797440" y="4248000"/>
              <a:ext cx="247680" cy="1620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797440" y="4264200"/>
              <a:ext cx="247680" cy="298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797440" y="4294080"/>
              <a:ext cx="247680" cy="158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797440" y="4309920"/>
              <a:ext cx="247680" cy="14400"/>
            </a:xfrm>
            <a:prstGeom prst="rect">
              <a:avLst/>
            </a:prstGeom>
            <a:solidFill>
              <a:srgbClr val="6c6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797440" y="4324320"/>
              <a:ext cx="247680" cy="15840"/>
            </a:xfrm>
            <a:prstGeom prst="rect">
              <a:avLst/>
            </a:prstGeom>
            <a:solidFill>
              <a:srgbClr val="6d6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797440" y="434016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797440" y="4371840"/>
              <a:ext cx="247680" cy="14400"/>
            </a:xfrm>
            <a:prstGeom prst="rect">
              <a:avLst/>
            </a:prstGeom>
            <a:solidFill>
              <a:srgbClr val="717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797440" y="4386240"/>
              <a:ext cx="247680" cy="1584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797440" y="4402080"/>
              <a:ext cx="247680" cy="158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797440" y="4417920"/>
              <a:ext cx="247680" cy="302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797440" y="4448160"/>
              <a:ext cx="247680" cy="158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797440" y="4464000"/>
              <a:ext cx="247680" cy="1584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797440" y="4479840"/>
              <a:ext cx="247680" cy="1440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797440" y="4494240"/>
              <a:ext cx="247680" cy="3168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797440" y="4525920"/>
              <a:ext cx="247680" cy="158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797440" y="4541760"/>
              <a:ext cx="247680" cy="1440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797440" y="4556160"/>
              <a:ext cx="247680" cy="15840"/>
            </a:xfrm>
            <a:prstGeom prst="rect">
              <a:avLst/>
            </a:prstGeom>
            <a:solidFill>
              <a:srgbClr val="7d7d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797440" y="4572000"/>
              <a:ext cx="247680" cy="3168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797440" y="4603680"/>
              <a:ext cx="247680" cy="14400"/>
            </a:xfrm>
            <a:prstGeom prst="rect">
              <a:avLst/>
            </a:prstGeom>
            <a:solidFill>
              <a:srgbClr val="818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797440" y="4618080"/>
              <a:ext cx="247680" cy="158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797440" y="4633920"/>
              <a:ext cx="247680" cy="1584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797440" y="4649760"/>
              <a:ext cx="2476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797440" y="4680000"/>
              <a:ext cx="2476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797440" y="4695840"/>
              <a:ext cx="247680" cy="158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797440" y="4711680"/>
              <a:ext cx="247680" cy="1440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797440" y="4726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797440" y="4757760"/>
              <a:ext cx="247680" cy="158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797440" y="4773600"/>
              <a:ext cx="247680" cy="1440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797440" y="4788000"/>
              <a:ext cx="247680" cy="15840"/>
            </a:xfrm>
            <a:prstGeom prst="rect">
              <a:avLst/>
            </a:prstGeom>
            <a:solidFill>
              <a:srgbClr val="8a8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797440" y="4803840"/>
              <a:ext cx="2476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797440" y="4834080"/>
              <a:ext cx="247680" cy="1584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797440" y="4849920"/>
              <a:ext cx="247680" cy="1584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797440" y="4865760"/>
              <a:ext cx="247680" cy="158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797440" y="4881600"/>
              <a:ext cx="2476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797440" y="4911840"/>
              <a:ext cx="247680" cy="1584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797440" y="4927680"/>
              <a:ext cx="247680" cy="158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797440" y="4943520"/>
              <a:ext cx="247680" cy="1440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797440" y="4957920"/>
              <a:ext cx="2476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797440" y="4989600"/>
              <a:ext cx="2476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797440" y="5005440"/>
              <a:ext cx="247680" cy="1440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797440" y="5019840"/>
              <a:ext cx="247680" cy="158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797440" y="5035680"/>
              <a:ext cx="247680" cy="2988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797440" y="5065560"/>
              <a:ext cx="247680" cy="1620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797440" y="5081760"/>
              <a:ext cx="247680" cy="158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797440" y="5097600"/>
              <a:ext cx="247680" cy="158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797440" y="5113440"/>
              <a:ext cx="2476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797440" y="514368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797440" y="515952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797440" y="5175360"/>
              <a:ext cx="247680" cy="14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797440" y="5189400"/>
              <a:ext cx="247680" cy="3204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797440" y="5221440"/>
              <a:ext cx="247680" cy="14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797440" y="5235480"/>
              <a:ext cx="247680" cy="158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797440" y="5251320"/>
              <a:ext cx="247680" cy="158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797440" y="5267160"/>
              <a:ext cx="247680" cy="302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797440" y="5297400"/>
              <a:ext cx="2476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797440" y="5313240"/>
              <a:ext cx="2476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797440" y="5329080"/>
              <a:ext cx="247680" cy="1620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797440" y="5345280"/>
              <a:ext cx="247680" cy="29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797440" y="5375160"/>
              <a:ext cx="2476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8" name=""/>
          <p:cNvSpPr/>
          <p:nvPr/>
        </p:nvSpPr>
        <p:spPr>
          <a:xfrm>
            <a:off x="5797440" y="3537000"/>
            <a:ext cx="247680" cy="1854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9" name=""/>
          <p:cNvGrpSpPr/>
          <p:nvPr/>
        </p:nvGrpSpPr>
        <p:grpSpPr>
          <a:xfrm>
            <a:off x="6384960" y="4170240"/>
            <a:ext cx="245880" cy="1220760"/>
            <a:chOff x="6384960" y="4170240"/>
            <a:chExt cx="245880" cy="1220760"/>
          </a:xfrm>
        </p:grpSpPr>
        <p:sp>
          <p:nvSpPr>
            <p:cNvPr id="1330" name=""/>
            <p:cNvSpPr/>
            <p:nvPr/>
          </p:nvSpPr>
          <p:spPr>
            <a:xfrm>
              <a:off x="6384960" y="4170240"/>
              <a:ext cx="245880" cy="32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84960" y="4202280"/>
              <a:ext cx="245880" cy="140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384960" y="4216320"/>
              <a:ext cx="245880" cy="3168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384960" y="4248000"/>
              <a:ext cx="2458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384960" y="4278240"/>
              <a:ext cx="245880" cy="15840"/>
            </a:xfrm>
            <a:prstGeom prst="rect">
              <a:avLst/>
            </a:prstGeom>
            <a:solidFill>
              <a:srgbClr val="4a4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384960" y="4294080"/>
              <a:ext cx="245880" cy="302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384960" y="4324320"/>
              <a:ext cx="245880" cy="3168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84960" y="4356000"/>
              <a:ext cx="245880" cy="15840"/>
            </a:xfrm>
            <a:prstGeom prst="rect">
              <a:avLst/>
            </a:prstGeom>
            <a:solidFill>
              <a:srgbClr val="4e4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384960" y="4371840"/>
              <a:ext cx="245880" cy="3024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384960" y="4402080"/>
              <a:ext cx="245880" cy="15840"/>
            </a:xfrm>
            <a:prstGeom prst="rect">
              <a:avLst/>
            </a:prstGeom>
            <a:solidFill>
              <a:srgbClr val="525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384960" y="4417920"/>
              <a:ext cx="245880" cy="30240"/>
            </a:xfrm>
            <a:prstGeom prst="rect">
              <a:avLst/>
            </a:prstGeom>
            <a:solidFill>
              <a:srgbClr val="545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384960" y="4448160"/>
              <a:ext cx="245880" cy="31680"/>
            </a:xfrm>
            <a:prstGeom prst="rect">
              <a:avLst/>
            </a:prstGeom>
            <a:solidFill>
              <a:srgbClr val="565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384960" y="4479840"/>
              <a:ext cx="245880" cy="1440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384960" y="4494240"/>
              <a:ext cx="2458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384960" y="4525920"/>
              <a:ext cx="245880" cy="30240"/>
            </a:xfrm>
            <a:prstGeom prst="rect">
              <a:avLst/>
            </a:prstGeom>
            <a:solidFill>
              <a:srgbClr val="5d5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384960" y="4556160"/>
              <a:ext cx="245880" cy="15840"/>
            </a:xfrm>
            <a:prstGeom prst="rect">
              <a:avLst/>
            </a:prstGeom>
            <a:solidFill>
              <a:srgbClr val="5f5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384960" y="4572000"/>
              <a:ext cx="245880" cy="31680"/>
            </a:xfrm>
            <a:prstGeom prst="rect">
              <a:avLst/>
            </a:prstGeom>
            <a:solidFill>
              <a:srgbClr val="626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384960" y="4603680"/>
              <a:ext cx="245880" cy="30240"/>
            </a:xfrm>
            <a:prstGeom prst="rect">
              <a:avLst/>
            </a:prstGeom>
            <a:solidFill>
              <a:srgbClr val="656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384960" y="4633920"/>
              <a:ext cx="245880" cy="15840"/>
            </a:xfrm>
            <a:prstGeom prst="rect">
              <a:avLst/>
            </a:prstGeom>
            <a:solidFill>
              <a:srgbClr val="676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384960" y="4649760"/>
              <a:ext cx="245880" cy="30240"/>
            </a:xfrm>
            <a:prstGeom prst="rect">
              <a:avLst/>
            </a:prstGeom>
            <a:solidFill>
              <a:srgbClr val="6a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384960" y="4680000"/>
              <a:ext cx="245880" cy="3168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384960" y="4711680"/>
              <a:ext cx="2458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384960" y="4726080"/>
              <a:ext cx="245880" cy="31680"/>
            </a:xfrm>
            <a:prstGeom prst="rect">
              <a:avLst/>
            </a:prstGeom>
            <a:solidFill>
              <a:srgbClr val="727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384960" y="4757760"/>
              <a:ext cx="245880" cy="15840"/>
            </a:xfrm>
            <a:prstGeom prst="rect">
              <a:avLst/>
            </a:prstGeom>
            <a:solidFill>
              <a:srgbClr val="757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384960" y="4773600"/>
              <a:ext cx="245880" cy="3024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384960" y="4803840"/>
              <a:ext cx="245880" cy="30240"/>
            </a:xfrm>
            <a:prstGeom prst="rect">
              <a:avLst/>
            </a:prstGeom>
            <a:solidFill>
              <a:srgbClr val="7b7b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384960" y="4834080"/>
              <a:ext cx="245880" cy="158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384960" y="4849920"/>
              <a:ext cx="245880" cy="3168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384960" y="4881600"/>
              <a:ext cx="245880" cy="3024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384960" y="4911840"/>
              <a:ext cx="245880" cy="15840"/>
            </a:xfrm>
            <a:prstGeom prst="rect">
              <a:avLst/>
            </a:prstGeom>
            <a:solidFill>
              <a:srgbClr val="8484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384960" y="4927680"/>
              <a:ext cx="245880" cy="302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384960" y="4957920"/>
              <a:ext cx="245880" cy="31680"/>
            </a:xfrm>
            <a:prstGeom prst="rect">
              <a:avLst/>
            </a:prstGeom>
            <a:solidFill>
              <a:srgbClr val="8989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384960" y="4989600"/>
              <a:ext cx="245880" cy="15840"/>
            </a:xfrm>
            <a:prstGeom prst="rect">
              <a:avLst/>
            </a:prstGeom>
            <a:solidFill>
              <a:srgbClr val="8a8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384960" y="5005440"/>
              <a:ext cx="245880" cy="302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384960" y="5035680"/>
              <a:ext cx="245880" cy="2988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384960" y="5065560"/>
              <a:ext cx="245880" cy="1620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384960" y="5081760"/>
              <a:ext cx="245880" cy="3168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384960" y="5113440"/>
              <a:ext cx="2458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384960" y="5143680"/>
              <a:ext cx="245880" cy="158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384960" y="5159520"/>
              <a:ext cx="245880" cy="2988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384960" y="5189400"/>
              <a:ext cx="245880" cy="158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384960" y="5205240"/>
              <a:ext cx="2458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384960" y="5235480"/>
              <a:ext cx="245880" cy="316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384960" y="5267160"/>
              <a:ext cx="245880" cy="1620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384960" y="5283360"/>
              <a:ext cx="2458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384960" y="5313240"/>
              <a:ext cx="245880" cy="32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384960" y="5345280"/>
              <a:ext cx="245880" cy="14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384960" y="535932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8" name=""/>
          <p:cNvSpPr/>
          <p:nvPr/>
        </p:nvSpPr>
        <p:spPr>
          <a:xfrm>
            <a:off x="6384960" y="4170240"/>
            <a:ext cx="245880" cy="1220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9" name=""/>
          <p:cNvGrpSpPr/>
          <p:nvPr/>
        </p:nvGrpSpPr>
        <p:grpSpPr>
          <a:xfrm>
            <a:off x="6970680" y="4572000"/>
            <a:ext cx="247680" cy="819000"/>
            <a:chOff x="6970680" y="4572000"/>
            <a:chExt cx="247680" cy="819000"/>
          </a:xfrm>
        </p:grpSpPr>
        <p:sp>
          <p:nvSpPr>
            <p:cNvPr id="1380" name=""/>
            <p:cNvSpPr/>
            <p:nvPr/>
          </p:nvSpPr>
          <p:spPr>
            <a:xfrm>
              <a:off x="6970680" y="4572000"/>
              <a:ext cx="247680" cy="3168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970680" y="4603680"/>
              <a:ext cx="247680" cy="1440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970680" y="4618080"/>
              <a:ext cx="247680" cy="316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970680" y="4649760"/>
              <a:ext cx="247680" cy="302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970680" y="4680000"/>
              <a:ext cx="247680" cy="1584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970680" y="4695840"/>
              <a:ext cx="247680" cy="302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970680" y="4726080"/>
              <a:ext cx="247680" cy="31680"/>
            </a:xfrm>
            <a:prstGeom prst="rect">
              <a:avLst/>
            </a:prstGeom>
            <a:solidFill>
              <a:srgbClr val="535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970680" y="4757760"/>
              <a:ext cx="247680" cy="15840"/>
            </a:xfrm>
            <a:prstGeom prst="rect">
              <a:avLst/>
            </a:prstGeom>
            <a:solidFill>
              <a:srgbClr val="555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970680" y="4773600"/>
              <a:ext cx="247680" cy="3024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970680" y="4803840"/>
              <a:ext cx="247680" cy="30240"/>
            </a:xfrm>
            <a:prstGeom prst="rect">
              <a:avLst/>
            </a:prstGeom>
            <a:solidFill>
              <a:srgbClr val="5d5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970680" y="4834080"/>
              <a:ext cx="247680" cy="1584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970680" y="4849920"/>
              <a:ext cx="247680" cy="3168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970680" y="4881600"/>
              <a:ext cx="247680" cy="30240"/>
            </a:xfrm>
            <a:prstGeom prst="rect">
              <a:avLst/>
            </a:prstGeom>
            <a:solidFill>
              <a:srgbClr val="696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970680" y="4911840"/>
              <a:ext cx="247680" cy="1584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970680" y="4927680"/>
              <a:ext cx="247680" cy="3024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970680" y="4957920"/>
              <a:ext cx="247680" cy="158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970680" y="4973760"/>
              <a:ext cx="247680" cy="31680"/>
            </a:xfrm>
            <a:prstGeom prst="rect">
              <a:avLst/>
            </a:prstGeom>
            <a:solidFill>
              <a:srgbClr val="787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970680" y="5005440"/>
              <a:ext cx="247680" cy="302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970680" y="5035680"/>
              <a:ext cx="247680" cy="1584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970680" y="5051520"/>
              <a:ext cx="247680" cy="30240"/>
            </a:xfrm>
            <a:prstGeom prst="rect">
              <a:avLst/>
            </a:prstGeom>
            <a:solidFill>
              <a:srgbClr val="838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970680" y="5081760"/>
              <a:ext cx="247680" cy="3168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970680" y="5113440"/>
              <a:ext cx="247680" cy="140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970680" y="5127480"/>
              <a:ext cx="247680" cy="320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970680" y="5159520"/>
              <a:ext cx="247680" cy="2988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970680" y="5189400"/>
              <a:ext cx="247680" cy="1584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970680" y="5205240"/>
              <a:ext cx="2476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970680" y="5235480"/>
              <a:ext cx="2476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970680" y="5267160"/>
              <a:ext cx="247680" cy="1620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970680" y="5283360"/>
              <a:ext cx="247680" cy="2988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970680" y="5313240"/>
              <a:ext cx="2476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970680" y="5345280"/>
              <a:ext cx="247680" cy="14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97068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2" name=""/>
          <p:cNvSpPr/>
          <p:nvPr/>
        </p:nvSpPr>
        <p:spPr>
          <a:xfrm>
            <a:off x="6970680" y="4572000"/>
            <a:ext cx="247680" cy="819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3" name=""/>
          <p:cNvGrpSpPr/>
          <p:nvPr/>
        </p:nvGrpSpPr>
        <p:grpSpPr>
          <a:xfrm>
            <a:off x="7558200" y="4849920"/>
            <a:ext cx="245880" cy="541080"/>
            <a:chOff x="7558200" y="4849920"/>
            <a:chExt cx="245880" cy="541080"/>
          </a:xfrm>
        </p:grpSpPr>
        <p:sp>
          <p:nvSpPr>
            <p:cNvPr id="1414" name=""/>
            <p:cNvSpPr/>
            <p:nvPr/>
          </p:nvSpPr>
          <p:spPr>
            <a:xfrm>
              <a:off x="7558200" y="4849920"/>
              <a:ext cx="24588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558200" y="4865760"/>
              <a:ext cx="245880" cy="302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558200" y="4896000"/>
              <a:ext cx="245880" cy="1584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558200" y="4911840"/>
              <a:ext cx="245880" cy="3168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558200" y="4943520"/>
              <a:ext cx="245880" cy="14400"/>
            </a:xfrm>
            <a:prstGeom prst="rect">
              <a:avLst/>
            </a:prstGeom>
            <a:solidFill>
              <a:srgbClr val="515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558200" y="4957920"/>
              <a:ext cx="245880" cy="31680"/>
            </a:xfrm>
            <a:prstGeom prst="rect">
              <a:avLst/>
            </a:prstGeom>
            <a:solidFill>
              <a:srgbClr val="5555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558200" y="4989600"/>
              <a:ext cx="245880" cy="15840"/>
            </a:xfrm>
            <a:prstGeom prst="rect">
              <a:avLst/>
            </a:prstGeom>
            <a:solidFill>
              <a:srgbClr val="595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558200" y="5005440"/>
              <a:ext cx="245880" cy="30240"/>
            </a:xfrm>
            <a:prstGeom prst="rect">
              <a:avLst/>
            </a:prstGeom>
            <a:solidFill>
              <a:srgbClr val="5e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558200" y="5035680"/>
              <a:ext cx="245880" cy="1584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558200" y="5051520"/>
              <a:ext cx="245880" cy="3024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558200" y="5081760"/>
              <a:ext cx="245880" cy="1584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558200" y="5097600"/>
              <a:ext cx="245880" cy="158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558200" y="5113440"/>
              <a:ext cx="245880" cy="3024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558200" y="5143680"/>
              <a:ext cx="245880" cy="1584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558200" y="5159520"/>
              <a:ext cx="2458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558200" y="5189400"/>
              <a:ext cx="24588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558200" y="5205240"/>
              <a:ext cx="245880" cy="30240"/>
            </a:xfrm>
            <a:prstGeom prst="rect">
              <a:avLst/>
            </a:prstGeom>
            <a:solidFill>
              <a:srgbClr val="8b8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558200" y="5235480"/>
              <a:ext cx="245880" cy="158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558200" y="5251320"/>
              <a:ext cx="245880" cy="320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558200" y="5283360"/>
              <a:ext cx="245880" cy="14040"/>
            </a:xfrm>
            <a:prstGeom prst="rect">
              <a:avLst/>
            </a:prstGeom>
            <a:solidFill>
              <a:srgbClr val="9393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558200" y="5297400"/>
              <a:ext cx="245880" cy="3168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558200" y="5329080"/>
              <a:ext cx="245880" cy="1620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558200" y="5345280"/>
              <a:ext cx="2458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558200" y="5375160"/>
              <a:ext cx="2458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8" name=""/>
          <p:cNvSpPr/>
          <p:nvPr/>
        </p:nvSpPr>
        <p:spPr>
          <a:xfrm>
            <a:off x="7558200" y="4849920"/>
            <a:ext cx="245880" cy="541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536840" y="2301840"/>
            <a:ext cx="1440" cy="3089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474920" y="539100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474920" y="494352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474920" y="451008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474920" y="406224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474920" y="363060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474920" y="318132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474920" y="274968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474920" y="230184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1536840" y="5391000"/>
            <a:ext cx="702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153684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212400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270972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V="1">
            <a:off x="329724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V="1">
            <a:off x="388296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V="1">
            <a:off x="447048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V="1">
            <a:off x="505620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V="1">
            <a:off x="562752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621504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V="1">
            <a:off x="680076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738828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797400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856152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74060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32668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91384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49956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338880" y="3892680"/>
            <a:ext cx="37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5,7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970680" y="4294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0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558200" y="457200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5,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8202240" y="5113440"/>
            <a:ext cx="206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5815800" y="3259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1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244480" y="299736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4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672800" y="281160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6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087080" y="26416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8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1316160" y="5283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316160" y="48340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211040" y="4402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211040" y="395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211040" y="352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211040" y="30733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211040" y="264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1211040" y="21938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rot="16200000">
            <a:off x="162216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rot="16200000">
            <a:off x="220968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rot="16200000">
            <a:off x="27954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rot="16200000">
            <a:off x="338256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rot="16200000">
            <a:off x="396864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rot="16200000">
            <a:off x="45558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rot="16200000">
            <a:off x="512748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rot="16200000">
            <a:off x="57132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rot="16200000">
            <a:off x="630036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rot="16200000">
            <a:off x="688644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rot="16200000">
            <a:off x="74736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rot="16200000">
            <a:off x="805932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rot="16200000">
            <a:off x="-147600" y="3630600"/>
            <a:ext cx="21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% ARANCEL IMPO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611280" y="1978200"/>
            <a:ext cx="8088120" cy="4184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1497" name=""/>
          <p:cNvSpPr/>
          <p:nvPr/>
        </p:nvSpPr>
        <p:spPr>
          <a:xfrm>
            <a:off x="753840" y="63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8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499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08000" y="1628640"/>
          <a:ext cx="8893080" cy="47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628640"/>
                    <a:ext cx="8893080" cy="47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VOLUCIÓN TASA INTERÉS CHILE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BN" descr=""/>
          <p:cNvPicPr/>
          <p:nvPr/>
        </p:nvPicPr>
        <p:blipFill>
          <a:blip r:embed="rId3"/>
          <a:stretch/>
        </p:blipFill>
        <p:spPr>
          <a:xfrm>
            <a:off x="0" y="0"/>
            <a:ext cx="1324080" cy="1628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49520" y="63817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8101080" y="0"/>
            <a:ext cx="1001520" cy="1587600"/>
            <a:chOff x="8101080" y="0"/>
            <a:chExt cx="1001520" cy="1587600"/>
          </a:xfrm>
        </p:grpSpPr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8101080" y="0"/>
              <a:ext cx="1001520" cy="158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EITES Y OLEAGINOS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CEITES PUROS: ARANCEL CERO INMEDIATO, CON EXCEPCIÓN DEL ACEITE DE RAPS O CANO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 MANTIENE LA BANDA DE PRECIOS MODIFICADA DE ACUERDO A LAS EXIGENCIAS OMC POR 12 AÑOS, CON DESGRAVACIÓN IGUAL AL TRI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03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1504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ZÚ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  MANTIENE LA BANDA O ARANCEL CONSOLIDADO ANTE LA OMC POR 12 AÑOS, SEGÚN PLAZOS Y DESGRAVACIONES SIMILARES AL CASO DEL TRI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XISTENCIA DE CLÁUSULA, QUE OBLIGA A CHILE A SER EXCEDENTARIO EN AZÚCAR, PARA PODER EXPORT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0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0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GRAVACIÓN AZÚCAR CON ACUERDO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1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458200" cy="4800600"/>
          </a:xfrm>
          <a:prstGeom prst="rect">
            <a:avLst/>
          </a:prstGeom>
          <a:ln w="0">
            <a:noFill/>
          </a:ln>
        </p:spPr>
      </p:pic>
      <p:pic>
        <p:nvPicPr>
          <p:cNvPr id="1512" name="BN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1513" name=""/>
          <p:cNvSpPr/>
          <p:nvPr/>
        </p:nvSpPr>
        <p:spPr>
          <a:xfrm>
            <a:off x="609480" y="63817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4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15" name="" descr=""/>
            <p:cNvPicPr/>
            <p:nvPr/>
          </p:nvPicPr>
          <p:blipFill>
            <a:blip r:embed="rId3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 INMEDI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519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520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1" name=""/>
          <p:cNvGraphicFramePr/>
          <p:nvPr/>
        </p:nvGraphicFramePr>
        <p:xfrm>
          <a:off x="914400" y="2327400"/>
          <a:ext cx="7238880" cy="317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27400"/>
                    <a:ext cx="723888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5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26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27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9" name=""/>
          <p:cNvGraphicFramePr/>
          <p:nvPr/>
        </p:nvGraphicFramePr>
        <p:xfrm>
          <a:off x="917640" y="2276640"/>
          <a:ext cx="8043840" cy="394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7640" y="2276640"/>
                    <a:ext cx="804384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1" name=""/>
          <p:cNvSpPr/>
          <p:nvPr/>
        </p:nvSpPr>
        <p:spPr>
          <a:xfrm>
            <a:off x="1065240" y="61722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2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33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34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6" name=""/>
          <p:cNvGraphicFramePr/>
          <p:nvPr/>
        </p:nvGraphicFramePr>
        <p:xfrm>
          <a:off x="762120" y="2216160"/>
          <a:ext cx="7086600" cy="395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16160"/>
                    <a:ext cx="708660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8" name=""/>
          <p:cNvSpPr/>
          <p:nvPr/>
        </p:nvSpPr>
        <p:spPr>
          <a:xfrm>
            <a:off x="760320" y="62485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9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40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41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3" name=""/>
          <p:cNvGraphicFramePr/>
          <p:nvPr/>
        </p:nvGraphicFramePr>
        <p:xfrm>
          <a:off x="762120" y="2757600"/>
          <a:ext cx="7543800" cy="259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757600"/>
                    <a:ext cx="7543800" cy="25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5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6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47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48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0" name=""/>
          <p:cNvGraphicFramePr/>
          <p:nvPr/>
        </p:nvGraphicFramePr>
        <p:xfrm>
          <a:off x="457200" y="2776680"/>
          <a:ext cx="7772400" cy="281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76680"/>
                    <a:ext cx="7772400" cy="28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2" name=""/>
          <p:cNvSpPr/>
          <p:nvPr/>
        </p:nvSpPr>
        <p:spPr>
          <a:xfrm>
            <a:off x="455400" y="57150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3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5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55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7" name=""/>
          <p:cNvGraphicFramePr/>
          <p:nvPr/>
        </p:nvGraphicFramePr>
        <p:xfrm>
          <a:off x="1219320" y="2695680"/>
          <a:ext cx="670536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695680"/>
                    <a:ext cx="670536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9" name=""/>
          <p:cNvSpPr/>
          <p:nvPr/>
        </p:nvSpPr>
        <p:spPr>
          <a:xfrm>
            <a:off x="1293840" y="57150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0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61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62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6:25:50Z</dcterms:created>
  <dc:creator>Carlos Arancibia</dc:creator>
  <dc:description/>
  <dc:language>en-US</dc:language>
  <cp:lastModifiedBy>Varinia Goldstein</cp:lastModifiedBy>
  <cp:lastPrinted>2003-04-03T19:56:17Z</cp:lastPrinted>
  <dcterms:modified xsi:type="dcterms:W3CDTF">2004-12-01T22:36:20Z</dcterms:modified>
  <cp:revision>86</cp:revision>
  <dc:subject/>
  <dc:title>Sin título de diapositiva</dc:title>
</cp:coreProperties>
</file>